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805-3F07-4FD7-B89E-2ECBA0EC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B7D-EE36-4C96-9027-1020FDD9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009-C05B-4ABC-ABA5-36159C5F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089-D70A-42DC-B27D-902EA86D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88E-F1E2-440A-8CE6-72E740F8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B90-AA8E-4427-A0D7-2CDC20B9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C60-2E38-4448-9243-C7A6EF8D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8AF-4601-493B-9CBD-818DC21C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D52-92A5-4F38-A752-D2277BDD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3C6-E369-4A1D-BAAB-14669A99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CD1-8F16-4770-A10A-5C00D25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D92-D899-45DD-96DC-B7293D5D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2EC0-CEB1-4605-960F-8717A5844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4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4: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omisión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aría Elena Lienqu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Ziomara Gerdtzen (B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rancisco Gracia (I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aficas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9/9 (10 semana)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exámenes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Jesus Casas (email jecasas@ing.uchile.cl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rminación de la especiación del hierro en soluciones procedentes de circuitos hidrometalúrgicos mediante experimentación y la aplicación de modelos geoquímicos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l proceso de precipitación hidrotermal del hierro a escala de laboratorio. Análisis de experimentos y formulación de modelos fenomenológicos. </a:t>
            </a:r>
            <a:br>
              <a:rPr sz="20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uis Cifuentes(Dpto. Ingeniería de Minas)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la obtencion de molibdeno metalico por deposicion con Fe, Co o Ni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Estudio de la cementacion de molibdeno sobre Fe o Zn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Separación de Mo, a partir de electrolitos que lo contienen, mediante electro diálisis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arrollo de modelos matematicos (2-D y 3-D) de procesos electro metalurgicos por medio del software FEMLAB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Tomas Vargas V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l de aditivos en la electrocristalización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inética de disolución de minerales oxidados de cobre con soluciones lixiviantes con alta concentración iónica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Influencia de la concentración iónica de soluciones lixiviantes sobre la eficiencia de la extracción por solventes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Determinación de la actividad catalítica de bacterias en circuit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ixiviación industrial mediante métodos biooelectroquímic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Lixiviación bacteriana de minerales sulfurados de cobre con bacterias termófil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 automático de una Planta de Tratamiento de Aguas Servidas de escala mediana (15 L/s). Implica programación de OPTO22 y análisis de cerradura de lazos ON/OFF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Energías alternativas: Producción solar de hidrógeno. Implica diseño mecánico y evaluación de factibilidad técnica elemental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Producción biológica industrial de ácido sulfhídrico a partir de azufre elemental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orrosión bacteriana (quìmica, física y electroquímica) de ducterías industria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Francisco Gracia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atalizadores de cobre y niquel para la producción de hidrógeno y su uso en celdas de combustibl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Blanca Escob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s alternativos del Cobre 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Oriana Salazar-M.Elena Lienqueo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ecto de la adición de extremos polipeptídicos en el comportamiento cromatográfico d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IByB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igirse a página web del CIByB (www.cibyb.uchile.cl) y que  conversar con los Profesores del CIByB para ver la posibilidad de realizar su Memoria en temas de Biotecnología y de acuerdo a los intereses de los estudiantes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tricio Jorquera (IDIEM)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orrelación de viscosidad del asfalto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ROS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ben presentar el tema a evaluación de la comisión de titulación del DIQBT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002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elección Prof Guía y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8195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trega a la co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1148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esentación de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3341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úsqueda Bibli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562720"/>
            <a:ext cx="2057400" cy="101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 o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505320"/>
            <a:ext cx="20574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T-IQ 69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4382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733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9528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9051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981080"/>
            <a:ext cx="1522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048120"/>
            <a:ext cx="8380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05740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O Rech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7150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6035760"/>
            <a:ext cx="23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forme al Profesor Gu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65760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191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licitud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7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0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7-26T16:02:02Z</dcterms:modified>
  <cp:revision>109</cp:revision>
  <dc:subject/>
  <dc:title>El ingeniero, etica y sociedad</dc:title>
</cp:coreProperties>
</file>