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8.wmf" ContentType="image/x-wmf"/>
  <Override PartName="/ppt/media/image27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7.png" ContentType="image/png"/>
  <Override PartName="/ppt/media/image12.png" ContentType="image/png"/>
  <Override PartName="/ppt/media/image32.wmf" ContentType="image/x-wmf"/>
  <Override PartName="/ppt/media/image25.png" ContentType="image/png"/>
  <Override PartName="/ppt/media/image2.png" ContentType="image/png"/>
  <Override PartName="/ppt/media/image10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30.wmf" ContentType="image/x-wmf"/>
  <Override PartName="/ppt/media/image31.wmf" ContentType="image/x-wmf"/>
  <Override PartName="/ppt/media/image11.png" ContentType="image/png"/>
  <Override PartName="/ppt/media/image34.wmf" ContentType="image/x-wmf"/>
  <Override PartName="/ppt/media/image6.png" ContentType="image/png"/>
  <Override PartName="/ppt/media/image14.wmf" ContentType="image/x-wmf"/>
  <Override PartName="/ppt/media/image35.png" ContentType="image/png"/>
  <Override PartName="/ppt/media/image5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8.wmf" ContentType="image/x-wmf"/>
  <Override PartName="/ppt/media/image36.jpeg" ContentType="image/jpeg"/>
  <Override PartName="/ppt/media/image20.wmf" ContentType="image/x-wmf"/>
  <Override PartName="/ppt/media/image1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8FB2-A154-4976-9505-73FEF50D8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4E78-15E4-490A-B0DB-04AE8A55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DCAF-43D7-41EB-A4D2-0364EA8EE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2E0B-0FBE-4CDC-83FB-5AD015716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397D-52C8-425B-98BB-A317521C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BBD6-E496-481C-9B8C-3C7C5FE9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3601-CEE6-49E4-8196-832DC0A3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9476-1142-44F3-BEBD-96D35BCA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5CCA-6F2D-43E8-B34F-0B04442F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CC72-D6A8-474C-944E-A11D0B03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00AD-4822-4613-AB6B-07F8BB94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A9F9-4C75-428E-855B-0CF375F1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7666-131C-4F3C-A145-289F1FB7A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533520" y="762120"/>
            <a:ext cx="9144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ISEÑO Y PROGRAMACION DE PROCESOS DISCONTINUOS (BATCH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cc99"/>
                </a:solidFill>
                <a:latin typeface="Times New Roman"/>
              </a:rPr>
              <a:t>“</a:t>
            </a:r>
            <a:r>
              <a:rPr b="1" lang="es-ES_tradnl" sz="1600" spc="-1" strike="noStrike">
                <a:solidFill>
                  <a:srgbClr val="00cc99"/>
                </a:solidFill>
                <a:latin typeface="Times New Roman"/>
              </a:rPr>
              <a:t>Chemical Process Structures and Information Flows”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cc99"/>
                </a:solidFill>
                <a:latin typeface="Times New Roman"/>
              </a:rPr>
              <a:t>R.,S.H. Mah, Butterworths Publishers, USA, 1990</a:t>
            </a:r>
            <a:r>
              <a:rPr b="1" lang="es-ES_tradnl" sz="14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209680" y="3200400"/>
          <a:ext cx="4762800" cy="23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200400"/>
                    <a:ext cx="476280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limentos (vinos, confites, lácteos, conserva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ducción de Biom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árma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ímicos finos y especi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límeros, co-polímeros, resinas, fibra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tergentes, artículos de as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méticos, perfu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ateriales (cerámicos, plásticos, etc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ditivos (adhesivos, lubricantes, etc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0000"/>
                </a:solidFill>
                <a:latin typeface="Comic Sans MS"/>
              </a:rPr>
              <a:t>La producción en forma Batch conviene, pero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rogramas de P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i se opera un proceso en forma batch, se debe tener un programa de producción de manera de optimizar el uso de los equip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43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grama de Producción</a:t>
            </a:r>
            <a:br>
              <a:rPr sz="36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 debe programa la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6767280" cy="2266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900000" y="3645000"/>
            <a:ext cx="7309080" cy="782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019920" y="6078600"/>
            <a:ext cx="3124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SC: Etapa Contin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B: Etapa B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71640" y="4599000"/>
          <a:ext cx="4457520" cy="225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4599000"/>
                    <a:ext cx="445752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6300720" y="4956120"/>
          <a:ext cx="1559160" cy="924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00720" y="4956120"/>
                    <a:ext cx="155916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370836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ELECCION DE PROCESOS DISCONTINU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lujo de Producción (pequeña escal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erzas de Mercado (demanda tempora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peración Flexible (múltiples product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blemas Operacionales (limpieza, síntesis compleja, control estricto, etc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so Optimo de Recurs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tegración de Operaciones y Activ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Equipos Multifuncion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ISEÑO DE PROCESOS DISCONTINU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- Diseñar el Proceso como si fuese Continu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- Identificación de Equipos Discontinu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- Identificación de Equipos Multi-t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- Determinar Etapas Paralel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- Cuantificar el Almacenamiento Interme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6- Planificar y Programar la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8600" y="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Times New Roman"/>
              </a:rPr>
              <a:t>EJEMPLO</a:t>
            </a:r>
            <a:r>
              <a:rPr b="1" lang="es-E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3333cc"/>
                </a:solidFill>
                <a:latin typeface="Times New Roman"/>
              </a:rPr>
              <a:t>Sólo operaciones B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87280" y="838080"/>
          <a:ext cx="8856720" cy="581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838080"/>
                    <a:ext cx="885672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LANIFICAR     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A PRODUC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04920" y="0"/>
          <a:ext cx="8534160" cy="20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534160" cy="20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1447920" y="3124080"/>
            <a:ext cx="2057400" cy="0"/>
          </a:xfrm>
          <a:prstGeom prst="line">
            <a:avLst/>
          </a:prstGeom>
          <a:ln w="152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3429000"/>
            <a:ext cx="7772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¿ Por qué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- Aprovechar las Capacidades Ocios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- Anticipar Cuellos de Bote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- Uso Eficiente de Re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-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umplir las Fechas de Entrega $$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- Producción Flexible y Optimiz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43400" y="2209680"/>
            <a:ext cx="4495680" cy="1752840"/>
          </a:xfrm>
          <a:prstGeom prst="ellipse">
            <a:avLst/>
          </a:prstGeom>
          <a:noFill/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ISEÑO DE PROCESOS DISCONTINU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OPERACIONES INDIVIDU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QUIP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SISTEMA PRODU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LANIFICACION Y PROGRAMAC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imes New Roman"/>
              </a:rPr>
              <a:t>Planta Discontinua</a:t>
            </a:r>
            <a:br>
              <a:rPr sz="3600"/>
            </a:br>
            <a:r>
              <a:rPr b="1" lang="es-ES_tradnl" sz="3600" spc="-1" strike="noStrike">
                <a:solidFill>
                  <a:srgbClr val="ff0000"/>
                </a:solidFill>
                <a:latin typeface="Times New Roman"/>
              </a:rPr>
              <a:t>Planta Multi-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2819520"/>
            <a:ext cx="5881680" cy="1904760"/>
            <a:chOff x="1219320" y="2819520"/>
            <a:chExt cx="5881680" cy="1904760"/>
          </a:xfrm>
        </p:grpSpPr>
        <p:sp>
          <p:nvSpPr>
            <p:cNvPr id="149" name=""/>
            <p:cNvSpPr/>
            <p:nvPr/>
          </p:nvSpPr>
          <p:spPr>
            <a:xfrm>
              <a:off x="4602240" y="2819520"/>
              <a:ext cx="80820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37160" y="2819520"/>
              <a:ext cx="8096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19320" y="3990960"/>
              <a:ext cx="8096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37160" y="3990960"/>
              <a:ext cx="8096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02240" y="3990960"/>
              <a:ext cx="80820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93160" y="3990960"/>
              <a:ext cx="8078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-152280" y="1447920"/>
            <a:ext cx="92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n estas 6 OOUU, ¿ cuántos productos podría fabric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EM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gramación de Productos y Oper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os Si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glas Heuríst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imes New Roman"/>
              </a:rPr>
              <a:t>Planta Discontinua Multi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43280" y="1447920"/>
            <a:ext cx="80820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78200" y="1447920"/>
            <a:ext cx="80964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34200" y="2619360"/>
            <a:ext cx="80784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70000" y="1814400"/>
            <a:ext cx="808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87840" y="1814400"/>
            <a:ext cx="955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04920" y="2619360"/>
            <a:ext cx="6029280" cy="733320"/>
            <a:chOff x="304920" y="2619360"/>
            <a:chExt cx="6029280" cy="733320"/>
          </a:xfrm>
        </p:grpSpPr>
        <p:sp>
          <p:nvSpPr>
            <p:cNvPr id="163" name=""/>
            <p:cNvSpPr/>
            <p:nvPr/>
          </p:nvSpPr>
          <p:spPr>
            <a:xfrm>
              <a:off x="1260360" y="2619360"/>
              <a:ext cx="8096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78200" y="2619360"/>
              <a:ext cx="8096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643280" y="2619360"/>
              <a:ext cx="80820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4920" y="2986200"/>
              <a:ext cx="955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070000" y="2986200"/>
              <a:ext cx="808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687840" y="2986200"/>
              <a:ext cx="955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51480" y="2986200"/>
              <a:ext cx="88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7142040" y="2986200"/>
            <a:ext cx="154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1828800"/>
            <a:ext cx="1324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775200" y="1828800"/>
            <a:ext cx="6120" cy="790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62920" y="23623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roducto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990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MAN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67320" y="4267080"/>
            <a:ext cx="807840" cy="733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01880" y="4267080"/>
            <a:ext cx="809640" cy="733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84400" y="5438880"/>
            <a:ext cx="80964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01880" y="5438880"/>
            <a:ext cx="80964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67320" y="5438880"/>
            <a:ext cx="80784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57880" y="5438880"/>
            <a:ext cx="80820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5805360"/>
            <a:ext cx="95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94040" y="5805360"/>
            <a:ext cx="807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11520" y="5805360"/>
            <a:ext cx="95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94040" y="4633920"/>
            <a:ext cx="807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11520" y="4633920"/>
            <a:ext cx="95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75160" y="5805360"/>
            <a:ext cx="882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66080" y="5805360"/>
            <a:ext cx="154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50292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934320" y="48006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Producto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" y="3809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SEMANA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lanta Discontinua Multipropósi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0" y="1090440"/>
            <a:ext cx="8915400" cy="5769000"/>
            <a:chOff x="0" y="1090440"/>
            <a:chExt cx="8915400" cy="5769000"/>
          </a:xfrm>
        </p:grpSpPr>
        <p:sp>
          <p:nvSpPr>
            <p:cNvPr id="193" name=""/>
            <p:cNvSpPr/>
            <p:nvPr/>
          </p:nvSpPr>
          <p:spPr>
            <a:xfrm>
              <a:off x="6934320" y="633888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99"/>
                  </a:solidFill>
                  <a:latin typeface="Times New Roman"/>
                </a:rPr>
                <a:t>Producto 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0" y="1090440"/>
              <a:ext cx="8458200" cy="5407200"/>
              <a:chOff x="0" y="1090440"/>
              <a:chExt cx="8458200" cy="5407200"/>
            </a:xfrm>
          </p:grpSpPr>
          <p:sp>
            <p:nvSpPr>
              <p:cNvPr id="195" name=""/>
              <p:cNvSpPr/>
              <p:nvPr/>
            </p:nvSpPr>
            <p:spPr>
              <a:xfrm>
                <a:off x="4414680" y="1568160"/>
                <a:ext cx="80820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649600" y="1568160"/>
                <a:ext cx="80964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031760" y="2790720"/>
                <a:ext cx="80964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649600" y="2790720"/>
                <a:ext cx="80964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414680" y="2790720"/>
                <a:ext cx="80820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105600" y="2790720"/>
                <a:ext cx="80784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6320" y="3173400"/>
                <a:ext cx="95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841400" y="3173400"/>
                <a:ext cx="808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57800" y="2004840"/>
                <a:ext cx="1828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459240" y="1950840"/>
                <a:ext cx="95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222880" y="3173400"/>
                <a:ext cx="882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913440" y="3173400"/>
                <a:ext cx="154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6320" y="1090440"/>
                <a:ext cx="228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EMANA 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38720" y="4510080"/>
                <a:ext cx="80784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573280" y="4510080"/>
                <a:ext cx="80964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955800" y="5732280"/>
                <a:ext cx="80964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573280" y="5732280"/>
                <a:ext cx="80964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38720" y="5732280"/>
                <a:ext cx="80784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029280" y="5732280"/>
                <a:ext cx="80820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6114960"/>
                <a:ext cx="95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765440" y="6114960"/>
                <a:ext cx="807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382920" y="6114960"/>
                <a:ext cx="95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765440" y="4892400"/>
                <a:ext cx="807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382920" y="4892400"/>
                <a:ext cx="95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146560" y="6114960"/>
                <a:ext cx="882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837480" y="6114960"/>
                <a:ext cx="154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181480" y="4900320"/>
                <a:ext cx="1324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4033800"/>
                <a:ext cx="228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cc99"/>
                    </a:solidFill>
                    <a:latin typeface="Times New Roman"/>
                  </a:rPr>
                  <a:t>SEMANA 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3048120" y="230976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4800600" y="3555720"/>
                <a:ext cx="0" cy="55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952880" y="3555720"/>
                <a:ext cx="1981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Producto 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248520" y="1328400"/>
                <a:ext cx="198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Producto 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477120" y="4589280"/>
                <a:ext cx="198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cc99"/>
                    </a:solidFill>
                    <a:latin typeface="Times New Roman"/>
                  </a:rPr>
                  <a:t>Producto 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Comic Sans MS"/>
              </a:rPr>
              <a:t>Programación  de la Oper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jemplo: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ama de Operación para un Proceso Batch que Requiere Tres Etapas o Procesadores Conectados en Ser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38858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empo de Preparación de cada etapa   = 0.5 u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09680" y="22860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Etap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2860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Etap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562720" y="228600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Etapa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371600" y="2743200"/>
            <a:ext cx="6029280" cy="733320"/>
            <a:chOff x="1371600" y="2743200"/>
            <a:chExt cx="6029280" cy="733320"/>
          </a:xfrm>
        </p:grpSpPr>
        <p:grpSp>
          <p:nvGrpSpPr>
            <p:cNvPr id="235" name=""/>
            <p:cNvGrpSpPr/>
            <p:nvPr/>
          </p:nvGrpSpPr>
          <p:grpSpPr>
            <a:xfrm>
              <a:off x="1371600" y="2743200"/>
              <a:ext cx="6029280" cy="733320"/>
              <a:chOff x="1371600" y="2743200"/>
              <a:chExt cx="6029280" cy="733320"/>
            </a:xfrm>
          </p:grpSpPr>
          <p:sp>
            <p:nvSpPr>
              <p:cNvPr id="236" name=""/>
              <p:cNvSpPr/>
              <p:nvPr/>
            </p:nvSpPr>
            <p:spPr>
              <a:xfrm>
                <a:off x="2327040" y="2743200"/>
                <a:ext cx="809640" cy="733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944880" y="2743200"/>
                <a:ext cx="809640" cy="733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709960" y="2743200"/>
                <a:ext cx="808200" cy="733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371600" y="3110040"/>
                <a:ext cx="95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136680" y="3110040"/>
                <a:ext cx="808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754520" y="3110040"/>
                <a:ext cx="95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518160" y="3110040"/>
                <a:ext cx="882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2362320" y="289548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1.5 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38480" y="297180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7.5 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791320" y="289548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3.0 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4920" y="91440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¿ Cómo se podrían programar las operacio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Que no se traslapen, ie. se inicia la operación actual cuando se termina la predecesor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Que se traslap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Que se traslapen con unidades en Parale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04920" y="3049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. Operación No Traslap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0" y="1447920"/>
          <a:ext cx="914400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91440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990720" y="5257800"/>
            <a:ext cx="5257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iempo de Residencia (RT): Fin del pro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1752480"/>
            <a:ext cx="7467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0000"/>
                </a:solidFill>
                <a:latin typeface="Times New Roman"/>
              </a:rPr>
              <a:t>Tiempo de proceso límite (LCT) : Suma de los tiempos de cada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47920" y="3581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8120" y="4419720"/>
            <a:ext cx="0" cy="304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38480" y="3581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91320" y="434340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505320"/>
            <a:ext cx="0" cy="304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2120" y="594360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En 36.5 ut para procesar 3 b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547640" y="1125360"/>
            <a:ext cx="5276880" cy="461160"/>
            <a:chOff x="1547640" y="1125360"/>
            <a:chExt cx="5276880" cy="461160"/>
          </a:xfrm>
        </p:grpSpPr>
        <p:grpSp>
          <p:nvGrpSpPr>
            <p:cNvPr id="259" name=""/>
            <p:cNvGrpSpPr/>
            <p:nvPr/>
          </p:nvGrpSpPr>
          <p:grpSpPr>
            <a:xfrm>
              <a:off x="1547640" y="1125360"/>
              <a:ext cx="5276880" cy="398160"/>
              <a:chOff x="1547640" y="1125360"/>
              <a:chExt cx="5276880" cy="398160"/>
            </a:xfrm>
          </p:grpSpPr>
          <p:sp>
            <p:nvSpPr>
              <p:cNvPr id="260" name=""/>
              <p:cNvSpPr/>
              <p:nvPr/>
            </p:nvSpPr>
            <p:spPr>
              <a:xfrm>
                <a:off x="2383560" y="1125360"/>
                <a:ext cx="708480" cy="398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799800" y="1125360"/>
                <a:ext cx="708480" cy="398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344560" y="1125360"/>
                <a:ext cx="707040" cy="398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547640" y="1324440"/>
                <a:ext cx="835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092400" y="1324440"/>
                <a:ext cx="707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508280" y="1324440"/>
                <a:ext cx="835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51960" y="1324440"/>
                <a:ext cx="772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2414520" y="1207800"/>
              <a:ext cx="60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1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81520" y="1249200"/>
              <a:ext cx="60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7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6920" y="1207800"/>
              <a:ext cx="59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3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27640" y="2349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¿ Qué se podría hacer para minimizar el tiempo de proceso límite (LCT)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2895480"/>
            <a:ext cx="868680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*Inicia antes la etapa 1, LCT sería más cor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Hacer un traslape de opera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457200" y="0"/>
            <a:ext cx="662940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. Operación Traslap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0" y="762120"/>
          <a:ext cx="9144000" cy="45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228600" y="5546880"/>
            <a:ext cx="868680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En 28.5 ut para procesar 3 batch, ahorro del 22% </a:t>
            </a:r>
            <a:r>
              <a:rPr b="0" lang="es-ES" sz="1800" spc="-1" strike="noStrike">
                <a:solidFill>
                  <a:srgbClr val="ff0000"/>
                </a:solidFill>
                <a:latin typeface="Comic Sans MS"/>
              </a:rPr>
              <a:t>respecto a la configuración origi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95640" y="1125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¿ Qué se podría hacer para minimizar el tiempo de proceso límite (LCT)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2895480"/>
            <a:ext cx="8686800" cy="181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Equipos en paralelo, sobre todo en las etapas limitantes, etapa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mayor invers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80880" y="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peración Traslap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n Unidades en Parale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0" y="1219320"/>
          <a:ext cx="91440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0" y="541008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En 20.5 ut para procesar 3 batch, ahorro del 45%. </a:t>
            </a:r>
            <a:r>
              <a:rPr b="0" lang="es-ES" sz="1800" spc="-1" strike="noStrike">
                <a:solidFill>
                  <a:srgbClr val="ff0000"/>
                </a:solidFill>
                <a:latin typeface="Comic Sans MS"/>
              </a:rPr>
              <a:t>respecto a la configuración origi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164360" y="1413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NTRODUC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763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olumen de producción &lt; 10-50 Kton/añ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peración dinámica (discontinua, intermitent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cesos que requieren alto tiempo de residen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utas de síntesis complejas (fármacos, químicos, bioquímic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diciones de control estrictas (reactor nucle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TECEDENTES DE UN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CESOS DISCONTINU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0000"/>
                </a:solidFill>
                <a:latin typeface="Comic Sans MS"/>
              </a:rPr>
              <a:t>Recomenda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Conviene traslapar operaciones, de manera de minimizar los tiempos ociosos de los equipos, ¿COMO? </a:t>
            </a:r>
            <a:r>
              <a:rPr b="0" lang="es-E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00"/>
                </a:solidFill>
                <a:latin typeface="Comic Sans MS"/>
              </a:rPr>
              <a:t>Políticas de almacenamiento interme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Se debe evaluar la posibilidad de tener unidades en parale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puede llegar a ser ren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OLITICAS DE ALMACENAMIENTO INTERMED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743200" y="1600200"/>
            <a:ext cx="5943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ar la Producción Cuando hay Dependencia de la Cantidad de Insumos Precurs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17524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DEA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90920" y="3657600"/>
            <a:ext cx="6248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as, Indemnizaciones, Garantí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rupción del Proce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erial Fuera de Espec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35053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EMORA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556272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ntrega Anticipada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05520" y="5562720"/>
            <a:ext cx="3504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nific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ipos de Almacenamiento Intermed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1447920"/>
            <a:ext cx="86104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) No hay Almacenamiento Intermedio (NAI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i) Demora Cero, entre etapas (zero wait, ZW)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ii) Almacenamiento Intermed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limitado (AII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inito (AIF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ixto (AI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049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049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4280" y="2263680"/>
            <a:ext cx="1679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9404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003400" y="2263680"/>
            <a:ext cx="1679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68316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692520" y="2263680"/>
            <a:ext cx="16812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73720" y="22636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81640" y="2263680"/>
            <a:ext cx="16812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62840" y="22636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070760" y="2263680"/>
            <a:ext cx="16779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7487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7487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94040" y="2273400"/>
            <a:ext cx="9360" cy="25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062840" y="2273400"/>
            <a:ext cx="7920" cy="25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94040" y="253512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062840" y="253512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94040" y="2544840"/>
            <a:ext cx="9360" cy="77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94040" y="33242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062840" y="2544840"/>
            <a:ext cx="7920" cy="77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062840" y="332424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304920" y="2666880"/>
          <a:ext cx="8839080" cy="312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666880"/>
                    <a:ext cx="883908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Ejemplo: Programas de Operación en una Planta Multiproducto (4) con 3 Etapas de Procesamiento en Ser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33520" y="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No hay Almacenamiento Intermedio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NAI</a:t>
            </a:r>
            <a:br>
              <a:rPr sz="3600"/>
            </a:b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Horas totales de Operación, HO = 24 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230040" y="1676520"/>
          <a:ext cx="8913960" cy="34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1676520"/>
                    <a:ext cx="8913960" cy="34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3" name=""/>
          <p:cNvGrpSpPr/>
          <p:nvPr/>
        </p:nvGrpSpPr>
        <p:grpSpPr>
          <a:xfrm>
            <a:off x="457200" y="2209320"/>
            <a:ext cx="7162920" cy="4071960"/>
            <a:chOff x="457200" y="2209320"/>
            <a:chExt cx="7162920" cy="4071960"/>
          </a:xfrm>
        </p:grpSpPr>
        <p:sp>
          <p:nvSpPr>
            <p:cNvPr id="324" name=""/>
            <p:cNvSpPr/>
            <p:nvPr/>
          </p:nvSpPr>
          <p:spPr>
            <a:xfrm>
              <a:off x="457200" y="5638680"/>
              <a:ext cx="716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0" lang="es-ES_tradnl" sz="3600" spc="-1" strike="noStrike">
                  <a:solidFill>
                    <a:srgbClr val="ff0000"/>
                  </a:solidFill>
                  <a:latin typeface="Comic Sans MS"/>
                </a:rPr>
                <a:t>!!!! Equipos Ociosos !!!!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4038480" y="2209320"/>
              <a:ext cx="1219320" cy="3505320"/>
            </a:xfrm>
            <a:prstGeom prst="line">
              <a:avLst/>
            </a:prstGeom>
            <a:ln w="5724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4114800" y="3123720"/>
              <a:ext cx="2133720" cy="2514600"/>
            </a:xfrm>
            <a:prstGeom prst="line">
              <a:avLst/>
            </a:prstGeom>
            <a:ln w="5724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4038480" y="3276360"/>
              <a:ext cx="1143000" cy="2438280"/>
            </a:xfrm>
            <a:prstGeom prst="line">
              <a:avLst/>
            </a:prstGeom>
            <a:ln w="5724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4038480" y="3276360"/>
              <a:ext cx="2743200" cy="2438280"/>
            </a:xfrm>
            <a:prstGeom prst="line">
              <a:avLst/>
            </a:prstGeom>
            <a:ln w="5724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484360" y="2349360"/>
            <a:ext cx="1150920" cy="1727280"/>
            <a:chOff x="2484360" y="2349360"/>
            <a:chExt cx="1150920" cy="1727280"/>
          </a:xfrm>
        </p:grpSpPr>
        <p:sp>
          <p:nvSpPr>
            <p:cNvPr id="330" name=""/>
            <p:cNvSpPr/>
            <p:nvPr/>
          </p:nvSpPr>
          <p:spPr>
            <a:xfrm>
              <a:off x="2484360" y="2349360"/>
              <a:ext cx="0" cy="64800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35280" y="3429000"/>
              <a:ext cx="0" cy="64764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8360" y="1268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675640" y="4581360"/>
            <a:ext cx="468360" cy="64800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3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609480" y="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emora Cero entre etapas 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ZW</a:t>
            </a:r>
            <a:br>
              <a:rPr sz="3600"/>
            </a:b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(HO = 26 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144360" y="1752480"/>
          <a:ext cx="8999640" cy="356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1752480"/>
                    <a:ext cx="8999640" cy="35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>
            <a:off x="533520" y="5638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Comic Sans MS"/>
              </a:rPr>
              <a:t>Puede ser necesario por el 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95280" y="1341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675640" y="4365720"/>
            <a:ext cx="468360" cy="64764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2000" fill="hold"/>
                                        <p:tgtEl>
                                          <p:spTgt spid="3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380880" y="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Almacenamiento Intermedio Ilimitado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AII</a:t>
            </a:r>
            <a:br>
              <a:rPr sz="3600"/>
            </a:b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(HO = 23 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0" y="1143000"/>
            <a:ext cx="8869320" cy="4943520"/>
            <a:chOff x="0" y="1143000"/>
            <a:chExt cx="8869320" cy="4943520"/>
          </a:xfrm>
        </p:grpSpPr>
        <p:graphicFrame>
          <p:nvGraphicFramePr>
            <p:cNvPr id="342" name=""/>
            <p:cNvGraphicFramePr/>
            <p:nvPr/>
          </p:nvGraphicFramePr>
          <p:xfrm>
            <a:off x="0" y="1143000"/>
            <a:ext cx="8869320" cy="494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143000"/>
                      <a:ext cx="8869320" cy="494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4" name=""/>
            <p:cNvSpPr/>
            <p:nvPr/>
          </p:nvSpPr>
          <p:spPr>
            <a:xfrm>
              <a:off x="6781680" y="1828800"/>
              <a:ext cx="76320" cy="68580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924680" y="3124440"/>
              <a:ext cx="76320" cy="68580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952880" y="1828800"/>
              <a:ext cx="76320" cy="685800"/>
            </a:xfrm>
            <a:prstGeom prst="line">
              <a:avLst/>
            </a:prstGeom>
            <a:ln w="76320">
              <a:solidFill>
                <a:srgbClr val="6600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562720" y="3048120"/>
              <a:ext cx="75960" cy="2057400"/>
            </a:xfrm>
            <a:prstGeom prst="line">
              <a:avLst/>
            </a:prstGeom>
            <a:ln w="76320">
              <a:solidFill>
                <a:srgbClr val="6600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6400800" y="4343040"/>
              <a:ext cx="76320" cy="762120"/>
            </a:xfrm>
            <a:prstGeom prst="line">
              <a:avLst/>
            </a:prstGeom>
            <a:ln w="76320">
              <a:solidFill>
                <a:srgbClr val="6600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380880" y="621648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Comic Sans MS"/>
              </a:rPr>
              <a:t>Ahorra tiempo, inversión ba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50920" y="836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0000"/>
                </a:solidFill>
                <a:latin typeface="Comic Sans MS"/>
              </a:rPr>
              <a:t>Recomenda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Conviene traslapar operaciones, de manera de minimizar los tiempos ociosos de los equip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Comic Sans MS"/>
              </a:rPr>
              <a:t>Políticas de almacenamiento intermedio, si son factible, dado que las inversiones en estos casos son muy ba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Se debe evaluar la posibilidad de tener unidades en paralelo, puede llegar a ser ren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¿ Cómo se realiza la Programación de Productos y Operacion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4920" y="1600200"/>
            <a:ext cx="86104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Recursos Principales: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ie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Objetivo: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Producción Demandada por 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Mercado en el Tiempo Indi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PROGRAMACIÓN DE LA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304920" y="1797120"/>
          <a:ext cx="8415360" cy="208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97120"/>
                    <a:ext cx="8415360" cy="20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"/>
          <p:cNvSpPr/>
          <p:nvPr/>
        </p:nvSpPr>
        <p:spPr>
          <a:xfrm>
            <a:off x="919080" y="1066680"/>
            <a:ext cx="757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ivel Superior  (Gerencia, Directorio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441360" y="4968720"/>
          <a:ext cx="8261280" cy="146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360" y="4968720"/>
                    <a:ext cx="8261280" cy="14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"/>
          <p:cNvSpPr/>
          <p:nvPr/>
        </p:nvSpPr>
        <p:spPr>
          <a:xfrm>
            <a:off x="524880" y="4191120"/>
            <a:ext cx="810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Nivel Inferior  (Jefe Producción, Operador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ductos de calidad variable (lote a lo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Equipos multifuncionales</a:t>
            </a:r>
            <a:r>
              <a:rPr b="1" lang="es-ES_tradnl" sz="32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Procesos flexible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(multitarea o multipropósito, multiproduct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457200" y="1219320"/>
            <a:ext cx="86868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N° de Productos (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N° de Procesadores, Operaciones (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Tiempo Procesamiento (Ti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unción Objetivo (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-Restricciones Técnicas (secuencia procesamient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precursores, disponibilidad tecnológica, etc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058400" y="457200"/>
            <a:ext cx="701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Times New Roman"/>
              </a:rPr>
              <a:t>Factores que Afectan la Programación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4267080"/>
            <a:ext cx="815328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0000"/>
                </a:solidFill>
                <a:latin typeface="Comic Sans MS"/>
              </a:rPr>
              <a:t>Supues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!! Las tareas no son necesariamente consecutivas 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1294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BJETIVO TECNICO DE LA PLANIFICACION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Medidas de Eficienc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09120" y="3124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orizonte Oper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mora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Flujo Máx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Flujo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mora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mora 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sto de Producción Fuera de Especificación (cambio de produc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57200" y="2209680"/>
            <a:ext cx="3581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INIMIZA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04920" y="304920"/>
            <a:ext cx="8534160" cy="642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Algoritmos de Solución para Minimizar 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 Procesador o equipo (programación trivi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i) Trabajos en 1 etapa con procesadores o equi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ff0000"/>
                </a:solidFill>
                <a:uFillTx/>
                <a:latin typeface="Times New Roman"/>
              </a:rPr>
              <a:t>en parale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7920" indent="-495360"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la de McNaughton (195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7920" indent="-495360"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la LPT (longest processing ti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7920" indent="-495360"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la SPT (shortest processing ti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Modelos Si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) Regla de McNaughton (195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Horizonte Operacional Míni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Modelos Si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295280" y="2362320"/>
          <a:ext cx="609624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62320"/>
                    <a:ext cx="609624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"/>
          <p:cNvSpPr/>
          <p:nvPr/>
        </p:nvSpPr>
        <p:spPr>
          <a:xfrm>
            <a:off x="914400" y="3962520"/>
            <a:ext cx="7315200" cy="18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: Tiempo de operación del producto 1 en la etapa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: Número de procesadores o 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) Regla LPT (longest processing ti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cer las tareas con tiempos de procesamiento más  largas prim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) Regla SPT (shortest processing ti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cer las tareas con tiempos de procesamiento más  cortas prim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3049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049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4280" y="2263680"/>
            <a:ext cx="1679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9404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003400" y="2263680"/>
            <a:ext cx="1679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68316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692520" y="2263680"/>
            <a:ext cx="16812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373720" y="22636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381640" y="2263680"/>
            <a:ext cx="16812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062840" y="22636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70760" y="2263680"/>
            <a:ext cx="16779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7487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7487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994040" y="2273400"/>
            <a:ext cx="9360" cy="25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062840" y="2273400"/>
            <a:ext cx="7920" cy="25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94040" y="253512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062840" y="253512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994040" y="2544840"/>
            <a:ext cx="9360" cy="77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994040" y="33242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062840" y="2544840"/>
            <a:ext cx="7920" cy="77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062840" y="332424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Ejemplo: Programas de Operación en una Planta Multiproducto (8) con 1 etapa y 3 Equipos en Paralel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0" y="2666880"/>
          <a:ext cx="13246200" cy="200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66880"/>
                    <a:ext cx="13246200" cy="20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971640" y="5445000"/>
            <a:ext cx="7391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Times New Roman"/>
              </a:rPr>
              <a:t>operacional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= max { 8, 36/3} = max { 8, 12} = 12 ut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Horizonte de operación 12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1447920" y="762120"/>
          <a:ext cx="609588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609588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"/>
          <p:cNvSpPr/>
          <p:nvPr/>
        </p:nvSpPr>
        <p:spPr>
          <a:xfrm>
            <a:off x="2820960" y="228600"/>
            <a:ext cx="327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Regla de McNaughton: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59360" y="2286000"/>
            <a:ext cx="671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Tiempo de operación del producto 1 en la etap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0" y="2666880"/>
          <a:ext cx="13246200" cy="2006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666880"/>
                    <a:ext cx="13246200" cy="20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628560" y="4786200"/>
          <a:ext cx="1627200" cy="47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8560" y="4786200"/>
                    <a:ext cx="162720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3708360" y="4653000"/>
          <a:ext cx="4952880" cy="754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08360" y="4653000"/>
                    <a:ext cx="495288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143000" y="16765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lternativa 1 (Hay varias otr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99072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Hay que dividir en bloque de 12 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1476360" y="2781360"/>
          <a:ext cx="5878440" cy="34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781360"/>
                    <a:ext cx="5878440" cy="34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1476360" y="2565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91440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Regla LPT</a:t>
            </a:r>
            <a:br>
              <a:rPr sz="2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cer las tareas con tiempos de procesamiento más  largas primero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1692360" y="2708280"/>
          <a:ext cx="565776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708280"/>
                    <a:ext cx="565776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1619280" y="2492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228600" y="114300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Regla SPT</a:t>
            </a:r>
            <a:br>
              <a:rPr sz="2400"/>
            </a:br>
            <a:br>
              <a:rPr sz="24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cer las tareas con tiempos de procesamiento más  cortas primero.</a:t>
            </a: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1403280" y="2565360"/>
          <a:ext cx="6361200" cy="37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565360"/>
                    <a:ext cx="636120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4" name=""/>
          <p:cNvSpPr/>
          <p:nvPr/>
        </p:nvSpPr>
        <p:spPr>
          <a:xfrm>
            <a:off x="1403280" y="2276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06560" y="692280"/>
            <a:ext cx="813744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Tahoma"/>
              </a:rPr>
              <a:t>Tipos de Plant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Plantas multiproducto (Flowshop plants):</a:t>
            </a:r>
            <a:r>
              <a:rPr b="0" lang="es-ES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odos los productos siguen la misma secuencia a través de todas las etapas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187280" y="3357720"/>
            <a:ext cx="6648480" cy="1191600"/>
            <a:chOff x="1187280" y="3357720"/>
            <a:chExt cx="6648480" cy="1191600"/>
          </a:xfrm>
        </p:grpSpPr>
        <p:sp>
          <p:nvSpPr>
            <p:cNvPr id="53" name=""/>
            <p:cNvSpPr/>
            <p:nvPr/>
          </p:nvSpPr>
          <p:spPr>
            <a:xfrm>
              <a:off x="2322360" y="3593880"/>
              <a:ext cx="64944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19440" y="3593880"/>
              <a:ext cx="64764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17960" y="3593880"/>
              <a:ext cx="64764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215040" y="3593880"/>
              <a:ext cx="64908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1506240" y="3939120"/>
              <a:ext cx="5986800" cy="11520"/>
              <a:chOff x="1506240" y="3939120"/>
              <a:chExt cx="5986800" cy="11520"/>
            </a:xfrm>
          </p:grpSpPr>
          <p:cxnSp>
            <p:nvCxnSpPr>
              <p:cNvPr id="58" name=""/>
              <p:cNvCxnSpPr>
                <a:stCxn id="53" idx="3"/>
                <a:endCxn id="54" idx="1"/>
              </p:cNvCxnSpPr>
              <p:nvPr/>
            </p:nvCxnSpPr>
            <p:spPr>
              <a:xfrm>
                <a:off x="2971080" y="3948840"/>
                <a:ext cx="64980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59" name=""/>
              <p:cNvCxnSpPr>
                <a:stCxn id="54" idx="3"/>
                <a:endCxn id="55" idx="1"/>
              </p:cNvCxnSpPr>
              <p:nvPr/>
            </p:nvCxnSpPr>
            <p:spPr>
              <a:xfrm>
                <a:off x="4268520" y="3948840"/>
                <a:ext cx="6494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60" name=""/>
              <p:cNvCxnSpPr>
                <a:stCxn id="55" idx="3"/>
                <a:endCxn id="56" idx="1"/>
              </p:cNvCxnSpPr>
              <p:nvPr/>
            </p:nvCxnSpPr>
            <p:spPr>
              <a:xfrm>
                <a:off x="5566320" y="3948840"/>
                <a:ext cx="6494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61" name=""/>
              <p:cNvCxnSpPr>
                <a:stCxn id="56" idx="3"/>
              </p:cNvCxnSpPr>
              <p:nvPr/>
            </p:nvCxnSpPr>
            <p:spPr>
              <a:xfrm flipV="1">
                <a:off x="6864120" y="3939120"/>
                <a:ext cx="629280" cy="972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62" name=""/>
              <p:cNvCxnSpPr>
                <a:endCxn id="53" idx="1"/>
              </p:cNvCxnSpPr>
              <p:nvPr/>
            </p:nvCxnSpPr>
            <p:spPr>
              <a:xfrm>
                <a:off x="1506240" y="3939480"/>
                <a:ext cx="816840" cy="972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</p:grpSp>
        <p:cxnSp>
          <p:nvCxnSpPr>
            <p:cNvPr id="63" name=""/>
            <p:cNvCxnSpPr/>
            <p:nvPr/>
          </p:nvCxnSpPr>
          <p:spPr>
            <a:xfrm>
              <a:off x="2987640" y="3693600"/>
              <a:ext cx="650160" cy="18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/>
            <p:nvPr/>
          </p:nvCxnSpPr>
          <p:spPr>
            <a:xfrm>
              <a:off x="4284360" y="3693600"/>
              <a:ext cx="649800" cy="18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/>
            <p:nvPr/>
          </p:nvCxnSpPr>
          <p:spPr>
            <a:xfrm>
              <a:off x="5581440" y="3693600"/>
              <a:ext cx="650160" cy="18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66" name=""/>
            <p:cNvCxnSpPr/>
            <p:nvPr/>
          </p:nvCxnSpPr>
          <p:spPr>
            <a:xfrm flipV="1">
              <a:off x="6880320" y="3685680"/>
              <a:ext cx="629280" cy="792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67" name=""/>
            <p:cNvCxnSpPr/>
            <p:nvPr/>
          </p:nvCxnSpPr>
          <p:spPr>
            <a:xfrm>
              <a:off x="1522440" y="3685680"/>
              <a:ext cx="816480" cy="792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grpSp>
          <p:nvGrpSpPr>
            <p:cNvPr id="68" name=""/>
            <p:cNvGrpSpPr/>
            <p:nvPr/>
          </p:nvGrpSpPr>
          <p:grpSpPr>
            <a:xfrm>
              <a:off x="1509480" y="4218840"/>
              <a:ext cx="5986800" cy="9720"/>
              <a:chOff x="1509480" y="4218840"/>
              <a:chExt cx="5986800" cy="9720"/>
            </a:xfrm>
          </p:grpSpPr>
          <p:cxnSp>
            <p:nvCxnSpPr>
              <p:cNvPr id="69" name=""/>
              <p:cNvCxnSpPr/>
              <p:nvPr/>
            </p:nvCxnSpPr>
            <p:spPr>
              <a:xfrm>
                <a:off x="2974320" y="4226760"/>
                <a:ext cx="64980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70" name=""/>
              <p:cNvCxnSpPr/>
              <p:nvPr/>
            </p:nvCxnSpPr>
            <p:spPr>
              <a:xfrm>
                <a:off x="4271760" y="4226760"/>
                <a:ext cx="6494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71" name=""/>
              <p:cNvCxnSpPr/>
              <p:nvPr/>
            </p:nvCxnSpPr>
            <p:spPr>
              <a:xfrm>
                <a:off x="5569560" y="4226760"/>
                <a:ext cx="6494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72" name=""/>
              <p:cNvCxnSpPr/>
              <p:nvPr/>
            </p:nvCxnSpPr>
            <p:spPr>
              <a:xfrm flipV="1">
                <a:off x="6867360" y="4218840"/>
                <a:ext cx="629280" cy="792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73" name=""/>
              <p:cNvCxnSpPr/>
              <p:nvPr/>
            </p:nvCxnSpPr>
            <p:spPr>
              <a:xfrm>
                <a:off x="1509480" y="4218840"/>
                <a:ext cx="816840" cy="792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</p:grpSp>
        <p:sp>
          <p:nvSpPr>
            <p:cNvPr id="74" name=""/>
            <p:cNvSpPr/>
            <p:nvPr/>
          </p:nvSpPr>
          <p:spPr>
            <a:xfrm>
              <a:off x="1187280" y="3357720"/>
              <a:ext cx="325440" cy="11840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494480" y="3362040"/>
              <a:ext cx="341280" cy="11872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380880" y="380880"/>
            <a:ext cx="84582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iii) Dos Procesadores </a:t>
            </a:r>
            <a:r>
              <a:rPr b="1" lang="es-ES_tradnl" sz="2800" spc="-1" strike="noStrike" u="sng">
                <a:solidFill>
                  <a:srgbClr val="3333cc"/>
                </a:solidFill>
                <a:uFillTx/>
                <a:latin typeface="Comic Sans MS"/>
              </a:rPr>
              <a:t>en Se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ff0000"/>
                </a:solidFill>
                <a:latin typeface="Comic Sans MS"/>
              </a:rPr>
              <a:t>Regla de Johnson (1954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Procedimiento para minimizar el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</a:rPr>
              <a:t>Horizonte Operacional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  (se asume Almacenamiento Intermedio Ilimitad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Comic Sans MS"/>
              </a:rPr>
              <a:t>a) En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s-ES_tradnl" sz="2800" spc="-1" strike="noStrike">
                <a:solidFill>
                  <a:srgbClr val="660066"/>
                </a:solidFill>
                <a:latin typeface="Comic Sans MS"/>
              </a:rPr>
              <a:t>una secuencia el trabajo i antecede al j sí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min {T</a:t>
            </a:r>
            <a:r>
              <a:rPr b="1" lang="es-ES_tradnl" sz="3200" spc="-1" strike="noStrike" baseline="-25000">
                <a:solidFill>
                  <a:srgbClr val="660066"/>
                </a:solidFill>
                <a:latin typeface="Times New Roman"/>
              </a:rPr>
              <a:t>i1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, T</a:t>
            </a:r>
            <a:r>
              <a:rPr b="1" lang="es-ES_tradnl" sz="3200" spc="-1" strike="noStrike" baseline="-25000">
                <a:solidFill>
                  <a:srgbClr val="660066"/>
                </a:solidFill>
                <a:latin typeface="Times New Roman"/>
              </a:rPr>
              <a:t>j2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} </a:t>
            </a:r>
            <a:r>
              <a:rPr b="1" lang="es-ES_tradnl" sz="4000" spc="-1" strike="noStrike">
                <a:solidFill>
                  <a:srgbClr val="660066"/>
                </a:solidFill>
                <a:latin typeface="Symbol"/>
                <a:ea typeface="Symbol"/>
              </a:rPr>
              <a:t>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  min {T</a:t>
            </a:r>
            <a:r>
              <a:rPr b="1" lang="es-ES_tradnl" sz="3200" spc="-1" strike="noStrike" baseline="-25000">
                <a:solidFill>
                  <a:srgbClr val="660066"/>
                </a:solidFill>
                <a:latin typeface="Times New Roman"/>
              </a:rPr>
              <a:t>i2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, T</a:t>
            </a:r>
            <a:r>
              <a:rPr b="1" lang="es-ES_tradnl" sz="3200" spc="-1" strike="noStrike" baseline="-25000">
                <a:solidFill>
                  <a:srgbClr val="660066"/>
                </a:solidFill>
                <a:latin typeface="Times New Roman"/>
              </a:rPr>
              <a:t>j1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}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i, j = Producto ;   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1,2: Eta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380880" y="380880"/>
            <a:ext cx="84582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b)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Si un trabajo no requiere una de las etapas de procesamiento se le asigna un tiempo de procesamiento </a:t>
            </a:r>
            <a:r>
              <a:rPr b="1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= 0 en esa etap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cc99"/>
                </a:solidFill>
                <a:latin typeface="Times New Roman"/>
              </a:rPr>
              <a:t>Algoritmo de John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- De todos los trabajos por programar seleccione el que tenga e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nor tiempo de procesamien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n cualquiera de las etap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(a)- Si este tiempo corresponde a 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tapa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rograme el trabajo en 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posi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sponible en la secuencia y continuar en el paso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(b)- Si este tiempo corresponde a 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tapa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rograme el trabajo en 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última posi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sponible en la secuencia y continuar en el paso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-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mov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la lista el trabajo asignado y volver al primer paso hasta que la secuencia esté comple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0" y="0"/>
            <a:ext cx="8991720" cy="14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rogramas de Operación en una Planta Multiproducto (5) con 2 Etapas de Procesamiento y 1 Equipo por Etapa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914400" y="1676520"/>
            <a:ext cx="7619760" cy="1987560"/>
            <a:chOff x="914400" y="1676520"/>
            <a:chExt cx="7619760" cy="1987560"/>
          </a:xfrm>
        </p:grpSpPr>
        <p:graphicFrame>
          <p:nvGraphicFramePr>
            <p:cNvPr id="431" name=""/>
            <p:cNvGraphicFramePr/>
            <p:nvPr/>
          </p:nvGraphicFramePr>
          <p:xfrm>
            <a:off x="2666880" y="1676520"/>
            <a:ext cx="5867280" cy="19875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43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66880" y="1676520"/>
                      <a:ext cx="5867280" cy="198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3" name=""/>
            <p:cNvSpPr/>
            <p:nvPr/>
          </p:nvSpPr>
          <p:spPr>
            <a:xfrm>
              <a:off x="914400" y="266724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00"/>
                  </a:solidFill>
                  <a:latin typeface="Times New Roman"/>
                </a:rPr>
                <a:t>Etap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533520" y="4038480"/>
            <a:ext cx="7848360" cy="25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99"/>
                </a:solidFill>
                <a:latin typeface="Times New Roman"/>
              </a:rPr>
              <a:t>Algoritmo de Johnso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.- De todos los trabajos por programar seleccione el que tenga el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nor tiempo de procesamient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en cualquiera de las etap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5" name=""/>
          <p:cNvGraphicFramePr/>
          <p:nvPr/>
        </p:nvGraphicFramePr>
        <p:xfrm>
          <a:off x="1905120" y="3733920"/>
          <a:ext cx="5867280" cy="229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733920"/>
                    <a:ext cx="586728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"/>
          <p:cNvSpPr/>
          <p:nvPr/>
        </p:nvSpPr>
        <p:spPr>
          <a:xfrm>
            <a:off x="0" y="0"/>
            <a:ext cx="899172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(a)- Si este tiempo corresponde a l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tapa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rograme el trabajo en l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0" lang="en-US" sz="20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posició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sponible en la secuencia y continuar en el paso 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(b)- Si este tiempo corresponde a l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tapa 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rograme el trabajo en l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última posició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sponible en la secuencia y continuar en el paso 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914400" y="1676520"/>
            <a:ext cx="7619760" cy="1987560"/>
            <a:chOff x="914400" y="1676520"/>
            <a:chExt cx="7619760" cy="1987560"/>
          </a:xfrm>
        </p:grpSpPr>
        <p:graphicFrame>
          <p:nvGraphicFramePr>
            <p:cNvPr id="439" name=""/>
            <p:cNvGraphicFramePr/>
            <p:nvPr/>
          </p:nvGraphicFramePr>
          <p:xfrm>
            <a:off x="2666880" y="1676520"/>
            <a:ext cx="5867280" cy="198756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44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66880" y="1676520"/>
                      <a:ext cx="5867280" cy="198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1" name=""/>
            <p:cNvSpPr/>
            <p:nvPr/>
          </p:nvSpPr>
          <p:spPr>
            <a:xfrm>
              <a:off x="914400" y="266724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00"/>
                  </a:solidFill>
                  <a:latin typeface="Times New Roman"/>
                </a:rPr>
                <a:t>Etap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2" name=""/>
          <p:cNvGraphicFramePr/>
          <p:nvPr/>
        </p:nvGraphicFramePr>
        <p:xfrm>
          <a:off x="2057400" y="1447920"/>
          <a:ext cx="5867280" cy="198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447920"/>
                    <a:ext cx="586728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4" name=""/>
          <p:cNvSpPr/>
          <p:nvPr/>
        </p:nvSpPr>
        <p:spPr>
          <a:xfrm>
            <a:off x="0" y="0"/>
            <a:ext cx="868680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3 Remover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 la lista el trabajo asignado y volver al primer paso hasta que la secuencia esté comple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495680" y="2438280"/>
            <a:ext cx="457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6" name=""/>
          <p:cNvGraphicFramePr/>
          <p:nvPr/>
        </p:nvGraphicFramePr>
        <p:xfrm>
          <a:off x="2666880" y="838080"/>
          <a:ext cx="5867640" cy="198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838080"/>
                    <a:ext cx="586764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8" name=""/>
          <p:cNvGraphicFramePr/>
          <p:nvPr/>
        </p:nvGraphicFramePr>
        <p:xfrm>
          <a:off x="1143000" y="3657600"/>
          <a:ext cx="7315200" cy="2857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657600"/>
                    <a:ext cx="731520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"/>
          <p:cNvSpPr/>
          <p:nvPr/>
        </p:nvSpPr>
        <p:spPr>
          <a:xfrm>
            <a:off x="0" y="2590920"/>
            <a:ext cx="281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Algoritmo</a:t>
            </a:r>
            <a:br>
              <a:rPr sz="2400"/>
            </a:b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de Joh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petir pas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2" name=""/>
          <p:cNvGraphicFramePr/>
          <p:nvPr/>
        </p:nvGraphicFramePr>
        <p:xfrm>
          <a:off x="2666880" y="838080"/>
          <a:ext cx="5867640" cy="198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838080"/>
                    <a:ext cx="586764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"/>
          <p:cNvSpPr/>
          <p:nvPr/>
        </p:nvSpPr>
        <p:spPr>
          <a:xfrm>
            <a:off x="0" y="2590920"/>
            <a:ext cx="281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Algoritmo</a:t>
            </a:r>
            <a:br>
              <a:rPr sz="2400"/>
            </a:b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de Joh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petir pas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572000" y="1916280"/>
            <a:ext cx="504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300720" y="2205000"/>
            <a:ext cx="576360" cy="43200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067280" y="1773360"/>
            <a:ext cx="576000" cy="43164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1187280" y="3789360"/>
          <a:ext cx="6875640" cy="36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3789360"/>
                    <a:ext cx="687564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1" name=""/>
          <p:cNvGraphicFramePr/>
          <p:nvPr/>
        </p:nvGraphicFramePr>
        <p:xfrm>
          <a:off x="1600200" y="609480"/>
          <a:ext cx="5867280" cy="198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609480"/>
                    <a:ext cx="586728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914400" y="3429000"/>
          <a:ext cx="6858000" cy="2682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6858000" cy="26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"/>
          <p:cNvSpPr/>
          <p:nvPr/>
        </p:nvSpPr>
        <p:spPr>
          <a:xfrm>
            <a:off x="826920" y="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Fin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1752480" y="609480"/>
            <a:ext cx="533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grama Optimo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380880" y="2286000"/>
          <a:ext cx="78948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0"/>
                    <a:ext cx="78948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"/>
          <p:cNvSpPr/>
          <p:nvPr/>
        </p:nvSpPr>
        <p:spPr>
          <a:xfrm>
            <a:off x="684360" y="191628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06560" y="692280"/>
            <a:ext cx="81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Plantas multipropósito (Jobshop plants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os productos no necesariamente siguen la misma secuencia, o requieren de todas las etapas, a través del proceso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403280" y="3068280"/>
            <a:ext cx="5576760" cy="1627560"/>
            <a:chOff x="1403280" y="3068280"/>
            <a:chExt cx="5576760" cy="1627560"/>
          </a:xfrm>
        </p:grpSpPr>
        <p:sp>
          <p:nvSpPr>
            <p:cNvPr id="78" name=""/>
            <p:cNvSpPr/>
            <p:nvPr/>
          </p:nvSpPr>
          <p:spPr>
            <a:xfrm>
              <a:off x="2355480" y="3526200"/>
              <a:ext cx="54324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43760" y="3526200"/>
              <a:ext cx="54324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31680" y="3526200"/>
              <a:ext cx="54432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21400" y="3526200"/>
              <a:ext cx="54324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/>
            <p:nvPr/>
          </p:nvCxnSpPr>
          <p:spPr>
            <a:xfrm>
              <a:off x="5076000" y="3940560"/>
              <a:ext cx="545400" cy="21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83" name=""/>
            <p:cNvCxnSpPr/>
            <p:nvPr/>
          </p:nvCxnSpPr>
          <p:spPr>
            <a:xfrm flipV="1">
              <a:off x="6164280" y="3931200"/>
              <a:ext cx="528120" cy="90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84" name=""/>
            <p:cNvCxnSpPr/>
            <p:nvPr/>
          </p:nvCxnSpPr>
          <p:spPr>
            <a:xfrm>
              <a:off x="1670760" y="3931560"/>
              <a:ext cx="685440" cy="90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grpSp>
          <p:nvGrpSpPr>
            <p:cNvPr id="85" name=""/>
            <p:cNvGrpSpPr/>
            <p:nvPr/>
          </p:nvGrpSpPr>
          <p:grpSpPr>
            <a:xfrm>
              <a:off x="1683000" y="3631320"/>
              <a:ext cx="5022720" cy="10800"/>
              <a:chOff x="1683000" y="3631320"/>
              <a:chExt cx="5022720" cy="10800"/>
            </a:xfrm>
          </p:grpSpPr>
          <p:cxnSp>
            <p:nvCxnSpPr>
              <p:cNvPr id="86" name=""/>
              <p:cNvCxnSpPr/>
              <p:nvPr/>
            </p:nvCxnSpPr>
            <p:spPr>
              <a:xfrm>
                <a:off x="2912040" y="3640320"/>
                <a:ext cx="5450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87" name=""/>
              <p:cNvCxnSpPr/>
              <p:nvPr/>
            </p:nvCxnSpPr>
            <p:spPr>
              <a:xfrm>
                <a:off x="4000320" y="3640320"/>
                <a:ext cx="5450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88" name=""/>
              <p:cNvCxnSpPr/>
              <p:nvPr/>
            </p:nvCxnSpPr>
            <p:spPr>
              <a:xfrm>
                <a:off x="5089320" y="3640320"/>
                <a:ext cx="5450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89" name=""/>
              <p:cNvCxnSpPr/>
              <p:nvPr/>
            </p:nvCxnSpPr>
            <p:spPr>
              <a:xfrm flipV="1">
                <a:off x="6177960" y="3631320"/>
                <a:ext cx="528120" cy="900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90" name=""/>
              <p:cNvCxnSpPr/>
              <p:nvPr/>
            </p:nvCxnSpPr>
            <p:spPr>
              <a:xfrm>
                <a:off x="1683000" y="3631680"/>
                <a:ext cx="685440" cy="900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</p:grpSp>
        <p:sp>
          <p:nvSpPr>
            <p:cNvPr id="91" name=""/>
            <p:cNvSpPr/>
            <p:nvPr/>
          </p:nvSpPr>
          <p:spPr>
            <a:xfrm>
              <a:off x="1403280" y="3250080"/>
              <a:ext cx="271800" cy="13802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93480" y="3255120"/>
              <a:ext cx="286560" cy="13852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" name=""/>
            <p:cNvCxnSpPr>
              <a:stCxn id="78" idx="3"/>
            </p:cNvCxnSpPr>
            <p:nvPr/>
          </p:nvCxnSpPr>
          <p:spPr>
            <a:xfrm flipV="1">
              <a:off x="2898720" y="3928320"/>
              <a:ext cx="223200" cy="104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4" name=""/>
            <p:cNvCxnSpPr>
              <a:endCxn id="80" idx="1"/>
            </p:cNvCxnSpPr>
            <p:nvPr/>
          </p:nvCxnSpPr>
          <p:spPr>
            <a:xfrm>
              <a:off x="4209120" y="3929760"/>
              <a:ext cx="322920" cy="90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5" name=""/>
            <p:cNvCxnSpPr/>
            <p:nvPr/>
          </p:nvCxnSpPr>
          <p:spPr>
            <a:xfrm flipV="1">
              <a:off x="3121200" y="3076200"/>
              <a:ext cx="1800" cy="8312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6" name=""/>
            <p:cNvCxnSpPr/>
            <p:nvPr/>
          </p:nvCxnSpPr>
          <p:spPr>
            <a:xfrm flipV="1">
              <a:off x="4224960" y="3110400"/>
              <a:ext cx="2160" cy="8312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7" name=""/>
            <p:cNvCxnSpPr/>
            <p:nvPr/>
          </p:nvCxnSpPr>
          <p:spPr>
            <a:xfrm>
              <a:off x="3135240" y="3068280"/>
              <a:ext cx="1088280" cy="39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8" name=""/>
            <p:cNvCxnSpPr/>
            <p:nvPr/>
          </p:nvCxnSpPr>
          <p:spPr>
            <a:xfrm flipH="1">
              <a:off x="1680840" y="4205520"/>
              <a:ext cx="662040" cy="176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9" name=""/>
            <p:cNvCxnSpPr/>
            <p:nvPr/>
          </p:nvCxnSpPr>
          <p:spPr>
            <a:xfrm flipH="1">
              <a:off x="2873520" y="4183560"/>
              <a:ext cx="545040" cy="57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0" name=""/>
            <p:cNvCxnSpPr/>
            <p:nvPr/>
          </p:nvCxnSpPr>
          <p:spPr>
            <a:xfrm flipH="1">
              <a:off x="3969000" y="4185000"/>
              <a:ext cx="257400" cy="176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1" name=""/>
            <p:cNvCxnSpPr/>
            <p:nvPr/>
          </p:nvCxnSpPr>
          <p:spPr>
            <a:xfrm flipH="1">
              <a:off x="6145560" y="4219920"/>
              <a:ext cx="545040" cy="57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2" name=""/>
            <p:cNvCxnSpPr/>
            <p:nvPr/>
          </p:nvCxnSpPr>
          <p:spPr>
            <a:xfrm flipH="1">
              <a:off x="5347080" y="4245480"/>
              <a:ext cx="257040" cy="158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3" name=""/>
            <p:cNvCxnSpPr/>
            <p:nvPr/>
          </p:nvCxnSpPr>
          <p:spPr>
            <a:xfrm flipH="1">
              <a:off x="4227840" y="4182120"/>
              <a:ext cx="5040" cy="51408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4" name=""/>
            <p:cNvCxnSpPr/>
            <p:nvPr/>
          </p:nvCxnSpPr>
          <p:spPr>
            <a:xfrm>
              <a:off x="5361120" y="4286160"/>
              <a:ext cx="11520" cy="38052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5" name=""/>
            <p:cNvCxnSpPr/>
            <p:nvPr/>
          </p:nvCxnSpPr>
          <p:spPr>
            <a:xfrm flipH="1">
              <a:off x="4195080" y="4681800"/>
              <a:ext cx="1177200" cy="126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puest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Estud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Diseño óptimo de una planta batch multi-propósito:</a:t>
            </a: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Producción de proteínas recombin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Montagna J.M., Vecchietti A.R., Iribarren O.A., Pinto J.M., Asenjo J.A (2000) “Optimal design of protein production plants with time and size factor process models” Biotechnol. Prog 2000, 16, 228-23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forme Fin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Debe inclui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-Programación de las operaciones b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609480" y="-252360"/>
            <a:ext cx="7543800" cy="70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timo uso de recurs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materiales, energía, equipos, tiempo y recursos human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Times New Roman"/>
              </a:rPr>
              <a:t>Comparación entre procesos continuos y discontinu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543800" cy="25160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2860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CESO CONTINU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4572000"/>
            <a:ext cx="2895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Todas las operaciones se realizan en el mismo equ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04920" y="2762280"/>
            <a:ext cx="8839080" cy="3744720"/>
            <a:chOff x="304920" y="2762280"/>
            <a:chExt cx="8839080" cy="3744720"/>
          </a:xfrm>
        </p:grpSpPr>
        <p:grpSp>
          <p:nvGrpSpPr>
            <p:cNvPr id="113" name=""/>
            <p:cNvGrpSpPr/>
            <p:nvPr/>
          </p:nvGrpSpPr>
          <p:grpSpPr>
            <a:xfrm>
              <a:off x="304920" y="2762280"/>
              <a:ext cx="8839080" cy="3744720"/>
              <a:chOff x="304920" y="2762280"/>
              <a:chExt cx="8839080" cy="3744720"/>
            </a:xfrm>
          </p:grpSpPr>
          <p:pic>
            <p:nvPicPr>
              <p:cNvPr id="11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048120" y="2762280"/>
                <a:ext cx="6095880" cy="374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"/>
              <p:cNvSpPr/>
              <p:nvPr/>
            </p:nvSpPr>
            <p:spPr>
              <a:xfrm>
                <a:off x="304920" y="3429000"/>
                <a:ext cx="7772400" cy="83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PROCESO DISCONTINUO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16" name=""/>
            <p:cNvGraphicFramePr/>
            <p:nvPr/>
          </p:nvGraphicFramePr>
          <p:xfrm>
            <a:off x="6400800" y="3886200"/>
            <a:ext cx="290520" cy="971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400800" y="3886200"/>
                      <a:ext cx="290520" cy="9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3T19:51:52Z</dcterms:created>
  <dc:creator>Miguel</dc:creator>
  <dc:description/>
  <dc:language>en-US</dc:language>
  <cp:lastModifiedBy>Ing Quimica</cp:lastModifiedBy>
  <cp:lastPrinted>2000-11-24T00:59:13Z</cp:lastPrinted>
  <dcterms:modified xsi:type="dcterms:W3CDTF">2006-11-03T20:40:41Z</dcterms:modified>
  <cp:revision>109</cp:revision>
  <dc:subject/>
  <dc:title>Principios y Metodología de Modelación</dc:title>
</cp:coreProperties>
</file>