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1C67-6AD2-4504-8515-213369439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8D09-C2E0-4997-95A3-A9E7F037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900F-7817-4BBD-A866-EEE2A707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7208-BEFC-4017-89CD-779DCB41D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A75C-3BB2-407F-A0C2-4CDBD4849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A1A4-A3FE-427A-B715-8F52575C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7125-640C-4C41-A257-3E4EC400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C0D2-DB6C-4AC0-BF21-D6375D46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3A13-C0AA-4030-8A0E-BDD5B8B0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7A08-3692-4954-9F46-6D8BA74F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F136-CDAA-4825-981F-3B614CE8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42BF-DB05-4371-BB14-03643DD5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B071-D1CC-425C-BEA7-EFCBF243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DE80-1E92-4E91-9EB0-6F3DCC01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E6A1-ABC3-4079-9535-FCD3CB57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0ED7-5AF8-4FB7-8646-C1DD0C17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AE2F-BADF-4EBD-9222-0730E71B7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338A-5429-4D93-A33D-2E004F68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53FB-8F2C-40D8-B049-805FCAAA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F615-52C4-417D-B7C7-8BFE8511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B196-9865-4CC2-A495-21501D94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EDDB-10F2-4E0A-AD47-A976D6EF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7C6E-E3CD-4EBB-8A83-04C6A11D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EEDB-8592-4F01-8E68-8153D121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5938-08C8-47B6-B2F4-EEBEF8A3B72A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E7AB-D1C7-458D-BC6B-AB925004823C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DESTILACION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aboratorio de Ingeniería Química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IQ-53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orre de destila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Pruebas experimenta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Separación de una mezcla etanol-agua en una columna de destilación de plat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ntro de las pruebas experimentales que se pueden realizar se puede mencionar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terminar la razón de reflujo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Construir un diagrama de operación (X-Y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terminar el número de platos teóric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Determinar la eficiencia de la columna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1024560"/>
            <a:ext cx="8637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RODUCCIÓ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La destilación se define como la separación de los componentes más volátiles de los menos volátiles mediante un proceso de vaporización y condensación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La destilación es el método más usado para separar mezclas líquidas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El equilibrio líquido vapor es la relación de la composición de la fase de vapor y la fase de líquido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Datos confiables de equilibrio líquido vapor son básicos para el diseño de una columna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00200" y="1143000"/>
            <a:ext cx="5987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Proceso de Destilación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766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9810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stilación simple: se utiliza una etapa de equilibrio simple para obtener la separació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33520" y="2971800"/>
            <a:ext cx="699912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83808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828800"/>
            <a:ext cx="822960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raccionamiento de múltiple etapa: se usa para incrementar la separación respecto de la destilación simpl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819520" y="2743200"/>
            <a:ext cx="372744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1024560"/>
            <a:ext cx="8637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Método gráfico de McCabe-Thiel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14400" y="2057400"/>
            <a:ext cx="3668760" cy="3716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562720" y="3276720"/>
            <a:ext cx="200016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Las columnas de destilación (también llamadas torres) proporcionan el área de contacto entre las corrientes de líquido descendente y vapor ascendente y por lo tanto constituyen una aproximación hacia el equilibrio líquido-vapor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lumnas de platos: existen dos tipos de columna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lato de flujo cruzado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lato a contra flujo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6160" y="1041480"/>
            <a:ext cx="381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LUMNAS DE DESTIL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Tipos de plato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004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8" name="platborb" descr="plato de barboteo"/>
          <p:cNvPicPr/>
          <p:nvPr/>
        </p:nvPicPr>
        <p:blipFill>
          <a:blip r:embed="rId2"/>
          <a:stretch/>
        </p:blipFill>
        <p:spPr>
          <a:xfrm>
            <a:off x="914400" y="2057400"/>
            <a:ext cx="1743120" cy="990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7004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latvalv" descr="plato de válvulas"/>
          <p:cNvPicPr/>
          <p:nvPr/>
        </p:nvPicPr>
        <p:blipFill>
          <a:blip r:embed="rId3"/>
          <a:stretch/>
        </p:blipFill>
        <p:spPr>
          <a:xfrm>
            <a:off x="3124080" y="2057400"/>
            <a:ext cx="1743120" cy="990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7004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2" name="platperf" descr="plato perforado"/>
          <p:cNvPicPr/>
          <p:nvPr/>
        </p:nvPicPr>
        <p:blipFill>
          <a:blip r:embed="rId4"/>
          <a:stretch/>
        </p:blipFill>
        <p:spPr>
          <a:xfrm>
            <a:off x="5562720" y="2133720"/>
            <a:ext cx="1743120" cy="990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4920" y="3639600"/>
            <a:ext cx="86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Borboteo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   Válvulas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Perforado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84132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Economía de la destilación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quilibrio líquido-vapor favorabl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posición de la alimentació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úmero de componentes a separar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querimientos de purez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esión absoluta de la destilació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21:08:52Z</dcterms:created>
  <dc:creator/>
  <dc:description/>
  <dc:language>en-US</dc:language>
  <cp:lastModifiedBy>Angel Sanhueza</cp:lastModifiedBy>
  <dcterms:modified xsi:type="dcterms:W3CDTF">2006-08-16T16:37:45Z</dcterms:modified>
  <cp:revision>28</cp:revision>
  <dc:subject/>
  <dc:title>Electro-obtención (EW)</dc:title>
</cp:coreProperties>
</file>