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156-9F9B-44A7-ADEE-E3DEEEE7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886-1CCD-489D-A2DF-B4F986BD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ED7-B985-4762-96F8-6FA431AC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562-7ED4-4EC4-9722-0CF10C13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BB22-9583-4BC1-AC25-6581A144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137E-BF2E-420F-A393-9643CF54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807F-4013-4664-B9BA-C008C7B6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4F09-3139-44C3-94C9-604E00D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002F-EA3C-4A2D-A9BD-863025F5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DA87-257D-48E7-8911-29F43B8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D77C-25EB-41B4-8667-4144621E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414-523D-4B06-B3EA-B4B73B85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806-8B9F-45EA-AC64-5FAEE8F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4A01-3802-4D1B-8566-E715885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EBED-A07E-487D-965B-2FF28F64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3108-DBC9-419A-A3D7-3531A52C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8C1B-7CDD-40DF-8ACC-33D30FFA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049-FB92-4717-94BE-3955600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BF7B-4602-4ADA-8385-1C943FB4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60D-737D-4BA3-8A4F-600066B5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E3B-7993-4CB8-8DE0-5753C75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612-437A-49B7-9E57-F59925A9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695-EBC1-4A9E-BADC-5C3AAE4E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FD9-D6F5-46F5-ACB5-BED452AD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34C9-D219-4660-984A-77595655590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9E53-0AD8-4C28-8552-47B615878AA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ESTILAC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orre de destil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paración de una mezcla etanol-agua en una columna de destilación de plat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razón de refluj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struir un diagrama de operación (X-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el número de platos teóric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terminar la eficiencia de la column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se define como la separación de los componentes más volátiles de los menos volátiles mediante un proceso de vaporización y condensació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es el método más usado para separar mezclas líquid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 equilibrio líquido vapor es la relación de la composición de la fase de vapor y la fase de líqui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atos confiables de equilibrio líquido vapor son básicos para el diseño de una column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87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de Destilació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981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ilación simple: se utiliza una etapa de equilibrio simple para obtener la separ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6999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82880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ccionamiento de múltiple etapa: se usa para incrementar la separación respecto de la destilación sim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27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Método gráfico de McCabe-Thie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6876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0001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as columnas de destilación (también llamadas torres) proporcionan el área de contacto entre las corrientes de líquido descendente y vapor ascendente y por lo tanto constituyen una aproximación hacia el equilibrio líquido-vapo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platos: existen dos tipos de columna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de flujo cruz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a contra fluj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160" y="104148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DESTIL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pla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latborb" descr="plato de barboteo"/>
          <p:cNvPicPr/>
          <p:nvPr/>
        </p:nvPicPr>
        <p:blipFill>
          <a:blip r:embed="rId2"/>
          <a:stretch/>
        </p:blipFill>
        <p:spPr>
          <a:xfrm>
            <a:off x="91440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latvalv" descr="plato de válvulas"/>
          <p:cNvPicPr/>
          <p:nvPr/>
        </p:nvPicPr>
        <p:blipFill>
          <a:blip r:embed="rId3"/>
          <a:stretch/>
        </p:blipFill>
        <p:spPr>
          <a:xfrm>
            <a:off x="312408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latperf" descr="plato perforado"/>
          <p:cNvPicPr/>
          <p:nvPr/>
        </p:nvPicPr>
        <p:blipFill>
          <a:blip r:embed="rId4"/>
          <a:stretch/>
        </p:blipFill>
        <p:spPr>
          <a:xfrm>
            <a:off x="5562720" y="2133720"/>
            <a:ext cx="1743120" cy="99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639600"/>
            <a:ext cx="86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Borbote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  Válvulas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erforad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conomía de la destila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quilibrio líquido-vapor favor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sición de la aliment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úmero de componentes a separ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erimientos de pure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ión absoluta de la destil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Angel Sanhueza</cp:lastModifiedBy>
  <dcterms:modified xsi:type="dcterms:W3CDTF">2006-08-16T16:37:45Z</dcterms:modified>
  <cp:revision>28</cp:revision>
  <dc:subject/>
  <dc:title>Electro-obtención (EW)</dc:title>
</cp:coreProperties>
</file>