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EB1-D95C-48ED-A51A-6EDE2F63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40A-DECD-4BF3-BE47-5FF73D33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D57-8211-4B60-B7DB-3A7C732D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055-62B3-44F5-ADAF-F57641B6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C264-B2FA-44E4-9143-F5FB9474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9AC0-3011-41D0-82CF-DA3F17D5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AA11-C843-4321-A880-8C5B8D96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FD9B-78B6-4711-8BCC-D2D0C409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489D-B0AE-46FA-8298-12BEC20B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AB60-BF0B-4C5B-82C0-8B06F56E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FC42-8DFF-4697-A353-E6785375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571-E1F4-42C7-AD6B-3BAA71B3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B497-C81B-401A-9EDD-C9C9C555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DE78-39D6-45F0-A6EE-9656BDEC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C849-D56A-4385-81C6-64B324D3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7453-F708-4F69-A0AC-24A0EC87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02A0-F829-4C77-AA92-5110AF35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DAC-B1CC-4CDF-AA00-EC82A7EF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ECB-067E-424B-8E1D-6C8878E4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6DE-3211-44ED-93BA-5B6C38C8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A03-C5BA-485E-88A8-77963A16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CA4-1F0A-4A28-AFC9-91915AD7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5D7-7EF4-425A-8883-CE1D746D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224-CA3B-466F-BB91-DD9FB721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7c8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7c8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9293-B02D-46F4-A092-4328D26518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7c89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575C-9B13-4CC6-8F45-0FBC60B44B8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"/>
              </a:rPr>
              <a:t>Columna de Absorción</a:t>
            </a:r>
            <a:br>
              <a:rPr sz="3600"/>
            </a:b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1076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6600cc"/>
                </a:solidFill>
                <a:latin typeface="Arial"/>
              </a:rPr>
              <a:t>Importancia de Columna de Absorción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Retirar contaminantes gaseosos de una corriente producto que pueden afectar a la especificación final o grado de pureza. (por combustión, eliminar olores, humo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8" name="" descr="Torre de absorción final"/>
          <p:cNvPicPr/>
          <p:nvPr/>
        </p:nvPicPr>
        <p:blipFill>
          <a:blip r:embed="rId1"/>
          <a:stretch/>
        </p:blipFill>
        <p:spPr>
          <a:xfrm>
            <a:off x="7093080" y="4005360"/>
            <a:ext cx="1877760" cy="2852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35640" y="4076640"/>
            <a:ext cx="12193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Torre de absorción final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59640" y="42210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1" name="" descr="Torres de secado y absorción"/>
          <p:cNvPicPr/>
          <p:nvPr/>
        </p:nvPicPr>
        <p:blipFill>
          <a:blip r:embed="rId2"/>
          <a:stretch/>
        </p:blipFill>
        <p:spPr>
          <a:xfrm>
            <a:off x="1547640" y="4149720"/>
            <a:ext cx="1913040" cy="2708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067280" y="5877000"/>
            <a:ext cx="1295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Torres de secado y absorción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6165720"/>
            <a:ext cx="533160" cy="304920"/>
          </a:xfrm>
          <a:prstGeom prst="leftArrow">
            <a:avLst>
              <a:gd name="adj1" fmla="val 50000"/>
              <a:gd name="adj2" fmla="val 43713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Montaje Experimental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2362320"/>
          <a:ext cx="592776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592776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43000" y="4800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stanque alimentación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876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lo hidraulico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3733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 aire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52578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ircuito aire comprimido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27432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on regulador de presión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50292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omba Centrífuga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38862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038480"/>
            <a:ext cx="152640" cy="381240"/>
          </a:xfrm>
          <a:prstGeom prst="upArrow">
            <a:avLst>
              <a:gd name="adj1" fmla="val 50000"/>
              <a:gd name="adj2" fmla="val 62441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800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30481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6600cc"/>
                </a:solidFill>
                <a:latin typeface="Arial"/>
              </a:rPr>
              <a:t>Columna de Absorción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781680" y="20574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0400" y="2514600"/>
            <a:ext cx="2543040" cy="339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33520" y="396252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440" y="2514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6600cc"/>
                </a:solidFill>
                <a:latin typeface="Arial"/>
              </a:rPr>
              <a:t>Preguntas o Cometarios?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01:50:25Z</dcterms:created>
  <dc:creator>Consuelo Sepulveda</dc:creator>
  <dc:description/>
  <dc:language>en-US</dc:language>
  <cp:lastModifiedBy>Marcela Valle</cp:lastModifiedBy>
  <dcterms:modified xsi:type="dcterms:W3CDTF">2006-08-16T04:20:22Z</dcterms:modified>
  <cp:revision>15</cp:revision>
  <dc:subject/>
  <dc:title>Torre de Absorcion</dc:title>
</cp:coreProperties>
</file>