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097-69B8-4583-81E0-5850F528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DB7-F3DE-41E7-9C50-D2A3D145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166-8AA7-48BD-9B33-FFA42547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C9E-C418-4D0B-BDDB-42D703F6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1CEC-8123-49CE-A581-DD614D90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9061-4612-4BD3-BF63-0908FD4D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F616-1732-44F8-B4CA-5DA8D8C1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1E20-463F-4AB2-A8AC-65D7CB22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DE4C-AAAA-4C8D-ADFE-0F42C7A4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93AA-535B-45B1-AC66-1F055008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CC9C-4D91-4F0B-AD38-EB28AB47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FDA-C9E6-4D39-8B7F-8B526B1B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B4A5-F35F-45D3-914C-418A96F5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E7B8-B18E-4F19-84E9-2FC87A6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FBF9-7343-479B-AAE2-2B1EEA6E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EE8A-1CCE-46E5-82AA-8570EEC0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F2BB-EAD8-42E1-87C7-1B8EB0B3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F92-496B-46A2-A896-ADABA23F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3BD-7282-4A4D-B8AF-E71091DC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619-0F98-4E49-872A-7E0F7711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179-CFA3-4D32-BDD9-CEAD8712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2FB-0748-4156-907A-16D13AF3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C52-38B0-4668-9C05-093D3B6D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322-9EE3-4BAB-91FB-E57DD853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7c8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7c8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DEBD-C425-44C0-A4FA-4B94E18966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7c89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615C-4372-48DA-89E9-9DD5F21560D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"/>
              </a:rPr>
              <a:t>Columna de Absorción</a:t>
            </a:r>
            <a:br>
              <a:rPr sz="3600"/>
            </a:b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1076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Importancia de Columna de Absorción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Retirar contaminantes gaseosos de una corriente producto que pueden afectar a la especificación final o grado de pureza. (por combustión, eliminar olores, humo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8" name="" descr="Torre de absorción final"/>
          <p:cNvPicPr/>
          <p:nvPr/>
        </p:nvPicPr>
        <p:blipFill>
          <a:blip r:embed="rId1"/>
          <a:stretch/>
        </p:blipFill>
        <p:spPr>
          <a:xfrm>
            <a:off x="7093080" y="4005360"/>
            <a:ext cx="1877760" cy="2852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35640" y="4076640"/>
            <a:ext cx="12193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Torre de absorción final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59640" y="42210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1" name="" descr="Torres de secado y absorción"/>
          <p:cNvPicPr/>
          <p:nvPr/>
        </p:nvPicPr>
        <p:blipFill>
          <a:blip r:embed="rId2"/>
          <a:stretch/>
        </p:blipFill>
        <p:spPr>
          <a:xfrm>
            <a:off x="1547640" y="4149720"/>
            <a:ext cx="1913040" cy="2708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067280" y="5877000"/>
            <a:ext cx="1295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Verdana"/>
              </a:rPr>
              <a:t>Torres de secado y absorc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6165720"/>
            <a:ext cx="533160" cy="304920"/>
          </a:xfrm>
          <a:prstGeom prst="leftArrow">
            <a:avLst>
              <a:gd name="adj1" fmla="val 50000"/>
              <a:gd name="adj2" fmla="val 43713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Montaje Experimental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3880" y="2362320"/>
          <a:ext cx="592776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62320"/>
                    <a:ext cx="592776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4800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stanque alimentac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876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Sello hidraulico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7339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 aire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52578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ircuito aire comprimido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27432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on regulador de presión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50292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omba Centrífuga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388620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038480"/>
            <a:ext cx="152640" cy="381240"/>
          </a:xfrm>
          <a:prstGeom prst="upArrow">
            <a:avLst>
              <a:gd name="adj1" fmla="val 50000"/>
              <a:gd name="adj2" fmla="val 62441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48006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3048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7c89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Columna de Absorción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0" y="5029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781680" y="205740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3200400" y="2514600"/>
            <a:ext cx="2543040" cy="339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3520" y="3962520"/>
            <a:ext cx="20001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440" y="2514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6600cc"/>
                </a:solidFill>
                <a:latin typeface="Arial"/>
              </a:rPr>
              <a:t>Preguntas o Cometarios?</a:t>
            </a:r>
            <a:endParaRPr b="1" lang="en-US" sz="3600" spc="-1" strike="noStrike">
              <a:solidFill>
                <a:srgbClr val="6600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24080" y="42670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01:50:25Z</dcterms:created>
  <dc:creator>Consuelo Sepulveda</dc:creator>
  <dc:description/>
  <dc:language>en-US</dc:language>
  <cp:lastModifiedBy>Marcela Valle</cp:lastModifiedBy>
  <dcterms:modified xsi:type="dcterms:W3CDTF">2006-08-16T04:20:22Z</dcterms:modified>
  <cp:revision>15</cp:revision>
  <dc:subject/>
  <dc:title>Torre de Absorcion</dc:title>
</cp:coreProperties>
</file>