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E63-A19D-4370-A2AB-CD4DBE4D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54C-E3F1-4CD4-95B7-C7A4D04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E7B-993D-4D1D-B6AF-59C819AA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CAB-2DFE-486C-A752-46A37C07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9D49-9994-428E-A5D4-943A7FF4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F284-BDE2-4E92-9472-2C46DED0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6318-BA07-43C3-87DB-5BCAEE06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6E8E-F06A-48DC-A21D-38101008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57A5-2A90-4D52-B73A-B5A0C69B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DB6A-A0FA-4EB6-8D26-A8573E9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70F4-27CC-4074-9252-A4383DC4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107-E460-4704-8CF5-BCE44D17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D0F1-D781-43C1-9AB7-8A3B7225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8361-A33E-4E7A-8A0B-012A762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10DB-63C6-4B12-A73C-8F3E7ABA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7DF1-5A27-47CE-9C54-2E1FDFB2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786F-9085-4A69-AF31-EF8B2149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F3E-EC68-4CBB-A6A7-8E70A682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680-6138-4B2F-B170-6191B95D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EAE-F6B7-4D7E-922C-32B734C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6AD-98BB-47E6-88C5-98EE2E9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C89-5758-4E3F-9944-F79E452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C5F-EC9E-4D61-A352-1ACCA6F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CBE-00F4-4950-9B98-C0AF140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91CB-76DE-4D79-88D6-525365B57B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7c8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7B1-A43A-4618-B080-D18D7FFA38E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"/>
              </a:rPr>
              <a:t>Columna de Absorción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1076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Importancia de 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Retirar contaminantes gaseosos de una corriente producto que pueden afectar a la especificación final o grado de pureza. (por combustión, eliminar olores, humo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Torre de absorción final"/>
          <p:cNvPicPr/>
          <p:nvPr/>
        </p:nvPicPr>
        <p:blipFill>
          <a:blip r:embed="rId1"/>
          <a:stretch/>
        </p:blipFill>
        <p:spPr>
          <a:xfrm>
            <a:off x="7093080" y="4005360"/>
            <a:ext cx="1877760" cy="285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35640" y="4076640"/>
            <a:ext cx="1219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 de absorción final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4221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1" name="" descr="Torres de secado y absorción"/>
          <p:cNvPicPr/>
          <p:nvPr/>
        </p:nvPicPr>
        <p:blipFill>
          <a:blip r:embed="rId2"/>
          <a:stretch/>
        </p:blipFill>
        <p:spPr>
          <a:xfrm>
            <a:off x="1547640" y="4149720"/>
            <a:ext cx="191304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67280" y="5877000"/>
            <a:ext cx="1295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s de secado y absor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616572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Montaje Experimental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362320"/>
          <a:ext cx="59277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9277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stanque alimenta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876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lo hidraulic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733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 aire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ircuito aire comprimid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743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n regulador de pres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029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omba Centrífug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38862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038480"/>
            <a:ext cx="152640" cy="381240"/>
          </a:xfrm>
          <a:prstGeom prst="upArrow">
            <a:avLst>
              <a:gd name="adj1" fmla="val 50000"/>
              <a:gd name="adj2" fmla="val 62441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800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3048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0400" y="2514600"/>
            <a:ext cx="2543040" cy="33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440" y="2514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Preguntas o Cometarios?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01:50:25Z</dcterms:created>
  <dc:creator>Consuelo Sepulveda</dc:creator>
  <dc:description/>
  <dc:language>en-US</dc:language>
  <cp:lastModifiedBy>Marcela Valle</cp:lastModifiedBy>
  <dcterms:modified xsi:type="dcterms:W3CDTF">2006-08-16T04:20:22Z</dcterms:modified>
  <cp:revision>15</cp:revision>
  <dc:subject/>
  <dc:title>Torre de Absorcion</dc:title>
</cp:coreProperties>
</file>