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643-229C-41B1-862A-D2EA20FB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8FC-8CB9-47B0-84AD-E50B4B08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4D8-8F64-4E74-8A0C-FE910999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286-721A-412D-90B4-EF13AA9C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F06-EB40-41A2-ABA1-6E98EDFB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6D5-7714-476D-805A-2B81EB31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044-9CC1-439B-AF0B-C33A2BD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A8E-9E05-41BC-91E4-264F16F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708-6A04-4A4B-871F-4C435B24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EF5-24ED-49C5-AE39-E1F3C83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FD2-584F-4B51-A527-B3442E8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036-7F94-4C9F-8239-E029AD8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8816-9C57-4D48-B219-2915676087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18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6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ance de materia en una torre de enfriamiento 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y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 refieren a la entrada y a la salida respect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lance de energía global 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 la entalpía de la corriente respecti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anea de masa y de ca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operaciones más sencillas en las que se presenta una transferencia simultanea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humidif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s operaciones solamente está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uesta por un gas incondensable a temperatura ambiente y en el que la primera 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uentra como vap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 El equipo en el que se realiza esta operación es conocido com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rre de Enfriami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corresponde a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rellena cilíndric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ltura del relleno es 40" 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ámetro de la columna es 6"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ll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ching de 3/4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lindr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do por un estan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statizado, una bomb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ífuga, tuberías de cob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", una manguera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no de líquido 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nqu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laca orificio (conectada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anómetro de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, C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6-08-06T21:42:25Z</dcterms:modified>
  <cp:revision>10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