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E10-622E-4727-95C0-95A54A72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D3B-02AA-463D-9446-656C8C1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1DF-39AD-4340-85E2-E8DD1DC7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B8A-C2D8-4837-89FC-2ECE97F5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797-84C8-4192-BC62-96C3D4B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34E-01DA-4FC0-BDC0-54E211F0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B00-F5DC-41D1-8EE4-D3FA93B7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53C-2B8D-4120-9954-1673078D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6AA-F402-4E3C-9BEC-9DAE8E3C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1AB-ED05-4257-B223-467FB7B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9DB-A631-4285-B7A6-EDE2D04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326-AE3C-49A7-AA20-06FA48C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EE7-A0EE-4D37-88BA-3CD389E294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18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6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6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ance de materia en una torre de enfriamiento 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 el gasto másico del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y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 refieren a la entrada y a la salida respect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lance de energía global 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*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L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 la entalpía de la corriente respecti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anea de masa y de ca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operaciones más sencillas en las que se presenta una transferencia simultanea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humidificació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stas operaciones solamente está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uesta por un gas incondensable a temperatura ambiente y en el que la primera 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uentra como vap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 El equipo en el que se realiza esta operación es conocido com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rre de Enfriami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corresponde a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rellena cilíndric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altura del relleno es 40" 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ámetro de la columna es 6"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ll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ching de 3/4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lindr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ido por un estan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statizado, una bomb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ífuga, tuberías de cob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", una manguera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no de líquido 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nque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laca orificio (conectada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anómetro de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, C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6-08-06T21:42:25Z</dcterms:modified>
  <cp:revision>10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