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372-0A73-42DE-B3D2-8010FEEC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6DC-506B-4AE2-81F5-9B6C4B57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F38D-FC30-46E4-A387-28027ABB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666-C71C-4669-A539-A09DB281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E46-4826-4A98-BEB6-A571F037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FDB-7CAB-4F17-BB37-30B853EF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620-1069-4418-A9D6-609CF18D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9FB-ECA7-4887-8ED9-EBF6E21E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DC2-7DDB-4FD0-81BE-66F43B28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AE9-9F98-4B72-9B55-C6B561F1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08B-6B31-47C2-83A8-0C245B4E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49BF-E196-4FE0-BEBD-D9D35E46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BF80-7FB9-48C9-A2C8-D1FE56FC8F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 experiencia está diseñada para poder estudiar los fenómenos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encia simultánea d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er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libración de las placas orificio</a:t>
            </a:r>
            <a:br>
              <a:rPr sz="4400"/>
            </a:br>
            <a:br>
              <a:rPr sz="18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1) Aire: Q (m</a:t>
            </a:r>
            <a:r>
              <a:rPr b="1" lang="es-E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/hr) = 3.01 ×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600" spc="-1" strike="noStrike" baseline="30000">
                <a:solidFill>
                  <a:srgbClr val="000000"/>
                </a:solidFill>
                <a:latin typeface="Arial"/>
              </a:rPr>
              <a:t>0.49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,</a:t>
            </a:r>
            <a:br>
              <a:rPr sz="36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 (cm. CCl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), a 18º C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2) Agua: Q (L/min.) = 1.04 ×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600" spc="-1" strike="noStrike" baseline="30000">
                <a:solidFill>
                  <a:srgbClr val="000000"/>
                </a:solidFill>
                <a:latin typeface="Arial"/>
              </a:rPr>
              <a:t>0.51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 (cm. Hg.)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43280" y="368280"/>
            <a:ext cx="5256000" cy="612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balance de materia en una torre de enfriamiento 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s el gasto másico del 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s el gasto másico del a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y 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e refieren a la entrada y a la salida respectiv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balance de energía global 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G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L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G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L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s la entalpía de la corriente respectiv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BLIOGRAF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eybal, R.E.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Operaciones de Transferencia de Masa.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ª edición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 Graw Hill. México, 19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Ketta, R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cyclopedia of Chemical Processing &amp; Design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el Dekker In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. 11. New York, 19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ust, A.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Principios de Operaciones Unitarias.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ª edición. C.E.C.S.A. México, 196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ry, R. &amp; Green, D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ry’s ChemicalEngineer’sHandboo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ª edi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 Graw Hill. NewYork, 198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ificar los balances de masa y de energía en una torre de enfriamien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icar las variables que afectan su operac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render el proceso de enfriamiento como una transferencia simultanea de masa y de cal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operaciones más sencillas en las que se presenta una transferencia simultanea 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a y calor son 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umidificació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humidificació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stas operaciones solamente está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olucradas dos fases y dos componentes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a fase líqui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agua generalmente) y un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seos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ompuesta por un gas incondensable a temperatura ambiente y en el que la primera 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uentra como vap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o se logra mediante el contacto directo con aire, el cual se encuentra a una temperatura menor que el agua. El equipo en el que se realiza esta operación es conocido como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orre de Enfriamien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equipo corresponde a un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a rellena cilíndrica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altura del relleno es 40" y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ámetro de la columna es 6"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relleno corresponde 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llo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sching de 3/4"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ilindro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ecos de vidrio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ircuito de agua está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ituido por un estanqu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ostatizado, una bomb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ífuga, tuberías de cob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", una manguera d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orno de líquido a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nque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placa orificio (conectada 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manómetro de H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ircuito de aire está conformado por un compresor, tuberías de cobre de 3/4", una placa orificio (conectada a un manómetro de, CC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y dos pares de termocuplas, a la entrada y salida del aire de la tor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más se dispone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ocuplas a la entra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a la salida de la columna par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r la temperatura del agua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20:03:50Z</dcterms:created>
  <dc:creator>georgette</dc:creator>
  <dc:description/>
  <dc:language>en-US</dc:language>
  <cp:lastModifiedBy>georgette</cp:lastModifiedBy>
  <dcterms:modified xsi:type="dcterms:W3CDTF">2006-08-06T21:42:25Z</dcterms:modified>
  <cp:revision>10</cp:revision>
  <dc:subject/>
  <dc:title>Esta experiencia está diseñada para poder estudiar los fenómenos de transferencia simultánea de calor y materia que ocurren durante una operación de humidificación de aire utilizando agua caliente.</dc:title>
</cp:coreProperties>
</file>