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B98B-E6F9-4957-9B3D-4DACCB541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FAF5-2D65-406A-A784-46EB3FAA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9E84-F5F1-4F0B-BB56-9C84CC539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E9BC-EC74-4692-9EE6-E622484D7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C89B-2EF9-4879-A025-AFADC3D8D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8348-FFFF-497E-9483-73F128123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6194-8D87-47F0-9F10-61A88FEDC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57E1-1773-4CA3-B72F-0BF220774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723D-F663-4DD6-988D-1F5B21F4E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1913-A925-4A04-AB7B-735EE7F6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AC6A-9B47-4E96-B92B-15F59D90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BDB7-DFB9-4382-B56E-D1722CD3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84C42-4879-4544-BCB7-FB5BFE679CC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a experiencia está diseñada para poder estudiar los fenómenos d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erencia simultánea de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lo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teri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alibración de las placas orificio</a:t>
            </a:r>
            <a:br>
              <a:rPr sz="4400"/>
            </a:br>
            <a:br>
              <a:rPr sz="18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1) Aire: Q (m</a:t>
            </a:r>
            <a:r>
              <a:rPr b="1" lang="es-ES" sz="3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/hr) = 3.01 ×</a:t>
            </a:r>
            <a:r>
              <a:rPr b="1" lang="el-GR" sz="36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" sz="3600" spc="-1" strike="noStrike" baseline="30000">
                <a:solidFill>
                  <a:srgbClr val="000000"/>
                </a:solidFill>
                <a:latin typeface="Arial"/>
              </a:rPr>
              <a:t>0.49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,</a:t>
            </a:r>
            <a:br>
              <a:rPr sz="36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l-GR" sz="36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h (cm. CCl</a:t>
            </a:r>
            <a:r>
              <a:rPr b="0" lang="es-E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), a 18º C 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2) Agua: Q (L/min.) = 1.04 ×</a:t>
            </a:r>
            <a:r>
              <a:rPr b="1" lang="el-GR" sz="36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" sz="3600" spc="-1" strike="noStrike" baseline="30000">
                <a:solidFill>
                  <a:srgbClr val="000000"/>
                </a:solidFill>
                <a:latin typeface="Arial"/>
              </a:rPr>
              <a:t>0.51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0" lang="el-GR" sz="36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h (cm. Hg.)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943280" y="368280"/>
            <a:ext cx="5256000" cy="612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 balance de materia en una torre de enfriamiento 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+ 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G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+ 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nd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es el gasto másico del a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es el gasto másico del agu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 y 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se refieren a la entrada y a la salida respectiv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balance de energía global 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*H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G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+ L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*H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L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= G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*H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G2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+ L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*H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L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nde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es la entalpía de la corriente respectiv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IBLIOGRAF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reybal, R.E.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Operaciones de Transferencia de Masa.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ª edición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 Graw Hill. México, 198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Ketta, R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cyclopedia of Chemical Processing &amp; Design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el Dekker In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. 11. New York, 19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oust, A.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Principios de Operaciones Unitarias.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ª edición. C.E.C.S.A. México, 196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ry, R. &amp; Green, D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erry’s ChemicalEngineer’sHandbook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ª edició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 Graw Hill. NewYork, 198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rificar los balances de masa y de energía en una torre de enfriamient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icar las variables que afectan su operació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render el proceso de enfriamiento como una transferencia simultanea de masa y de calo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 operaciones más sencillas en las que se presenta una transferencia simultanea 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a y calor son l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umidificació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y la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shumidificació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estas operaciones solamente está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olucradas dos fases y dos componentes: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na fase líquid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(agua generalmente) y una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as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aseos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ompuesta por un gas incondensable a temperatura ambiente y en el que la primera 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cuentra como vapo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o se logra mediante el contacto directo con aire, el cual se encuentra a una temperatura menor que el agua. El equipo en el que se realiza esta operación es conocido como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Torre de Enfriamient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equipo corresponde a un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umna rellena cilíndrica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altura del relleno es 40" y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ámetro de la columna es 6"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relleno corresponde 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llo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sching de 3/4"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cilindro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ecos de vidrio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circuito de agua está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ituido por un estanqu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ostatizado, una bomb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ífuga, tuberías de cob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4", una manguera d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torno de líquido al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anque,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a placa orificio (conectada 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 manómetro de H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circuito de aire está conformado por un compresor, tuberías de cobre de 3/4", una placa orificio (conectada a un manómetro de, CCl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 y dos pares de termocuplas, a la entrada y salida del aire de la torr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emás se dispone d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ocuplas a la entrad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 a la salida de la columna para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r la temperatura del agua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8T20:03:50Z</dcterms:created>
  <dc:creator>georgette</dc:creator>
  <dc:description/>
  <dc:language>en-US</dc:language>
  <cp:lastModifiedBy>georgette</cp:lastModifiedBy>
  <dcterms:modified xsi:type="dcterms:W3CDTF">2006-08-06T21:42:25Z</dcterms:modified>
  <cp:revision>10</cp:revision>
  <dc:subject/>
  <dc:title>Esta experiencia está diseñada para poder estudiar los fenómenos de transferencia simultánea de calor y materia que ocurren durante una operación de humidificación de aire utilizando agua caliente.</dc:title>
</cp:coreProperties>
</file>