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89F-9EA6-4E54-B347-29FF0B54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8A8-D3DA-4A69-9FEF-4DDD3C95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369-0981-4B83-B46D-5697167D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117-E736-4B9F-B5D6-16D69A26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3114-CBAB-4DF8-869F-57389BDE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9899-6FF1-4A33-9728-8ACEA08D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40BE-AF8C-4A93-8ECC-0B376523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6B8-D8F2-4929-9858-E29FBF21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2A94-61B4-46A5-A860-E779C8DD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5921-79ED-48CE-A465-322AA7B6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1ED6-66FB-44B1-9A2D-163EEE34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3B5-7413-4694-A49E-71EABDD2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E305-A0C8-4ACE-B45B-CCEFF411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7BC2-4AD2-42EA-B967-25CBFB2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4BC-CB20-442B-B8F6-D1DBD871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7784-2FCC-4021-BD10-4962D777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2530-117E-418E-9A49-140E6D2D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C4F-C36D-49B8-98CB-69098E7B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B25-D26A-4496-80B7-CBC6947A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053-411F-4394-B1A6-BC52FF96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6E8-2468-4027-A009-FC6656B7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762-0821-4C3E-AFE5-39A8EBB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682-74C6-4FC5-B877-3C597146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97D-95B7-4055-8CEC-D37BAA9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0838-D33D-477B-8B50-44D24577DC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34FF-BE0B-422E-A6FF-5666CEC0A1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6-08-09T17:27:24Z</dcterms:modified>
  <cp:revision>305</cp:revision>
  <dc:subject/>
  <dc:title>Reactor Agitado</dc:title>
</cp:coreProperties>
</file>