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759-9CF3-4BF8-A7BA-AFD5B2DC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924-C279-4D3D-8345-A938700A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64C-C571-469E-A3C5-FA785063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6C4-2EA9-456A-B144-FB071341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43E3-97E1-41C9-9E6C-E0107D98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9958-97A0-49E3-8B10-234FC75F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FFB6-66D8-4E8F-8EA5-BB87B24C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C19-CEEC-4EF3-BEAF-E76B3665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5BB6-0291-472E-BBCE-3AE55058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3FE4-5AF1-42A5-BFE9-1CAB831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46B4-5AD0-4F8D-AA71-C4556FC5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5F4-7C61-48BD-A82F-F568EC6E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44D1-54CC-410B-901A-757EC9F1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6DC5-083A-4060-836E-4174DD65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C22F-9C71-4373-A824-302CE4FB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7B43-8FDC-4FED-9BA4-FE20E317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83C5-F834-407B-9934-4EAA60CB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91D-A6E8-48D7-8ED2-4EB68D48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F01-B70B-4A1F-AB51-6FB1C16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923-ED8C-461E-8062-E2B03FCF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82A-C19F-4D5C-895E-AFE9EA8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743-FA3A-4AA2-BF5E-214F538E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810-AA78-4846-80C4-C03D08E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8A8-DCE6-4EC2-8C01-18A12FF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93C6-A5B7-451A-B042-BE2EC45DB54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A5C0-C74F-47CE-85CA-5B6A35F8D4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6-08-09T17:27:24Z</dcterms:modified>
  <cp:revision>305</cp:revision>
  <dc:subject/>
  <dc:title>Reactor Agitado</dc:title>
</cp:coreProperties>
</file>