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0E6-8589-4635-9AE4-2BE469EC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B4C-91F0-4016-AD41-E7FE95C7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659-86F6-4E20-9853-62C07B50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115-0C0B-4E3F-BB01-1AC35351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1032-AC66-4E90-886E-E7E6620A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2F16-C325-4629-A0B6-CAFE65FE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5D3-2B9F-487E-88F3-BF01AA1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4810-17B3-45B6-96EF-0BEA5B99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E41-BAE9-4AEE-99C9-71D8325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F09C-833A-4278-A353-35046988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FCF-F960-4062-9AB0-E085275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803-9426-4C38-A217-B11FF38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CC7-69C0-410C-9C38-69CD8CC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5AC-F1A4-4AE1-9877-0B592EF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B899-218B-4D07-ADD8-8E67BE55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8F9D-157C-4659-867E-8FF3C728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71B7-C6EA-46C4-9692-046240B4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D0B-6841-40CC-ABD4-52098CFF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448-0D27-481F-8525-5559639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A31-F4D8-41C8-8DF0-A754E1FC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E77-5C51-4A9C-B424-3F38EE7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8D6-DEE2-4AAC-9FDF-1B80BE5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FA8-4E11-45CF-9C50-F84D40B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84E-3BF3-4564-9BB3-CDD55FC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D709-F3F7-4D96-9B0F-1E038AFA34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F0F-CFDC-4A48-8F14-7F5BD99F83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9T17:27:24Z</dcterms:modified>
  <cp:revision>305</cp:revision>
  <dc:subject/>
  <dc:title>Reactor Agitado</dc:title>
</cp:coreProperties>
</file>