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5D9-9C23-4464-9F17-181D12E2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BCA-E7F9-44C4-8A8A-4057CB8E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E337-F374-4187-8BAB-21C04A09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FF0-353A-4E8D-A141-29418392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4B5C-9D84-4A1E-A758-F753D419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3C17-55F4-4402-B80C-9E86D927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33B-F841-4299-A0DE-7B15006D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6132-40A7-4DC5-B888-F0E253A0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7AA-CF64-46EF-B517-F3E704FB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E2E-CD8D-4894-83C9-EB655AF3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3AF-F0C6-4CE4-98AB-5C64B837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DB0-1031-4853-9793-93557770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F0CB-28CF-424E-9A0C-697A3A519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612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CADOR DE BANDEJ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equipo es un secador de material particulado dispuesto en 4 bandejas, el que permite controlar la velocidad y la temperatura del flujo de aire, el cual es impulsado por un termoventilado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610704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emás se cuenta con una balanza digital que permite registrar en el tiempo la masa del sólido, y por lo tanto la pérdida de humeda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elocidad del aire se determina con velocímetro digital de paletas y con un sicrómetro se determinan las temperaturas del flujo de a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temperatura de bulbo seco y temperatura de bulbo húmedo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16880" cy="597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lo tanto es posible obtener la velocidad de secado, la cantidad de agua evaporada y la humedad relativa del air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260280"/>
          <a:ext cx="8280360" cy="626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036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260280"/>
          <a:ext cx="8642160" cy="605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8642160" cy="60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345440" cy="5977080"/>
          </a:xfrm>
          <a:prstGeom prst="rect">
            <a:avLst/>
          </a:prstGeom>
          <a:ln w="28440">
            <a:solidFill>
              <a:srgbClr val="ff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274680"/>
            <a:ext cx="8205840" cy="6323040"/>
          </a:xfrm>
          <a:prstGeom prst="rect">
            <a:avLst/>
          </a:prstGeom>
          <a:ln w="28440">
            <a:solidFill>
              <a:srgbClr val="ff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24720" cy="612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proceso de secado consiste en la remoción de humedad de una sustancia, involucrando los fenómenos de transferencia de calor y masa, en forma simultan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28036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masa ocurre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ando el sólido pierde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edad,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calor 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 cuando el med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ente (aire) entrega cal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 sólido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 calor del aire, es el que se emplea en la evaporación del agua que se va incorporando al aire a medida que transcurre el proceso de seca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de las formas usuales 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consiste en hacer circular una corriente de aire caliente por sobre el material a seca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1930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vel de agua deseado lo determina el tipo de producto final que buscamos, por ejemplo, el secado de granos y cereales se realiza hasta obtener alrededor de 12% de agua en el produc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caso de las frutas secas, los niveles son más baj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8-10%), en el caso de nueces y semillas los niveles son todavía más bajos (3-5%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ando la humedad final que buscamos está por debajo de 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edad del aire normal o del medio ambiente, es necesario realizar un proceso controlado de secado utilizando aire calentado por cualquier fuente de energí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23:19:36Z</dcterms:created>
  <dc:creator>georgette</dc:creator>
  <dc:description/>
  <dc:language>en-US</dc:language>
  <cp:lastModifiedBy>georgette</cp:lastModifiedBy>
  <dcterms:modified xsi:type="dcterms:W3CDTF">2006-07-30T23:55:55Z</dcterms:modified>
  <cp:revision>6</cp:revision>
  <dc:subject/>
  <dc:title>El proceso de secado consiste en la remoción de humedad de una sustancia, involucrando los fenómenos de transferencia de calor y masa, en forma simultanea.</dc:title>
</cp:coreProperties>
</file>