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FB0-FEE9-43BE-B478-E41732C0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89E-DFB5-4776-977D-033D370C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3B2-5880-4ED1-8D79-FF0C2CAD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704-2F22-46C8-A337-4D2836A7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36B-2A3D-425D-82AB-7A9F65ED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34F-FABD-4815-818F-4C23BC72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837-BEF5-4FB6-A565-656A63D3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5BE-ED3E-4D76-84A1-65B93C2D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747-0023-470C-A249-C728D195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517-8B6C-43E6-A1DC-F556897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3AA-09B5-4738-9C41-E9EF7E3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48C-67F4-47C1-9E19-F1BDAC89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90C5-06D1-463E-ACD0-B08A7B030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equipo es un secador de material particulado dispuesto en 4 bandejas, el que permite controlar la velocidad y la temperatura del flujo de aire, el cual es impulsado por un 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10704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emás se cuenta con una balanza digital que permite registrar en el tiempo la masa del sólido, y por lo tanto la pérdida de humeda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determina con velocímetro digital de paletas y con un sicrómetro se determinan las temperaturas del flujo de a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6880" cy="597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la velocidad de secado, la cantidad de agua evaporada 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260280"/>
          <a:ext cx="828036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036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60280"/>
          <a:ext cx="8642160" cy="60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4216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45440" cy="597708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74680"/>
            <a:ext cx="8205840" cy="6323040"/>
          </a:xfrm>
          <a:prstGeom prst="rect">
            <a:avLst/>
          </a:prstGeom>
          <a:ln w="2844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612000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en la remoción de humedad de una sustancia, involucrando los fenómenos de transferencia de calor y masa, en forma 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ocurr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el sólido pierd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 calor del aire, es el que se emplea en la evaporación del agua que se va incorporando al aire a medida que transcurre el proceso de seca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circular una corriente de aire caliente por sobre el material a 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determina el tipo de producto final que buscamos, 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 y semillas los niveles son 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do la humedad final que buscamos está por debajo de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edad del aire normal o del medio ambiente, es necesario realizar un proceso controlado de secado utilizando aire calentado por cualquier fuente de energí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georgette</cp:lastModifiedBy>
  <dcterms:modified xsi:type="dcterms:W3CDTF">2006-07-30T23:55:55Z</dcterms:modified>
  <cp:revision>6</cp:revision>
  <dc:subject/>
  <dc:title>El proceso de secado consiste en la remoción de humedad de una sustancia, involucrando los fenómenos de transferencia de calor y masa, en forma simultanea.</dc:title>
</cp:coreProperties>
</file>