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F1D5-DD87-4D6D-A593-A54519067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90D8-086C-4D42-9995-28AB3800A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3D07-9CF9-44C8-AA61-12E5B4157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1CE8-CB23-4C8A-B78D-0C66AB8BA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8F69-2025-4B39-B72B-A9B1BEEAF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9771-99F1-4E90-9161-6607D134F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0B1B-2876-40DB-95BD-56B8C18DF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E77B-1A22-4697-AAB0-00ACD40A8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117B-AFB8-45AB-BCC0-29C08CEEE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C026-59F6-4BB5-9102-4FA3C200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5157-93C6-4452-9CB3-BB47DFFC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AC24-3A4F-44D0-9F34-5B013610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6DC87-D145-4D95-9018-EFF1494D5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8569080" cy="6120000"/>
          </a:xfrm>
          <a:prstGeom prst="rect">
            <a:avLst/>
          </a:prstGeom>
          <a:solidFill>
            <a:srgbClr val="bbe0e3"/>
          </a:solidFill>
          <a:ln w="28440">
            <a:solidFill>
              <a:srgbClr val="ff0000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ECADOR DE BANDEJ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solidFill>
            <a:srgbClr val="bbe0e3"/>
          </a:solidFill>
          <a:ln w="28440">
            <a:solidFill>
              <a:srgbClr val="ff0000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equipo es un secador de material particulado dispuesto en 4 bandejas, el que permite controlar la velocidad y la temperatura del flujo de aire, el cual es impulsado por un termoventilador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6107040"/>
          </a:xfrm>
          <a:prstGeom prst="rect">
            <a:avLst/>
          </a:prstGeom>
          <a:solidFill>
            <a:srgbClr val="bbe0e3"/>
          </a:solidFill>
          <a:ln w="28440">
            <a:solidFill>
              <a:srgbClr val="ff0000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demás se cuenta con una balanza digital que permite registrar en el tiempo la masa del sólido, y por lo tanto la pérdida de humedad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6249960"/>
          </a:xfrm>
          <a:prstGeom prst="rect">
            <a:avLst/>
          </a:prstGeom>
          <a:solidFill>
            <a:srgbClr val="bbe0e3"/>
          </a:solidFill>
          <a:ln w="28440">
            <a:solidFill>
              <a:srgbClr val="ff0000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velocidad del aire se determina con velocímetro digital de paletas y con un sicrómetro se determinan las temperaturas del flujo de ai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temperatura de bulbo seco y temperatura de bulbo húmedo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516880" cy="5977080"/>
          </a:xfrm>
          <a:prstGeom prst="rect">
            <a:avLst/>
          </a:prstGeom>
          <a:solidFill>
            <a:srgbClr val="bbe0e3"/>
          </a:solidFill>
          <a:ln w="28440">
            <a:solidFill>
              <a:srgbClr val="ff0000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 lo tanto es posible obtener la velocidad de secado, la cantidad de agua evaporada y la humedad relativa del aire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95280" y="260280"/>
          <a:ext cx="8280360" cy="626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60280"/>
                    <a:ext cx="8280360" cy="62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50920" y="260280"/>
          <a:ext cx="8642160" cy="6059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60280"/>
                    <a:ext cx="8642160" cy="605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7345440" cy="5977080"/>
          </a:xfrm>
          <a:prstGeom prst="rect">
            <a:avLst/>
          </a:prstGeom>
          <a:ln w="28440">
            <a:solidFill>
              <a:srgbClr val="ff0000"/>
            </a:solidFill>
            <a:prstDash val="sysDot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8360" y="274680"/>
            <a:ext cx="8205840" cy="6323040"/>
          </a:xfrm>
          <a:prstGeom prst="rect">
            <a:avLst/>
          </a:prstGeom>
          <a:ln w="28440">
            <a:solidFill>
              <a:srgbClr val="ff0000"/>
            </a:solidFill>
            <a:prstDash val="sysDot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424720" cy="6120000"/>
          </a:xfrm>
          <a:prstGeom prst="rect">
            <a:avLst/>
          </a:prstGeom>
          <a:solidFill>
            <a:srgbClr val="bbe0e3"/>
          </a:solidFill>
          <a:ln w="28440">
            <a:solidFill>
              <a:srgbClr val="ff0000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proceso de secado consiste en la remoción de humedad de una sustancia, involucrando los fenómenos de transferencia de calor y masa, en forma simultane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74320"/>
            <a:ext cx="8280360" cy="6249960"/>
          </a:xfrm>
          <a:prstGeom prst="rect">
            <a:avLst/>
          </a:prstGeom>
          <a:solidFill>
            <a:srgbClr val="bbe0e3"/>
          </a:solidFill>
          <a:ln w="28440">
            <a:solidFill>
              <a:srgbClr val="ff0000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transferencia de masa ocurre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ando el sólido pierde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edad, 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prstDash val="sysDot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transferencia de calor s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ifica cuando el medi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biente (aire) entrega cal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 sólido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6249960"/>
          </a:xfrm>
          <a:prstGeom prst="rect">
            <a:avLst/>
          </a:prstGeom>
          <a:solidFill>
            <a:srgbClr val="bbe0e3"/>
          </a:solidFill>
          <a:ln w="28440">
            <a:solidFill>
              <a:srgbClr val="ff0000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e calor del aire, es el que se emplea en la evaporación del agua que se va incorporando al aire a medida que transcurre el proceso de secad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6249960"/>
          </a:xfrm>
          <a:prstGeom prst="rect">
            <a:avLst/>
          </a:prstGeom>
          <a:solidFill>
            <a:srgbClr val="bbe0e3"/>
          </a:solidFill>
          <a:ln w="28440">
            <a:solidFill>
              <a:srgbClr val="ff0000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a de las formas usuales d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ado consiste en hacer circular una corriente de aire caliente por sobre el material a secar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193080"/>
          </a:xfrm>
          <a:prstGeom prst="rect">
            <a:avLst/>
          </a:prstGeom>
          <a:solidFill>
            <a:srgbClr val="bbe0e3"/>
          </a:solidFill>
          <a:ln w="28440">
            <a:solidFill>
              <a:srgbClr val="ff0000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nivel de agua deseado lo determina el tipo de producto final que buscamos, por ejemplo, el secado de granos y cereales se realiza hasta obtener alrededor de 12% de agua en el product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solidFill>
            <a:srgbClr val="bbe0e3"/>
          </a:solidFill>
          <a:ln w="28440">
            <a:solidFill>
              <a:srgbClr val="ff0000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el caso de las frutas secas, los niveles son más bajo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8-10%), en el caso de nueces y semillas los niveles son todavía más bajos (3-5%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solidFill>
            <a:srgbClr val="bbe0e3"/>
          </a:solidFill>
          <a:ln w="28440">
            <a:solidFill>
              <a:srgbClr val="ff0000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ando la humedad final que buscamos está por debajo de l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edad del aire normal o del medio ambiente, es necesario realizar un proceso controlado de secado utilizando aire calentado por cualquier fuente de energí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9T23:19:36Z</dcterms:created>
  <dc:creator>georgette</dc:creator>
  <dc:description/>
  <dc:language>en-US</dc:language>
  <cp:lastModifiedBy>georgette</cp:lastModifiedBy>
  <dcterms:modified xsi:type="dcterms:W3CDTF">2006-07-30T23:55:55Z</dcterms:modified>
  <cp:revision>6</cp:revision>
  <dc:subject/>
  <dc:title>El proceso de secado consiste en la remoción de humedad de una sustancia, involucrando los fenómenos de transferencia de calor y masa, en forma simultanea.</dc:title>
</cp:coreProperties>
</file>