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762F-92B1-4B20-A03E-C3E16704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2170-D7B0-437E-B702-A8BC958C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6063-40C5-488B-B8E7-EE5A47B2B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1B17-98E1-4BF2-9F37-35213B66F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C338-C695-429D-BE03-D83D4C4B4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B61B-79BE-43B6-8E02-3289EFFE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3E87-2175-4BCA-930A-445203B6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8AFA-955E-4825-8D97-98070737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D6C0-EEF6-4B29-B4F2-F0896244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4A36-FC08-4B7C-991D-B65DD5E8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6DB6-0D66-4E5D-AB54-50AC245C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A9AD-20B6-4E57-B1C5-0F417F4F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A2BF-8202-4AF3-BA12-2C1CF75D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77FA-3755-492F-8813-7F95324C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0E7F-0FE0-419B-B880-CC87A5C3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DBC4-3842-4766-8097-3CC850526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F8C7-13F2-44E0-99A5-3EDD8A45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9873-BF65-4E45-8788-3FCF9001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2FE0-FA8E-48A1-9830-FB58928C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AC25-023F-4C32-AF4A-ECE36990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8308-16EC-4CE3-9C08-DB40FD73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84C6-0980-4DF5-9B07-E70D83AB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021F-C777-4CB9-9977-7EB1A830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ACF2-7DBF-42B0-A8DB-0C61AE04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332C-CF90-4C62-B20F-FE98598CECC6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DB8A-47B2-41A6-827D-7037B225E57B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Electro-obtención (EW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aboratorio de Ingeniería Química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IQ-53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2006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Proceso para minerales oxidados de Cobr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143000" y="1828800"/>
          <a:ext cx="24163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828800"/>
                    <a:ext cx="24163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1332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a finalidad de la electro-obtención es producir cátodos de cobre de alta pureza (comercializables) a partir de una solución cargada de Cu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Arial"/>
              </a:rPr>
              <a:t>+2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Fundamentos de la operación EW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a operación se basa en la deposición electroquímica del cobre sobre la superficie catódica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Se presentan dos reacciones, una catódica y otra anódica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a reacción catódica produce deposición del cobre mientras que la reacción anódica produce electrólisis del agua, con la consiguiente generación de protones y oxígeno gaseoso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Reacciones en EW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766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451240" y="2325600"/>
                <a:ext cx="34797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e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1066680" y="320040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ara que la reacción catódica pueda proceder se necesita que exista una reacción anódica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851120" y="4495680"/>
                <a:ext cx="49593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2</m:t>
                    </m:r>
                    <m:r>
                      <m:t xml:space="preserve">O</m:t>
                    </m:r>
                    <m:r>
                      <m:t xml:space="preserve">⇔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½ </m:t>
                    </m:r>
                    <m:r>
                      <m:t xml:space="preserve">O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83808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cuación de Faraday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128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905120" y="1752480"/>
                <a:ext cx="4343400" cy="434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  <m:r>
                          <m:rPr>
                            <m:lit/>
                            <m:nor/>
                          </m:rPr>
                          <m:t xml:space="preserve">ensida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rriente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gramos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iempo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g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t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araday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a velocidad de deposición sobre el cátodo depende de la intensidad de corriente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En el caso de existir otro par redox en la celda, se verá afectada la velocidad de deposición del metal de interés, i.e. la eficienci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Equipo de Laboratori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El laboratorio cuenta con una celda de EW más un rectificador de corriente. Se cuanta además con bombas peristálticas y baño termostático para recircular electrolito a la temperatura desead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Pruebas experimenta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ntro de las pruebas experimentales que se pueden realizar se pueden mencionar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terminación de la eficiencia de la operación, en función de la concentración de otros iones en solu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terminar la curva de corriente-potencial para la electro-deposición del cobre, determinando regiones con distintos tipos de control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Estudiar el efecto de variables como la temperatura y acidez en la eficiencia de opera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8170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               </a:t>
            </a: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¿Preguntas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21:08:52Z</dcterms:created>
  <dc:creator/>
  <dc:description/>
  <dc:language>en-US</dc:language>
  <cp:lastModifiedBy>Angel Sanhueza</cp:lastModifiedBy>
  <dcterms:modified xsi:type="dcterms:W3CDTF">2006-08-02T02:43:03Z</dcterms:modified>
  <cp:revision>16</cp:revision>
  <dc:subject/>
  <dc:title>Electro-obtención (EW)</dc:title>
</cp:coreProperties>
</file>