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F4B-57D1-4738-9694-6D445010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0EF-F74A-457A-B5EA-7AE263E7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CA7-25C5-4950-9E37-0877B83A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9448-5BF5-4766-9CAC-4BC7B8F5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2227-2B08-4CCE-AE79-74DC3D07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7690-D7D5-41A2-A5D3-AF12FB2F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657E-75F7-491B-A490-2731ABB9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197F-4A42-4B41-9F3E-2B19BB9D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EE88-7E34-4416-8BBE-A9146C27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E03A-C13B-4C2F-866A-8293FC10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5171-F350-4AAB-9351-2CC30181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326-BF9A-4133-A64B-1853FBA3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66EC-BB77-46C4-9D7C-06AE6823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6DB7-8CEA-4342-8D42-7DAD24DD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13A6-2CCB-49D0-A50B-CBA5523D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8DE3-3F9D-44BF-82E5-BAF772DE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AFDD-6B8A-4364-840D-FDF0E610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46C4-FD4C-4B20-BAA1-79DA8A7E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1C08-6EF5-4B3F-8E97-10FE7B38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E4F3-53E2-4C4C-90E1-8CA94387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9C3-13A1-43B8-989D-23D8BB19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68D4-4E4F-4AA0-B9A7-2FC1DE1B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AD3-9871-4851-9A87-16450686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BB0F-AAC1-4AD9-A58B-36FB9010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BB39-FFB5-40BB-B24A-6F95947B745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56E1-6BD1-44B8-B99B-8B9A901383B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Electro-obtención (EW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boratorio de Ingeniería Química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Q-53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oceso para minerales oxidados de Cob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828800"/>
          <a:ext cx="24163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828800"/>
                    <a:ext cx="2416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finalidad de la electro-obtención es producir cátodos de cobre de alta pureza (comercializables) a partir de una solución cargada de Cu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Fundamentos de la operación 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operación se basa en la deposición electroquímica del cobre sobre la superficie catódi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Se presentan dos reacciones, una catódica y otra anódi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reacción catódica produce deposición del cobre mientras que la reacción anódica produce electrólisis del agua, con la consiguiente generación de protones y oxígeno gaseos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Reacciones en 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76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451240" y="2325600"/>
                <a:ext cx="3479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1066680" y="32004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ra que la reacción catódica pueda proceder se necesita que exista una reacción anódic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851120" y="4495680"/>
                <a:ext cx="4959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2</m:t>
                    </m:r>
                    <m:r>
                      <m:t xml:space="preserve">O</m:t>
                    </m:r>
                    <m:r>
                      <m:t xml:space="preserve">⇔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½ </m:t>
                    </m:r>
                    <m:r>
                      <m:t xml:space="preserve">O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83808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cuación de Farada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905120" y="1752480"/>
                <a:ext cx="434340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  <m:r>
                          <m:rPr>
                            <m:lit/>
                            <m:nor/>
                          </m:rPr>
                          <m:t xml:space="preserve">ensida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iente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ramos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raday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 velocidad de deposición sobre el cátodo depende de la intensidad de corriente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n el caso de existir otro par redox en la celda, se verá afectada la velocidad de deposición del metal de interés, i.e. la eficienci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Equipo de Laboratori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l laboratorio cuenta con una celda de EW más un rectificador de corriente. Se cuanta además con bombas peristálticas y baño termostático para recircular electrolito a la temperatura desea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uebas experiment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ntro de las pruebas experimentales que se pueden realizar se pueden menciona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ción de la eficiencia de la operación, en función de la concentración de otros iones en solu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la curva de corriente-potencial para la electro-deposición del cobre, determinando regiones con distintos tipos de contro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studiar el efecto de variables como la temperatura y acidez en la eficiencia de oper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8170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               </a:t>
            </a: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¿Pregunta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21:08:52Z</dcterms:created>
  <dc:creator/>
  <dc:description/>
  <dc:language>en-US</dc:language>
  <cp:lastModifiedBy>Angel Sanhueza</cp:lastModifiedBy>
  <dcterms:modified xsi:type="dcterms:W3CDTF">2006-08-02T02:43:03Z</dcterms:modified>
  <cp:revision>16</cp:revision>
  <dc:subject/>
  <dc:title>Electro-obtención (EW)</dc:title>
</cp:coreProperties>
</file>