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FE4-D202-450C-A66C-5F3C1EC1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EBA-A4CE-403C-8692-EB49DEB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088-88DF-49E0-A69B-49766FDF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43D-9403-4E9F-86A1-A8E1FFD5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58F5-C76D-46AE-B3F8-DE40C8C5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094C-FBA5-46AA-AF7A-FF038842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657E-7F13-4DCE-BE3D-ABE42995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46A9-269C-4B61-B085-97F441AA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B565-2969-4E10-874B-DE63B073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0434-B73A-442A-AD45-93AD8A31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5784-AE07-4512-8A03-5EDA652B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725-28A3-4DB7-AFD2-ED0FD1E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78CA-A869-405E-B8BB-1E6F44B6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1D1E-3857-4C75-B933-7027774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397E-DB38-440E-91D4-FD540BA5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C9C4-4794-4A68-B0E8-B9EE5B30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E3E1-588B-48CC-9E93-EAD024D1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680-1198-4982-BD19-FEBDEC37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03A-6D1A-4B20-A5CA-C4203DD1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BB3-0676-45DC-9DCC-9FFB5C77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26B-88C5-4D8D-90CE-0CFA1F29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B44-2243-4ABA-9BB8-C9DB83BC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6CF-07B0-4804-8505-17AF402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710-48C8-4BD4-BC83-DD8AB9D2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CC64-9392-4908-AC29-D34F74D3D83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C4D8-13BC-4327-93CD-EA9171D09AD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alizar el comportamiento de un Intercambiador de Calor en General, fluido frío, fluido  cali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5562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207440" y="3581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erencia de Cal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743200"/>
                <a:ext cx="43434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17480" y="190512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 Global de Transferencia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81080" y="2895480"/>
            <a:ext cx="5334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6765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114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600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6765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20040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1152" y="0"/>
                </a:moveTo>
                <a:cubicBezTo>
                  <a:pt x="1140" y="96"/>
                  <a:pt x="1128" y="192"/>
                  <a:pt x="1056" y="288"/>
                </a:cubicBezTo>
                <a:cubicBezTo>
                  <a:pt x="984" y="384"/>
                  <a:pt x="896" y="504"/>
                  <a:pt x="720" y="576"/>
                </a:cubicBezTo>
                <a:cubicBezTo>
                  <a:pt x="544" y="648"/>
                  <a:pt x="272" y="684"/>
                  <a:pt x="0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895120"/>
            <a:ext cx="7621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057400"/>
            <a:ext cx="114300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8720" y="6858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s Loc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6410520" cy="2190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55640" y="3390840"/>
            <a:ext cx="6419880" cy="3467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 de Haz de Tub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 de Camisa Do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943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07080" y="838080"/>
            <a:ext cx="540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so de Convección sobre superfici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3733920"/>
            <a:ext cx="5333760" cy="10666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6668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2514600"/>
            <a:ext cx="2210040" cy="121932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2971800"/>
            <a:ext cx="1371600" cy="12193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190760" y="3733920"/>
            <a:ext cx="99036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4572000"/>
            <a:ext cx="1828800" cy="1371600"/>
          </a:xfrm>
          <a:custGeom>
            <a:avLst/>
            <a:gdLst/>
            <a:ahLst/>
            <a:rect l="l" t="t" r="r" b="b"/>
            <a:pathLst>
              <a:path w="816" h="624">
                <a:moveTo>
                  <a:pt x="0" y="624"/>
                </a:moveTo>
                <a:cubicBezTo>
                  <a:pt x="160" y="416"/>
                  <a:pt x="320" y="208"/>
                  <a:pt x="384" y="192"/>
                </a:cubicBezTo>
                <a:cubicBezTo>
                  <a:pt x="448" y="176"/>
                  <a:pt x="312" y="560"/>
                  <a:pt x="384" y="528"/>
                </a:cubicBezTo>
                <a:cubicBezTo>
                  <a:pt x="456" y="496"/>
                  <a:pt x="736" y="96"/>
                  <a:pt x="816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657240" y="2286000"/>
            <a:ext cx="28954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6-08-02T18:05:18Z</dcterms:modified>
  <cp:revision>314</cp:revision>
  <dc:subject/>
  <dc:title>Reactor Agitado</dc:title>
</cp:coreProperties>
</file>