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D19B-42C9-4336-8572-C2DD0F480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C706-F455-4D51-A2BD-4C2C53AC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6C4F-6095-40E6-98B5-AA768D0C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5BE8-E4D4-4B1B-A2EE-EBD3F051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30F0-F3A6-4CC6-B48F-CD3F6E2A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D583-E528-403A-884D-61A3B69C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0E84-3F9E-4927-9699-6D10F75A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4094-FCE7-45B6-84D4-D2673C22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59DA-0168-4029-8DFF-D1FD081D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EC3F-5D94-46A3-9705-CBBB9428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B42E-B5DD-4DB1-AA43-A27BCD07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8D75-1116-4C46-846B-12911635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3C8C-002E-4378-9E8F-BDD366B7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5BFB-2123-4BFA-B45B-9762F39B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08BF-18A2-4CCC-A937-661706B8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E299-1E48-4ACA-97EE-864E35DDB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25B5-BFDB-458F-BE97-9FBBC2E4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51C1-E43C-4CF2-9225-1219674C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DF4F-4822-49AD-9A4E-407DD2A1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130B-6E05-4417-99AE-F985412F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1F3A-E7DC-4DD2-97B4-7C4637A7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186E-A768-4D30-BC92-C019BA6E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63D6-547F-4BD4-AE86-3BCF0C7D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4806-06C1-4D02-9B4C-26D37220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9F17-FC2F-4A5A-BB89-C276879B4A0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E6C7-0DD7-40CF-92E9-D61A323156A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040" y="1752120"/>
            <a:ext cx="7010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838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tercambiadores de Cal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1676520"/>
            <a:ext cx="660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OBJETIV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alizar el comportamiento de un Intercambiador de Calor en General, fluido frío, fluido  calien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371600" y="4419720"/>
                <a:ext cx="55627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Δ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1207440" y="3581280"/>
            <a:ext cx="34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ransferencia de Calor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219320" y="2743200"/>
                <a:ext cx="4343400" cy="21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717480" y="1905120"/>
            <a:ext cx="65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eficiente Global de Transferencia de Cal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81080" y="2895480"/>
            <a:ext cx="533412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77120" y="167652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41148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71800" y="16002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57800" y="1676520"/>
            <a:ext cx="2209680" cy="1218960"/>
          </a:xfrm>
          <a:custGeom>
            <a:avLst/>
            <a:gdLst/>
            <a:ahLst/>
            <a:rect l="l" t="t" r="r" b="b"/>
            <a:pathLst>
              <a:path w="1392" h="768">
                <a:moveTo>
                  <a:pt x="0" y="768"/>
                </a:moveTo>
                <a:cubicBezTo>
                  <a:pt x="240" y="752"/>
                  <a:pt x="480" y="736"/>
                  <a:pt x="672" y="672"/>
                </a:cubicBezTo>
                <a:cubicBezTo>
                  <a:pt x="864" y="608"/>
                  <a:pt x="1032" y="496"/>
                  <a:pt x="1152" y="384"/>
                </a:cubicBezTo>
                <a:cubicBezTo>
                  <a:pt x="1272" y="272"/>
                  <a:pt x="1332" y="136"/>
                  <a:pt x="1392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66880" y="3200400"/>
            <a:ext cx="1828800" cy="1143000"/>
          </a:xfrm>
          <a:custGeom>
            <a:avLst/>
            <a:gdLst/>
            <a:ahLst/>
            <a:rect l="l" t="t" r="r" b="b"/>
            <a:pathLst>
              <a:path w="1152" h="720">
                <a:moveTo>
                  <a:pt x="1152" y="0"/>
                </a:moveTo>
                <a:cubicBezTo>
                  <a:pt x="1140" y="96"/>
                  <a:pt x="1128" y="192"/>
                  <a:pt x="1056" y="288"/>
                </a:cubicBezTo>
                <a:cubicBezTo>
                  <a:pt x="984" y="384"/>
                  <a:pt x="896" y="504"/>
                  <a:pt x="720" y="576"/>
                </a:cubicBezTo>
                <a:cubicBezTo>
                  <a:pt x="544" y="648"/>
                  <a:pt x="272" y="684"/>
                  <a:pt x="0" y="72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895120"/>
            <a:ext cx="76212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2057400"/>
            <a:ext cx="1143000" cy="9907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78720" y="685800"/>
            <a:ext cx="30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eficientes Local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6410520" cy="21906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755640" y="3390840"/>
            <a:ext cx="6419880" cy="34671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143000" y="838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tercambiadores de Calor de Haz de Tub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143000" y="838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tercambiadores de Calor de Camisa Dobl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494352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07080" y="838080"/>
            <a:ext cx="540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aso de Convección sobre superfici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05120" y="3733920"/>
            <a:ext cx="5333760" cy="10666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24480" y="266688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h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43200" y="2590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81480" y="2514600"/>
            <a:ext cx="2210040" cy="1219320"/>
          </a:xfrm>
          <a:custGeom>
            <a:avLst/>
            <a:gdLst/>
            <a:ahLst/>
            <a:rect l="l" t="t" r="r" b="b"/>
            <a:pathLst>
              <a:path w="1392" h="768">
                <a:moveTo>
                  <a:pt x="0" y="768"/>
                </a:moveTo>
                <a:cubicBezTo>
                  <a:pt x="240" y="752"/>
                  <a:pt x="480" y="736"/>
                  <a:pt x="672" y="672"/>
                </a:cubicBezTo>
                <a:cubicBezTo>
                  <a:pt x="864" y="608"/>
                  <a:pt x="1032" y="496"/>
                  <a:pt x="1152" y="384"/>
                </a:cubicBezTo>
                <a:cubicBezTo>
                  <a:pt x="1272" y="272"/>
                  <a:pt x="1332" y="136"/>
                  <a:pt x="1392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2971800"/>
            <a:ext cx="1371600" cy="12193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4190760" y="3733920"/>
            <a:ext cx="990360" cy="1066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9880" y="4572000"/>
            <a:ext cx="1828800" cy="1371600"/>
          </a:xfrm>
          <a:custGeom>
            <a:avLst/>
            <a:gdLst/>
            <a:ahLst/>
            <a:rect l="l" t="t" r="r" b="b"/>
            <a:pathLst>
              <a:path w="816" h="624">
                <a:moveTo>
                  <a:pt x="0" y="624"/>
                </a:moveTo>
                <a:cubicBezTo>
                  <a:pt x="160" y="416"/>
                  <a:pt x="320" y="208"/>
                  <a:pt x="384" y="192"/>
                </a:cubicBezTo>
                <a:cubicBezTo>
                  <a:pt x="448" y="176"/>
                  <a:pt x="312" y="560"/>
                  <a:pt x="384" y="528"/>
                </a:cubicBezTo>
                <a:cubicBezTo>
                  <a:pt x="456" y="496"/>
                  <a:pt x="736" y="96"/>
                  <a:pt x="816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2578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657240" y="2286000"/>
            <a:ext cx="2895480" cy="0"/>
          </a:xfrm>
          <a:prstGeom prst="line">
            <a:avLst/>
          </a:prstGeom>
          <a:ln w="38160">
            <a:solidFill>
              <a:srgbClr val="40458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33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w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56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6-08-02T18:05:18Z</dcterms:modified>
  <cp:revision>314</cp:revision>
  <dc:subject/>
  <dc:title>Reactor Agitado</dc:title>
</cp:coreProperties>
</file>