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0A8-F847-448D-B8A0-757CFFA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74A-6386-42A3-A05A-533833D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6F2-3263-4B2C-BEE9-A0CAB63D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806-BB35-4ECB-92F0-4434460D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55D-0723-4EFE-8416-9C3A0FA1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F61-DBC2-4FCE-9E54-BD9E4BE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55C5-2C70-48B4-834C-2E4B01F0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9AB2-1BDC-4F0D-8AB7-BFD153C4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A902-35DC-4892-8936-F96914F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A6CA-3E2E-4423-B025-758661C6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ED61-9DE7-43ED-BD46-4730E6A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034-75BF-4F41-9B26-ECC3A54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EF1-F253-424A-91EA-72E76B1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F102-BEB1-4408-AF1F-392672F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C2F-6B82-4A0E-8CA8-CA3697B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60D-13B4-41ED-90F2-DEB77179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F035-0FA3-4EC4-A9DA-751C8608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87B-0E7C-406A-9D32-B1332CB8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BB5-B68E-4A22-83F2-470C404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281-57C3-47A7-818D-202657A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6D4-7A30-4C63-AA39-C5DEFFB5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55B-060E-44D1-91CF-D2FD41E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4BA-5A68-436D-BEDD-BDF2E86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B01-9656-4F73-B8D7-592E3B7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836-95D9-45DB-BC28-BA348086A6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113-2CD3-4FDD-8999-71BE2137C8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6410520" cy="219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55640" y="3390840"/>
            <a:ext cx="6419880" cy="3467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Haz de Tub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Camisa Do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43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07080" y="838080"/>
            <a:ext cx="540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733920"/>
            <a:ext cx="5333760" cy="1066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666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2514600"/>
            <a:ext cx="2210040" cy="12193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971800"/>
            <a:ext cx="1371600" cy="1219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3733920"/>
            <a:ext cx="9903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572000"/>
            <a:ext cx="1828800" cy="137160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624"/>
                </a:moveTo>
                <a:cubicBezTo>
                  <a:pt x="160" y="416"/>
                  <a:pt x="320" y="208"/>
                  <a:pt x="384" y="192"/>
                </a:cubicBezTo>
                <a:cubicBezTo>
                  <a:pt x="448" y="176"/>
                  <a:pt x="312" y="560"/>
                  <a:pt x="384" y="528"/>
                </a:cubicBezTo>
                <a:cubicBezTo>
                  <a:pt x="456" y="496"/>
                  <a:pt x="736" y="96"/>
                  <a:pt x="81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657240" y="2286000"/>
            <a:ext cx="28954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2T18:05:18Z</dcterms:modified>
  <cp:revision>314</cp:revision>
  <dc:subject/>
  <dc:title>Reactor Agitado</dc:title>
</cp:coreProperties>
</file>