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1814-8B13-4951-9DB4-E2B2E49F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019B-4DD7-40D0-BCB4-F8FF540C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AA9D-3524-4550-AE14-3067B10B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992-E372-4711-BC7C-68BD74DE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C96-0554-4D22-A43C-14B9BBCC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AE63-A283-4827-A662-4515C09A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A194-FDCE-4B1A-98FB-6EA586F2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AC0-0A94-4106-A37A-3FD23D9F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9E6-7A69-4C33-8E94-5036C7D8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015-E668-4763-9E93-B27DD578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CD29-D8FA-4186-A05A-D5D16FE6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F0D-A2E4-4B67-B420-95BB5914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7534-C962-4558-8E38-DF3D2DE61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10080" y="1600200"/>
                <a:ext cx="350532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Tomás Vargas </cp:lastModifiedBy>
  <dcterms:modified xsi:type="dcterms:W3CDTF">2003-08-19T07:22:55Z</dcterms:modified>
  <cp:revision>21</cp:revision>
  <dc:subject/>
  <dc:title>Presentación de PowerPoint</dc:title>
</cp:coreProperties>
</file>