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EBE4B-AE17-42E0-A526-D8B1C7E34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E895B-0111-4CB9-A63A-DE20E7827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ADA95-2E4C-417E-BA94-B18BDC63B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60ACE-22EC-40C8-A4C6-4B0914AEA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7EC8D-A601-4849-8522-3C2581B77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2BCBE-47DF-42AA-A775-03F0C164A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8099E-189C-4086-97AB-3A2E3B7BD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AC1E6-38A0-46B6-84DC-94DAA3448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A0C8C-1F59-4125-BD7E-F08A5540D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0C084-7499-4827-A776-3AB022D47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6FEB6-6F6C-4F57-84FF-93E46F311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B30DA-D2CD-4374-AC88-4DF22D4CA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7F90B-3987-4A40-993F-847E15B824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09480" y="380880"/>
            <a:ext cx="7772400" cy="23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EVAPORACION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(cap.16 McCabe y Smit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OBJETIVO: concentrar una solución consistente en un soluto no volátil y un disolvente volátil mediante  evaporación del disolvente por agregado de calor a la solu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Usualmente precede a un proceso de cristaliz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6520" y="3581280"/>
            <a:ext cx="1752480" cy="11430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343400" y="3581280"/>
            <a:ext cx="1752480" cy="11430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981080" y="38862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evapor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419720" y="396252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cristaliz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4038480"/>
            <a:ext cx="990720" cy="304920"/>
          </a:xfrm>
          <a:prstGeom prst="rightArrow">
            <a:avLst>
              <a:gd name="adj1" fmla="val 50000"/>
              <a:gd name="adj2" fmla="val 8122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4038480"/>
            <a:ext cx="914400" cy="304920"/>
          </a:xfrm>
          <a:prstGeom prst="rightArrow">
            <a:avLst>
              <a:gd name="adj1" fmla="val 50000"/>
              <a:gd name="adj2" fmla="val 7497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4038480"/>
            <a:ext cx="1295640" cy="304920"/>
          </a:xfrm>
          <a:prstGeom prst="rightArrow">
            <a:avLst>
              <a:gd name="adj1" fmla="val 50000"/>
              <a:gd name="adj2" fmla="val 10622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362320" y="3048120"/>
            <a:ext cx="609480" cy="533160"/>
          </a:xfrm>
          <a:custGeom>
            <a:avLst/>
            <a:gdLst>
              <a:gd name="textAreaLeft" fmla="*/ 0 w 609480"/>
              <a:gd name="textAreaRight" fmla="*/ 609840 w 60948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105520" y="4724280"/>
            <a:ext cx="45720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124080" y="3048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Disolvente (vapo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33520" y="4419720"/>
            <a:ext cx="12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Solución diluída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4572000"/>
            <a:ext cx="1447920" cy="4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4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Solu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concentra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334120" y="5257800"/>
            <a:ext cx="213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Soluto (cristal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914400" y="5715000"/>
            <a:ext cx="6553080" cy="10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Concentración azúcar           cristalización azú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Concentración CuSO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          cristalización CuSO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09880" y="59436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9880" y="64771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6934200">
            <a:off x="1752480" y="4647960"/>
            <a:ext cx="723960" cy="419040"/>
          </a:xfrm>
          <a:prstGeom prst="leftArrow">
            <a:avLst>
              <a:gd name="adj1" fmla="val 50000"/>
              <a:gd name="adj2" fmla="val 4319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676520" y="51055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19334400">
            <a:off x="5486400" y="3276720"/>
            <a:ext cx="838080" cy="380880"/>
          </a:xfrm>
          <a:prstGeom prst="rightArrow">
            <a:avLst>
              <a:gd name="adj1" fmla="val 50000"/>
              <a:gd name="adj2" fmla="val 5500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324480" y="289548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609480" y="228600"/>
            <a:ext cx="6553440" cy="54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TOPICOS RELEVA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Tipos de evapora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Coeficientes de transferencia de ca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Capacidad de un evaporad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Q = U A </a:t>
            </a:r>
            <a:r>
              <a:rPr b="0" lang="es-MX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T    (kg agua evaporados/h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Economía de un evaporad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Kg agua evaporados/ kg vapor (stea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Elevación del punto de ebullición: regla de Duh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Diagramas entalpía concent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6019920" y="1143000"/>
            <a:ext cx="27432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Vapor (m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- m) kg/h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J/k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276720" y="2209680"/>
            <a:ext cx="761760" cy="2743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276720" y="1736640"/>
            <a:ext cx="761760" cy="45720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276720" y="4937040"/>
            <a:ext cx="761760" cy="45720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666880" y="5089680"/>
            <a:ext cx="609840" cy="15228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666880" y="2346480"/>
            <a:ext cx="60984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038480" y="1812960"/>
            <a:ext cx="609840" cy="30492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648320" y="1828800"/>
            <a:ext cx="990360" cy="74628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648320" y="257508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257800" y="2575080"/>
            <a:ext cx="3808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105520" y="303228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257800" y="303228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038480" y="5089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257800" y="50896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038480" y="524196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95880" y="508968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638680" y="1355760"/>
            <a:ext cx="2286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666880" y="4632480"/>
            <a:ext cx="60984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1904760" y="4632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648320" y="974880"/>
            <a:ext cx="990360" cy="253800"/>
          </a:xfrm>
          <a:custGeom>
            <a:avLst/>
            <a:gdLst/>
            <a:ahLst/>
            <a:rect l="l" t="t" r="r" b="b"/>
            <a:pathLst>
              <a:path w="624" h="160">
                <a:moveTo>
                  <a:pt x="0" y="160"/>
                </a:moveTo>
                <a:cubicBezTo>
                  <a:pt x="40" y="124"/>
                  <a:pt x="80" y="88"/>
                  <a:pt x="144" y="64"/>
                </a:cubicBezTo>
                <a:cubicBezTo>
                  <a:pt x="208" y="40"/>
                  <a:pt x="304" y="0"/>
                  <a:pt x="384" y="16"/>
                </a:cubicBezTo>
                <a:cubicBezTo>
                  <a:pt x="464" y="32"/>
                  <a:pt x="584" y="136"/>
                  <a:pt x="624" y="16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867280" y="15238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057400" y="24224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057400" y="51656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410080" y="51656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181480" y="348948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4571640" y="516564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276720" y="1558800"/>
            <a:ext cx="761760" cy="177840"/>
          </a:xfrm>
          <a:custGeom>
            <a:avLst/>
            <a:gdLst/>
            <a:ahLst/>
            <a:rect l="l" t="t" r="r" b="b"/>
            <a:pathLst>
              <a:path w="480" h="112">
                <a:moveTo>
                  <a:pt x="0" y="112"/>
                </a:moveTo>
                <a:cubicBezTo>
                  <a:pt x="44" y="72"/>
                  <a:pt x="88" y="32"/>
                  <a:pt x="144" y="16"/>
                </a:cubicBezTo>
                <a:cubicBezTo>
                  <a:pt x="200" y="0"/>
                  <a:pt x="280" y="0"/>
                  <a:pt x="336" y="16"/>
                </a:cubicBezTo>
                <a:cubicBezTo>
                  <a:pt x="392" y="32"/>
                  <a:pt x="436" y="72"/>
                  <a:pt x="480" y="112"/>
                </a:cubicBezTo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276720" y="5410080"/>
            <a:ext cx="761760" cy="254160"/>
          </a:xfrm>
          <a:custGeom>
            <a:avLst/>
            <a:gdLst/>
            <a:ahLst/>
            <a:rect l="l" t="t" r="r" b="b"/>
            <a:pathLst>
              <a:path w="480" h="112">
                <a:moveTo>
                  <a:pt x="0" y="0"/>
                </a:moveTo>
                <a:cubicBezTo>
                  <a:pt x="40" y="40"/>
                  <a:pt x="80" y="80"/>
                  <a:pt x="144" y="96"/>
                </a:cubicBezTo>
                <a:cubicBezTo>
                  <a:pt x="208" y="112"/>
                  <a:pt x="328" y="112"/>
                  <a:pt x="384" y="96"/>
                </a:cubicBezTo>
                <a:cubicBezTo>
                  <a:pt x="440" y="80"/>
                  <a:pt x="464" y="16"/>
                  <a:pt x="480" y="0"/>
                </a:cubicBezTo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352680" y="2193840"/>
            <a:ext cx="76320" cy="274320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505320" y="2209680"/>
            <a:ext cx="75960" cy="274320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733920" y="2193840"/>
            <a:ext cx="75960" cy="274320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886200" y="2193840"/>
            <a:ext cx="76320" cy="274320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914400" y="1660680"/>
            <a:ext cx="175248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Vapor (stea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kg/h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J/kg    T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38080" y="3641760"/>
            <a:ext cx="160020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Condens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kg/h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j/k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28600" y="5546880"/>
            <a:ext cx="3809880" cy="90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Alimentación (solución diluíd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kg/hr           H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 J/kg   T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324480" y="4419720"/>
            <a:ext cx="2590920" cy="16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Solución concentrada (product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m kg/h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H  J/kg   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95880" y="51814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15228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Evaporador simple: balance de masa y energ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648320" y="1219320"/>
            <a:ext cx="990360" cy="74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648320" y="1727280"/>
            <a:ext cx="990360" cy="253800"/>
          </a:xfrm>
          <a:custGeom>
            <a:avLst/>
            <a:gdLst/>
            <a:ahLst/>
            <a:rect l="l" t="t" r="r" b="b"/>
            <a:pathLst>
              <a:path w="624" h="160">
                <a:moveTo>
                  <a:pt x="0" y="160"/>
                </a:moveTo>
                <a:cubicBezTo>
                  <a:pt x="0" y="96"/>
                  <a:pt x="0" y="32"/>
                  <a:pt x="48" y="16"/>
                </a:cubicBezTo>
                <a:cubicBezTo>
                  <a:pt x="96" y="0"/>
                  <a:pt x="208" y="64"/>
                  <a:pt x="288" y="64"/>
                </a:cubicBezTo>
                <a:cubicBezTo>
                  <a:pt x="368" y="64"/>
                  <a:pt x="472" y="0"/>
                  <a:pt x="528" y="16"/>
                </a:cubicBezTo>
                <a:cubicBezTo>
                  <a:pt x="584" y="32"/>
                  <a:pt x="604" y="96"/>
                  <a:pt x="624" y="160"/>
                </a:cubicBezTo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733920" y="1955880"/>
            <a:ext cx="1460520" cy="177840"/>
          </a:xfrm>
          <a:custGeom>
            <a:avLst/>
            <a:gdLst/>
            <a:ahLst/>
            <a:rect l="l" t="t" r="r" b="b"/>
            <a:pathLst>
              <a:path w="920" h="112">
                <a:moveTo>
                  <a:pt x="0" y="16"/>
                </a:moveTo>
                <a:cubicBezTo>
                  <a:pt x="308" y="8"/>
                  <a:pt x="616" y="0"/>
                  <a:pt x="768" y="16"/>
                </a:cubicBezTo>
                <a:cubicBezTo>
                  <a:pt x="920" y="32"/>
                  <a:pt x="888" y="96"/>
                  <a:pt x="912" y="11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181480" y="2133720"/>
            <a:ext cx="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181480" y="205740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52280" y="457200"/>
            <a:ext cx="5105520" cy="53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lance de entalpía en lado del vap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or que entra = Calor que s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calor transferido desde vapor a la solu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Entalpía específica del vapor de agu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Entalpía específica del condens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λ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Calor de condensación del vap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Flujo m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á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co de vapor y condens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0" y="3139920"/>
                <a:ext cx="114480" cy="2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5410080" y="1600200"/>
                <a:ext cx="3505320" cy="207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  <m:r>
                          <m:t xml:space="preserve">s</m:t>
                        </m:r>
                        <m:r>
                          <m:t xml:space="preserve">H</m:t>
                        </m:r>
                        <m:r>
                          <m:t xml:space="preserve">s</m:t>
                        </m:r>
                        <m:r>
                          <m:t xml:space="preserve">=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  <m:r>
                          <m:t xml:space="preserve">s</m:t>
                        </m:r>
                        <m:r>
                          <m:t xml:space="preserve">H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r>
                          <m:t xml:space="preserve">q</m:t>
                        </m:r>
                      </m:e>
                      <m:e/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  <m:r>
                          <m:t xml:space="preserve">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H</m:t>
                            </m:r>
                            <m:r>
                              <m:t xml:space="preserve">s</m:t>
                            </m:r>
                            <m:r>
                              <m:t xml:space="preserve">−</m:t>
                            </m:r>
                            <m:r>
                              <m:t xml:space="preserve">H</m:t>
                            </m:r>
                            <m:r>
                              <m:t xml:space="preserve">c</m:t>
                            </m:r>
                          </m:e>
                        </m:d>
                        <m:r>
                          <m:t xml:space="preserve">=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  <m:r>
                          <m:t xml:space="preserve">s</m:t>
                        </m:r>
                        <m:r>
                          <m:t xml:space="preserve">λ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s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371600" y="152280"/>
            <a:ext cx="5867280" cy="17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lance de entalpía en el lado de la solució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or que entra = calor que s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1143000" y="1752480"/>
                <a:ext cx="5715000" cy="400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  <m:r>
                          <m:t xml:space="preserve">f</m:t>
                        </m:r>
                        <m:r>
                          <m:t xml:space="preserve">H</m:t>
                        </m:r>
                        <m:r>
                          <m:t xml:space="preserve">f</m:t>
                        </m:r>
                        <m:r>
                          <m:t xml:space="preserve">+</m:t>
                        </m:r>
                        <m:r>
                          <m:t xml:space="preserve">q</m:t>
                        </m:r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  <m:r>
                              <m:t xml:space="preserve">f</m:t>
                            </m:r>
                            <m:r>
                              <m:t xml:space="preserve">−</m:t>
                            </m:r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</m:d>
                        <m:r>
                          <m:t xml:space="preserve">H</m:t>
                        </m:r>
                        <m:r>
                          <m:t xml:space="preserve">v</m:t>
                        </m:r>
                        <m:r>
                          <m:t xml:space="preserve">+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  <m:r>
                          <m:t xml:space="preserve">H</m:t>
                        </m:r>
                      </m:e>
                      <m:e/>
                      <m:e>
                        <m:r>
                          <m:t xml:space="preserve">q</m:t>
                        </m:r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  <m:r>
                              <m:t xml:space="preserve">f</m:t>
                            </m:r>
                            <m:r>
                              <m:t xml:space="preserve">−</m:t>
                            </m:r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</m:d>
                        <m:r>
                          <m:t xml:space="preserve">H</m:t>
                        </m:r>
                        <m:r>
                          <m:t xml:space="preserve">v</m:t>
                        </m:r>
                        <m:r>
                          <m:t xml:space="preserve">+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  <m:r>
                          <m:t xml:space="preserve">H</m:t>
                        </m:r>
                        <m:r>
                          <m:t xml:space="preserve">−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  <m:r>
                          <m:t xml:space="preserve">f</m:t>
                        </m:r>
                        <m:r>
                          <m:t xml:space="preserve">H</m:t>
                        </m:r>
                        <m:r>
                          <m:t xml:space="preserve">f</m:t>
                        </m:r>
                      </m:e>
                      <m:e/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flujo de solución alimentación</m:t>
                        </m:r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flujo de solución concentrada</m:t>
                        </m:r>
                      </m:e>
                      <m:e>
                        <m:r>
                          <m:t xml:space="preserve">H</m:t>
                        </m:r>
                        <m:r>
                          <m:t xml:space="preserve">v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entalpia</m:t>
                        </m:r>
                        <m:r>
                          <m:rPr>
                            <m:lit/>
                            <m:nor/>
                          </m:rPr>
                          <m:t xml:space="preserve"> específica de vapor</m:t>
                        </m:r>
                      </m:e>
                      <m:e>
                        <m:r>
                          <m:t xml:space="preserve">H</m:t>
                        </m:r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entalpia específica de solución alimentada</m:t>
                        </m:r>
                      </m:e>
                      <m:e>
                        <m:r>
                          <m:t xml:space="preserve">H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entalpia específica de solución concentrad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0" y="2405160"/>
                <a:ext cx="114480" cy="21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14400" y="228600"/>
            <a:ext cx="4114800" cy="8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ausencia de pérdidas  q</a:t>
            </a:r>
            <a:r>
              <a:rPr b="0" lang="es-E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881440" y="2986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33520" y="3352680"/>
            <a:ext cx="7238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Cuando el calor de dilución es apreciable, para aplicar esta ecuación se usan datos de diagrama entalpía-concentración (Figura 16.8 McCabe y Smith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45276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1371600" y="914400"/>
                <a:ext cx="5486400" cy="53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s</m:t>
                    </m:r>
                    <m:r>
                      <m:t xml:space="preserve">λ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s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  <m:r>
                          <m:t xml:space="preserve">f</m:t>
                        </m:r>
                        <m:r>
                          <m:t xml:space="preserve">−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</m:d>
                    <m:r>
                      <m:t xml:space="preserve">H</m:t>
                    </m:r>
                    <m:r>
                      <m:t xml:space="preserve">v</m:t>
                    </m:r>
                    <m:r>
                      <m:t xml:space="preserve">−</m:t>
                    </m:r>
                    <m:acc>
                      <m:accPr>
                        <m:chr m:val="˙"/>
                      </m:accPr>
                      <m:e>
                        <m:r>
                          <m:t xml:space="preserve">m</m:t>
                        </m:r>
                      </m:e>
                    </m:acc>
                    <m:r>
                      <m:t xml:space="preserve">f</m:t>
                    </m:r>
                    <m:r>
                      <m:t xml:space="preserve">H</m:t>
                    </m:r>
                    <m:r>
                      <m:t xml:space="preserve">f</m:t>
                    </m:r>
                    <m:r>
                      <m:t xml:space="preserve">+</m:t>
                    </m:r>
                    <m:acc>
                      <m:accPr>
                        <m:chr m:val="˙"/>
                      </m:accPr>
                      <m:e>
                        <m:r>
                          <m:t xml:space="preserve">m</m:t>
                        </m:r>
                      </m:e>
                    </m:acc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7" name=""/>
          <p:cNvSpPr/>
          <p:nvPr/>
        </p:nvSpPr>
        <p:spPr>
          <a:xfrm>
            <a:off x="533520" y="1752480"/>
            <a:ext cx="6705360" cy="14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H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 H dependen de las características de la solución que se concentra. El problema ingenieril usual consiste en determinar el flujo de vapor requerido ,m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necesario para satisfacer el requerimiento de calentamiento y evaporación de la solución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304920" y="0"/>
            <a:ext cx="8001000" cy="31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544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o de soluciones con calor de dilución despreci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calor q requerido por la solución 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 = q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q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que    q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f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s el calor para llevar la solución de la temperatura de entrada,T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 a la temperatura de ebullición T; q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s el calor del requerimiento de evapora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05360" y="2833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838080" y="3352680"/>
                <a:ext cx="2394000" cy="25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=</m:t>
                        </m:r>
                        <m:limUpp>
                          <m:e>
                            <m:r>
                              <m:t xml:space="preserve">m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lim>
                        </m:limUp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f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e>
                        </m:d>
                      </m:e>
                      <m:e/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limUpp>
                              <m:e>
                                <m:limUpp>
                                  <m:e>
                                    <m:r>
                                      <m:t xml:space="preserve">m</m:t>
                                    </m:r>
                                  </m:e>
                                  <m:lim/>
                                </m:limUpp>
                                <m:r>
                                  <m:t xml:space="preserve">−</m:t>
                                </m:r>
                                <m:limUpp>
                                  <m:e>
                                    <m:sSub>
                                      <m:e>
                                        <m:r>
                                          <m:t xml:space="preserve">m</m:t>
                                        </m:r>
                                      </m:e>
                                      <m:sub>
                                        <m:r>
                                          <m:t xml:space="preserve">f</m:t>
                                        </m:r>
                                      </m:sub>
                                    </m:sSub>
                                  </m:e>
                                  <m:lim/>
                                </m:limUpp>
                              </m:e>
                              <m:lim/>
                            </m:limUpp>
                          </m:e>
                        </m:d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1" name=""/>
          <p:cNvSpPr/>
          <p:nvPr/>
        </p:nvSpPr>
        <p:spPr>
          <a:xfrm>
            <a:off x="4267080" y="2819520"/>
            <a:ext cx="4572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qu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pf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calor específico de la solución diluí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calor latente de vaporización desde la solu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entr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 elevación del punto de ebullición despreciable se tiene 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que 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s el calor latente de vaporización del agua a la presión de la cámara de evapo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838080" y="457200"/>
            <a:ext cx="670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Luego se tiene finalmen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60036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1371600" y="1066680"/>
                <a:ext cx="3886200" cy="85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sSub>
                      <m:e>
                        <m:limUpp>
                          <m:e>
                            <m:r>
                              <m:t xml:space="preserve">m</m:t>
                            </m:r>
                          </m:e>
                          <m:lim/>
                        </m:limUpp>
                      </m:e>
                      <m:sub>
                        <m:r>
                          <m:t xml:space="preserve">f</m:t>
                        </m:r>
                      </m:sub>
                    </m:sSub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f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d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limUpp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e>
                          <m:lim/>
                        </m:limUpp>
                        <m:r>
                          <m:t xml:space="preserve">−</m:t>
                        </m:r>
                        <m:limUpp>
                          <m:e>
                            <m:r>
                              <m:t xml:space="preserve">m</m:t>
                            </m:r>
                          </m:e>
                          <m:lim/>
                        </m:limUpp>
                      </m:e>
                    </m:d>
                    <m:r>
                      <m:t xml:space="preserve">λ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5" name=""/>
          <p:cNvSpPr/>
          <p:nvPr/>
        </p:nvSpPr>
        <p:spPr>
          <a:xfrm>
            <a:off x="914400" y="2438280"/>
            <a:ext cx="6705720" cy="46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Si T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&lt; T   se requiere una carga extra de calenta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q = q calentamiento + q evapo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Si T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&gt; T    solución contribuye con calor :          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evaporación fla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Q = evaporación – calor aportado sol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Si T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= T , q = q evapo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19T03:57:10Z</dcterms:created>
  <dc:creator>Tomás Vargas </dc:creator>
  <dc:description/>
  <dc:language>en-US</dc:language>
  <cp:lastModifiedBy>Tomás Vargas </cp:lastModifiedBy>
  <dcterms:modified xsi:type="dcterms:W3CDTF">2003-08-19T07:22:55Z</dcterms:modified>
  <cp:revision>21</cp:revision>
  <dc:subject/>
  <dc:title>Presentación de PowerPoint</dc:title>
</cp:coreProperties>
</file>