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2C0-1AAC-4C46-BF7C-37D185BE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6D7-AC85-496F-A7F8-6C14D3BD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1A6-E23A-41D7-992B-8524A582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6DB-A2D9-41F4-8325-103984B1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751-E98A-44FA-9FC8-3D0581A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3D1-3259-4D18-835F-38F7C164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8D8-C102-4C09-820F-94C9B102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FCF-2069-4BF9-ACE3-8B60FBF3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B81-D940-41BC-BCB3-CF4E7091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A45-DD6E-4830-92A4-8C77C058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DCE-ED17-4A17-BBF3-8CDA12E7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4A3-1E11-486E-A883-85BCD621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DCCE-8730-4473-A073-7ADF67ECE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Tomás Vargas </cp:lastModifiedBy>
  <dcterms:modified xsi:type="dcterms:W3CDTF">2003-08-19T07:22:55Z</dcterms:modified>
  <cp:revision>21</cp:revision>
  <dc:subject/>
  <dc:title>Presentación de PowerPoint</dc:title>
</cp:coreProperties>
</file>