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91E-7A8A-4CE2-8EC0-A5DCA2A7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D7F-95E2-4DF8-82FB-3F5392F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672-1B4E-469B-9892-AA098D39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D44-644D-4C99-9650-8C4F338A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3A8-0C3C-4924-A6F8-977A930E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C9D-A4CB-4FD7-BA3C-2513F85F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256-7F46-47C8-AC2D-F008FB2C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042-EE4E-4A6B-9754-CB1709A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E23-18C3-4DEA-99C7-3FBB6A1B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371-6A09-42FC-9A58-7E96FEB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2DF-62DE-443A-A266-612F85B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D44-7CAF-4E2D-85A8-F6369A9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428A-6819-4903-976D-BCB0CF4C36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6-08-07T20:32:19Z</dcterms:modified>
  <cp:revision>9</cp:revision>
  <dc:subject/>
  <dc:title>Presentación de PowerPoint</dc:title>
</cp:coreProperties>
</file>