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7478-7785-4A6D-AE48-371531EDE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1700-93A3-49B6-96EF-FF9D9702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C3DD-D981-4A6F-9475-E129EAF9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5C21-27E4-4333-AF82-9F042ADE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B7C1-46F8-4B5F-AE71-91FCE998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3F82-B078-45A1-9B67-6AE44FB2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4B56-BBCE-4AD7-B4DA-A6414B86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4848-7BDF-452A-804E-8647FA13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6B5E-2FAD-4647-AF9A-6B5BD2AC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21BC-0FB8-4A43-BD22-EDEB0018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9A8C-757B-4374-93EB-3FECF067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D0A8-CBC1-48DF-8E25-809E2B1D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E565-FAF3-47B8-8EB7-32E8D926B8B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87631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QUIPOS DE INTERCAMBIO DE CALOR CON SUPERFICIES EXTEND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el caso de flujo de calor entre dos fluídos a través de una pared cilíndrica se determinó que la resistencia está dada por la expresió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95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819520"/>
            <a:ext cx="77724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&lt;&lt;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(p.ej. calentamiento de aire estanco en exterior con vapor condensante en interior) la resistencia principal  está dada en película de  aire (término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 disminuye si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se aum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fecto aumento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5181480"/>
            <a:ext cx="990720" cy="1067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54100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3581280"/>
            <a:ext cx="16002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4038480"/>
            <a:ext cx="6098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10280" y="5562720"/>
            <a:ext cx="6098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5029200"/>
            <a:ext cx="1560240" cy="1573200"/>
          </a:xfrm>
          <a:custGeom>
            <a:avLst/>
            <a:gdLst/>
            <a:ahLst/>
            <a:rect l="l" t="t" r="r" b="b"/>
            <a:pathLst>
              <a:path w="983" h="991">
                <a:moveTo>
                  <a:pt x="468" y="249"/>
                </a:moveTo>
                <a:cubicBezTo>
                  <a:pt x="476" y="46"/>
                  <a:pt x="412" y="0"/>
                  <a:pt x="556" y="22"/>
                </a:cubicBezTo>
                <a:cubicBezTo>
                  <a:pt x="559" y="98"/>
                  <a:pt x="548" y="175"/>
                  <a:pt x="564" y="249"/>
                </a:cubicBezTo>
                <a:cubicBezTo>
                  <a:pt x="567" y="264"/>
                  <a:pt x="594" y="252"/>
                  <a:pt x="608" y="258"/>
                </a:cubicBezTo>
                <a:cubicBezTo>
                  <a:pt x="652" y="276"/>
                  <a:pt x="620" y="288"/>
                  <a:pt x="687" y="302"/>
                </a:cubicBezTo>
                <a:cubicBezTo>
                  <a:pt x="699" y="299"/>
                  <a:pt x="712" y="300"/>
                  <a:pt x="722" y="293"/>
                </a:cubicBezTo>
                <a:cubicBezTo>
                  <a:pt x="731" y="287"/>
                  <a:pt x="733" y="275"/>
                  <a:pt x="739" y="267"/>
                </a:cubicBezTo>
                <a:cubicBezTo>
                  <a:pt x="757" y="244"/>
                  <a:pt x="773" y="232"/>
                  <a:pt x="800" y="223"/>
                </a:cubicBezTo>
                <a:cubicBezTo>
                  <a:pt x="851" y="172"/>
                  <a:pt x="827" y="190"/>
                  <a:pt x="870" y="162"/>
                </a:cubicBezTo>
                <a:cubicBezTo>
                  <a:pt x="926" y="177"/>
                  <a:pt x="895" y="184"/>
                  <a:pt x="940" y="214"/>
                </a:cubicBezTo>
                <a:cubicBezTo>
                  <a:pt x="926" y="254"/>
                  <a:pt x="910" y="246"/>
                  <a:pt x="887" y="275"/>
                </a:cubicBezTo>
                <a:cubicBezTo>
                  <a:pt x="880" y="283"/>
                  <a:pt x="878" y="295"/>
                  <a:pt x="870" y="302"/>
                </a:cubicBezTo>
                <a:cubicBezTo>
                  <a:pt x="863" y="308"/>
                  <a:pt x="853" y="307"/>
                  <a:pt x="844" y="310"/>
                </a:cubicBezTo>
                <a:cubicBezTo>
                  <a:pt x="818" y="328"/>
                  <a:pt x="795" y="335"/>
                  <a:pt x="765" y="345"/>
                </a:cubicBezTo>
                <a:cubicBezTo>
                  <a:pt x="762" y="354"/>
                  <a:pt x="761" y="363"/>
                  <a:pt x="756" y="371"/>
                </a:cubicBezTo>
                <a:cubicBezTo>
                  <a:pt x="752" y="378"/>
                  <a:pt x="739" y="381"/>
                  <a:pt x="739" y="389"/>
                </a:cubicBezTo>
                <a:cubicBezTo>
                  <a:pt x="739" y="402"/>
                  <a:pt x="766" y="424"/>
                  <a:pt x="774" y="432"/>
                </a:cubicBezTo>
                <a:cubicBezTo>
                  <a:pt x="771" y="467"/>
                  <a:pt x="762" y="502"/>
                  <a:pt x="765" y="537"/>
                </a:cubicBezTo>
                <a:cubicBezTo>
                  <a:pt x="766" y="550"/>
                  <a:pt x="838" y="594"/>
                  <a:pt x="852" y="598"/>
                </a:cubicBezTo>
                <a:cubicBezTo>
                  <a:pt x="878" y="624"/>
                  <a:pt x="895" y="633"/>
                  <a:pt x="931" y="642"/>
                </a:cubicBezTo>
                <a:cubicBezTo>
                  <a:pt x="961" y="661"/>
                  <a:pt x="973" y="669"/>
                  <a:pt x="983" y="703"/>
                </a:cubicBezTo>
                <a:cubicBezTo>
                  <a:pt x="974" y="709"/>
                  <a:pt x="964" y="712"/>
                  <a:pt x="957" y="720"/>
                </a:cubicBezTo>
                <a:cubicBezTo>
                  <a:pt x="943" y="736"/>
                  <a:pt x="922" y="773"/>
                  <a:pt x="922" y="773"/>
                </a:cubicBezTo>
                <a:cubicBezTo>
                  <a:pt x="855" y="750"/>
                  <a:pt x="834" y="672"/>
                  <a:pt x="765" y="651"/>
                </a:cubicBezTo>
                <a:cubicBezTo>
                  <a:pt x="759" y="645"/>
                  <a:pt x="756" y="633"/>
                  <a:pt x="748" y="633"/>
                </a:cubicBezTo>
                <a:cubicBezTo>
                  <a:pt x="728" y="633"/>
                  <a:pt x="728" y="669"/>
                  <a:pt x="722" y="677"/>
                </a:cubicBezTo>
                <a:cubicBezTo>
                  <a:pt x="699" y="707"/>
                  <a:pt x="666" y="734"/>
                  <a:pt x="634" y="755"/>
                </a:cubicBezTo>
                <a:cubicBezTo>
                  <a:pt x="641" y="775"/>
                  <a:pt x="654" y="840"/>
                  <a:pt x="669" y="860"/>
                </a:cubicBezTo>
                <a:cubicBezTo>
                  <a:pt x="682" y="877"/>
                  <a:pt x="713" y="904"/>
                  <a:pt x="713" y="904"/>
                </a:cubicBezTo>
                <a:cubicBezTo>
                  <a:pt x="727" y="945"/>
                  <a:pt x="708" y="952"/>
                  <a:pt x="695" y="991"/>
                </a:cubicBezTo>
                <a:cubicBezTo>
                  <a:pt x="678" y="988"/>
                  <a:pt x="659" y="990"/>
                  <a:pt x="643" y="982"/>
                </a:cubicBezTo>
                <a:cubicBezTo>
                  <a:pt x="634" y="977"/>
                  <a:pt x="630" y="965"/>
                  <a:pt x="626" y="956"/>
                </a:cubicBezTo>
                <a:cubicBezTo>
                  <a:pt x="607" y="913"/>
                  <a:pt x="607" y="859"/>
                  <a:pt x="573" y="825"/>
                </a:cubicBezTo>
                <a:cubicBezTo>
                  <a:pt x="556" y="776"/>
                  <a:pt x="509" y="788"/>
                  <a:pt x="460" y="782"/>
                </a:cubicBezTo>
                <a:cubicBezTo>
                  <a:pt x="416" y="767"/>
                  <a:pt x="418" y="792"/>
                  <a:pt x="381" y="816"/>
                </a:cubicBezTo>
                <a:cubicBezTo>
                  <a:pt x="362" y="872"/>
                  <a:pt x="319" y="916"/>
                  <a:pt x="276" y="956"/>
                </a:cubicBezTo>
                <a:cubicBezTo>
                  <a:pt x="233" y="945"/>
                  <a:pt x="198" y="954"/>
                  <a:pt x="224" y="895"/>
                </a:cubicBezTo>
                <a:cubicBezTo>
                  <a:pt x="227" y="887"/>
                  <a:pt x="236" y="884"/>
                  <a:pt x="242" y="878"/>
                </a:cubicBezTo>
                <a:cubicBezTo>
                  <a:pt x="252" y="845"/>
                  <a:pt x="270" y="820"/>
                  <a:pt x="285" y="790"/>
                </a:cubicBezTo>
                <a:cubicBezTo>
                  <a:pt x="289" y="782"/>
                  <a:pt x="289" y="772"/>
                  <a:pt x="294" y="764"/>
                </a:cubicBezTo>
                <a:cubicBezTo>
                  <a:pt x="307" y="745"/>
                  <a:pt x="325" y="731"/>
                  <a:pt x="338" y="712"/>
                </a:cubicBezTo>
                <a:cubicBezTo>
                  <a:pt x="312" y="686"/>
                  <a:pt x="281" y="662"/>
                  <a:pt x="250" y="642"/>
                </a:cubicBezTo>
                <a:cubicBezTo>
                  <a:pt x="183" y="651"/>
                  <a:pt x="124" y="673"/>
                  <a:pt x="58" y="686"/>
                </a:cubicBezTo>
                <a:cubicBezTo>
                  <a:pt x="41" y="683"/>
                  <a:pt x="17" y="691"/>
                  <a:pt x="6" y="677"/>
                </a:cubicBezTo>
                <a:cubicBezTo>
                  <a:pt x="0" y="669"/>
                  <a:pt x="23" y="588"/>
                  <a:pt x="41" y="581"/>
                </a:cubicBezTo>
                <a:cubicBezTo>
                  <a:pt x="57" y="575"/>
                  <a:pt x="76" y="576"/>
                  <a:pt x="93" y="572"/>
                </a:cubicBezTo>
                <a:cubicBezTo>
                  <a:pt x="142" y="561"/>
                  <a:pt x="182" y="544"/>
                  <a:pt x="233" y="537"/>
                </a:cubicBezTo>
                <a:cubicBezTo>
                  <a:pt x="260" y="458"/>
                  <a:pt x="224" y="563"/>
                  <a:pt x="250" y="485"/>
                </a:cubicBezTo>
                <a:cubicBezTo>
                  <a:pt x="256" y="467"/>
                  <a:pt x="268" y="432"/>
                  <a:pt x="268" y="432"/>
                </a:cubicBezTo>
                <a:cubicBezTo>
                  <a:pt x="252" y="386"/>
                  <a:pt x="216" y="380"/>
                  <a:pt x="189" y="345"/>
                </a:cubicBezTo>
                <a:cubicBezTo>
                  <a:pt x="176" y="328"/>
                  <a:pt x="154" y="293"/>
                  <a:pt x="154" y="293"/>
                </a:cubicBezTo>
                <a:cubicBezTo>
                  <a:pt x="144" y="259"/>
                  <a:pt x="132" y="251"/>
                  <a:pt x="102" y="232"/>
                </a:cubicBezTo>
                <a:cubicBezTo>
                  <a:pt x="114" y="198"/>
                  <a:pt x="138" y="170"/>
                  <a:pt x="163" y="144"/>
                </a:cubicBezTo>
                <a:cubicBezTo>
                  <a:pt x="210" y="193"/>
                  <a:pt x="151" y="127"/>
                  <a:pt x="189" y="188"/>
                </a:cubicBezTo>
                <a:cubicBezTo>
                  <a:pt x="204" y="213"/>
                  <a:pt x="228" y="231"/>
                  <a:pt x="250" y="249"/>
                </a:cubicBezTo>
                <a:cubicBezTo>
                  <a:pt x="280" y="273"/>
                  <a:pt x="271" y="288"/>
                  <a:pt x="311" y="302"/>
                </a:cubicBezTo>
                <a:cubicBezTo>
                  <a:pt x="391" y="275"/>
                  <a:pt x="292" y="313"/>
                  <a:pt x="355" y="275"/>
                </a:cubicBezTo>
                <a:cubicBezTo>
                  <a:pt x="371" y="266"/>
                  <a:pt x="390" y="264"/>
                  <a:pt x="407" y="258"/>
                </a:cubicBezTo>
                <a:cubicBezTo>
                  <a:pt x="413" y="252"/>
                  <a:pt x="417" y="241"/>
                  <a:pt x="425" y="240"/>
                </a:cubicBezTo>
                <a:cubicBezTo>
                  <a:pt x="439" y="238"/>
                  <a:pt x="468" y="249"/>
                  <a:pt x="468" y="24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55627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362320" y="4876560"/>
            <a:ext cx="1600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5943600"/>
            <a:ext cx="3276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41148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ercambiadores con aleta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971800" y="1600200"/>
                <a:ext cx="28195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5335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riterios para el diseño y dimensionamiento de equipos de intercambio de calor con al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2514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895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46520" y="2527200"/>
            <a:ext cx="139680" cy="343080"/>
          </a:xfrm>
          <a:custGeom>
            <a:avLst/>
            <a:gdLst/>
            <a:ahLst/>
            <a:rect l="l" t="t" r="r" b="b"/>
            <a:pathLst>
              <a:path w="88" h="216">
                <a:moveTo>
                  <a:pt x="88" y="0"/>
                </a:moveTo>
                <a:cubicBezTo>
                  <a:pt x="40" y="16"/>
                  <a:pt x="16" y="49"/>
                  <a:pt x="0" y="96"/>
                </a:cubicBezTo>
                <a:cubicBezTo>
                  <a:pt x="12" y="132"/>
                  <a:pt x="35" y="161"/>
                  <a:pt x="56" y="192"/>
                </a:cubicBezTo>
                <a:cubicBezTo>
                  <a:pt x="61" y="200"/>
                  <a:pt x="62" y="216"/>
                  <a:pt x="72" y="216"/>
                </a:cubicBezTo>
                <a:cubicBezTo>
                  <a:pt x="77" y="216"/>
                  <a:pt x="83" y="216"/>
                  <a:pt x="88" y="2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00680" y="2527200"/>
            <a:ext cx="380880" cy="373320"/>
          </a:xfrm>
          <a:custGeom>
            <a:avLst/>
            <a:gdLst/>
            <a:ahLst/>
            <a:rect l="l" t="t" r="r" b="b"/>
            <a:pathLst>
              <a:path w="240" h="235">
                <a:moveTo>
                  <a:pt x="88" y="0"/>
                </a:moveTo>
                <a:cubicBezTo>
                  <a:pt x="72" y="5"/>
                  <a:pt x="49" y="2"/>
                  <a:pt x="40" y="16"/>
                </a:cubicBezTo>
                <a:cubicBezTo>
                  <a:pt x="24" y="40"/>
                  <a:pt x="16" y="64"/>
                  <a:pt x="0" y="88"/>
                </a:cubicBezTo>
                <a:cubicBezTo>
                  <a:pt x="3" y="104"/>
                  <a:pt x="1" y="121"/>
                  <a:pt x="8" y="136"/>
                </a:cubicBezTo>
                <a:cubicBezTo>
                  <a:pt x="12" y="145"/>
                  <a:pt x="25" y="145"/>
                  <a:pt x="32" y="152"/>
                </a:cubicBezTo>
                <a:cubicBezTo>
                  <a:pt x="85" y="205"/>
                  <a:pt x="8" y="149"/>
                  <a:pt x="72" y="192"/>
                </a:cubicBezTo>
                <a:cubicBezTo>
                  <a:pt x="100" y="235"/>
                  <a:pt x="107" y="233"/>
                  <a:pt x="160" y="224"/>
                </a:cubicBezTo>
                <a:cubicBezTo>
                  <a:pt x="185" y="199"/>
                  <a:pt x="207" y="193"/>
                  <a:pt x="232" y="168"/>
                </a:cubicBezTo>
                <a:cubicBezTo>
                  <a:pt x="235" y="155"/>
                  <a:pt x="240" y="142"/>
                  <a:pt x="240" y="128"/>
                </a:cubicBezTo>
                <a:cubicBezTo>
                  <a:pt x="240" y="3"/>
                  <a:pt x="203" y="0"/>
                  <a:pt x="88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19076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3200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1600200"/>
            <a:ext cx="254160" cy="927000"/>
          </a:xfrm>
          <a:custGeom>
            <a:avLst/>
            <a:gdLst/>
            <a:ahLst/>
            <a:rect l="l" t="t" r="r" b="b"/>
            <a:pathLst>
              <a:path w="160" h="584">
                <a:moveTo>
                  <a:pt x="144" y="584"/>
                </a:moveTo>
                <a:cubicBezTo>
                  <a:pt x="152" y="508"/>
                  <a:pt x="160" y="432"/>
                  <a:pt x="144" y="344"/>
                </a:cubicBezTo>
                <a:cubicBezTo>
                  <a:pt x="128" y="256"/>
                  <a:pt x="72" y="112"/>
                  <a:pt x="48" y="56"/>
                </a:cubicBezTo>
                <a:cubicBezTo>
                  <a:pt x="24" y="0"/>
                  <a:pt x="8" y="16"/>
                  <a:pt x="0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895480"/>
            <a:ext cx="177840" cy="685800"/>
          </a:xfrm>
          <a:custGeom>
            <a:avLst/>
            <a:gdLst/>
            <a:ahLst/>
            <a:rect l="l" t="t" r="r" b="b"/>
            <a:pathLst>
              <a:path w="112" h="432">
                <a:moveTo>
                  <a:pt x="96" y="0"/>
                </a:moveTo>
                <a:cubicBezTo>
                  <a:pt x="104" y="36"/>
                  <a:pt x="112" y="72"/>
                  <a:pt x="96" y="144"/>
                </a:cubicBezTo>
                <a:cubicBezTo>
                  <a:pt x="80" y="216"/>
                  <a:pt x="16" y="38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1600200"/>
            <a:ext cx="330480" cy="2057400"/>
          </a:xfrm>
          <a:custGeom>
            <a:avLst/>
            <a:gdLst/>
            <a:ahLst/>
            <a:rect l="l" t="t" r="r" b="b"/>
            <a:pathLst>
              <a:path w="208" h="1296">
                <a:moveTo>
                  <a:pt x="0" y="0"/>
                </a:moveTo>
                <a:cubicBezTo>
                  <a:pt x="32" y="40"/>
                  <a:pt x="64" y="80"/>
                  <a:pt x="96" y="144"/>
                </a:cubicBezTo>
                <a:cubicBezTo>
                  <a:pt x="128" y="208"/>
                  <a:pt x="176" y="304"/>
                  <a:pt x="192" y="384"/>
                </a:cubicBezTo>
                <a:cubicBezTo>
                  <a:pt x="208" y="464"/>
                  <a:pt x="192" y="560"/>
                  <a:pt x="192" y="624"/>
                </a:cubicBezTo>
                <a:cubicBezTo>
                  <a:pt x="192" y="688"/>
                  <a:pt x="192" y="720"/>
                  <a:pt x="192" y="768"/>
                </a:cubicBezTo>
                <a:cubicBezTo>
                  <a:pt x="192" y="816"/>
                  <a:pt x="200" y="856"/>
                  <a:pt x="192" y="912"/>
                </a:cubicBezTo>
                <a:cubicBezTo>
                  <a:pt x="184" y="968"/>
                  <a:pt x="168" y="1040"/>
                  <a:pt x="144" y="1104"/>
                </a:cubicBezTo>
                <a:cubicBezTo>
                  <a:pt x="120" y="1168"/>
                  <a:pt x="64" y="1264"/>
                  <a:pt x="48" y="1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2514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0384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17524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1981080"/>
            <a:ext cx="83808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0" y="432"/>
                </a:moveTo>
                <a:cubicBezTo>
                  <a:pt x="124" y="372"/>
                  <a:pt x="248" y="312"/>
                  <a:pt x="336" y="240"/>
                </a:cubicBezTo>
                <a:cubicBezTo>
                  <a:pt x="424" y="168"/>
                  <a:pt x="476" y="84"/>
                  <a:pt x="5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029200" y="18284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1523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00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3120" y="2133720"/>
            <a:ext cx="367812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alor que entra por conduc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alor que sale por con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lor que sale por conv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182880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52280" y="3962520"/>
                <a:ext cx="2438640" cy="23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erímetr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6050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335560" y="4724280"/>
                <a:ext cx="38084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h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3068640" y="4952880"/>
            <a:ext cx="13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+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50292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50292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95800" y="506520"/>
            <a:ext cx="59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caso de aletas de sección uniforme, A(x)=A, P(x)=P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a ecuación se simplific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152280"/>
            <a:ext cx="1560240" cy="1573200"/>
          </a:xfrm>
          <a:custGeom>
            <a:avLst/>
            <a:gdLst/>
            <a:ahLst/>
            <a:rect l="l" t="t" r="r" b="b"/>
            <a:pathLst>
              <a:path w="983" h="991">
                <a:moveTo>
                  <a:pt x="468" y="249"/>
                </a:moveTo>
                <a:cubicBezTo>
                  <a:pt x="476" y="46"/>
                  <a:pt x="412" y="0"/>
                  <a:pt x="556" y="22"/>
                </a:cubicBezTo>
                <a:cubicBezTo>
                  <a:pt x="559" y="98"/>
                  <a:pt x="548" y="175"/>
                  <a:pt x="564" y="249"/>
                </a:cubicBezTo>
                <a:cubicBezTo>
                  <a:pt x="567" y="264"/>
                  <a:pt x="594" y="252"/>
                  <a:pt x="608" y="258"/>
                </a:cubicBezTo>
                <a:cubicBezTo>
                  <a:pt x="652" y="276"/>
                  <a:pt x="620" y="288"/>
                  <a:pt x="687" y="302"/>
                </a:cubicBezTo>
                <a:cubicBezTo>
                  <a:pt x="699" y="299"/>
                  <a:pt x="712" y="300"/>
                  <a:pt x="722" y="293"/>
                </a:cubicBezTo>
                <a:cubicBezTo>
                  <a:pt x="731" y="287"/>
                  <a:pt x="733" y="275"/>
                  <a:pt x="739" y="267"/>
                </a:cubicBezTo>
                <a:cubicBezTo>
                  <a:pt x="757" y="244"/>
                  <a:pt x="773" y="232"/>
                  <a:pt x="800" y="223"/>
                </a:cubicBezTo>
                <a:cubicBezTo>
                  <a:pt x="851" y="172"/>
                  <a:pt x="827" y="190"/>
                  <a:pt x="870" y="162"/>
                </a:cubicBezTo>
                <a:cubicBezTo>
                  <a:pt x="926" y="177"/>
                  <a:pt x="895" y="184"/>
                  <a:pt x="940" y="214"/>
                </a:cubicBezTo>
                <a:cubicBezTo>
                  <a:pt x="926" y="254"/>
                  <a:pt x="910" y="246"/>
                  <a:pt x="887" y="275"/>
                </a:cubicBezTo>
                <a:cubicBezTo>
                  <a:pt x="880" y="283"/>
                  <a:pt x="878" y="295"/>
                  <a:pt x="870" y="302"/>
                </a:cubicBezTo>
                <a:cubicBezTo>
                  <a:pt x="863" y="308"/>
                  <a:pt x="853" y="307"/>
                  <a:pt x="844" y="310"/>
                </a:cubicBezTo>
                <a:cubicBezTo>
                  <a:pt x="818" y="328"/>
                  <a:pt x="795" y="335"/>
                  <a:pt x="765" y="345"/>
                </a:cubicBezTo>
                <a:cubicBezTo>
                  <a:pt x="762" y="354"/>
                  <a:pt x="761" y="363"/>
                  <a:pt x="756" y="371"/>
                </a:cubicBezTo>
                <a:cubicBezTo>
                  <a:pt x="752" y="378"/>
                  <a:pt x="739" y="381"/>
                  <a:pt x="739" y="389"/>
                </a:cubicBezTo>
                <a:cubicBezTo>
                  <a:pt x="739" y="402"/>
                  <a:pt x="766" y="424"/>
                  <a:pt x="774" y="432"/>
                </a:cubicBezTo>
                <a:cubicBezTo>
                  <a:pt x="771" y="467"/>
                  <a:pt x="762" y="502"/>
                  <a:pt x="765" y="537"/>
                </a:cubicBezTo>
                <a:cubicBezTo>
                  <a:pt x="766" y="550"/>
                  <a:pt x="838" y="594"/>
                  <a:pt x="852" y="598"/>
                </a:cubicBezTo>
                <a:cubicBezTo>
                  <a:pt x="878" y="624"/>
                  <a:pt x="895" y="633"/>
                  <a:pt x="931" y="642"/>
                </a:cubicBezTo>
                <a:cubicBezTo>
                  <a:pt x="961" y="661"/>
                  <a:pt x="973" y="669"/>
                  <a:pt x="983" y="703"/>
                </a:cubicBezTo>
                <a:cubicBezTo>
                  <a:pt x="974" y="709"/>
                  <a:pt x="964" y="712"/>
                  <a:pt x="957" y="720"/>
                </a:cubicBezTo>
                <a:cubicBezTo>
                  <a:pt x="943" y="736"/>
                  <a:pt x="922" y="773"/>
                  <a:pt x="922" y="773"/>
                </a:cubicBezTo>
                <a:cubicBezTo>
                  <a:pt x="855" y="750"/>
                  <a:pt x="834" y="672"/>
                  <a:pt x="765" y="651"/>
                </a:cubicBezTo>
                <a:cubicBezTo>
                  <a:pt x="759" y="645"/>
                  <a:pt x="756" y="633"/>
                  <a:pt x="748" y="633"/>
                </a:cubicBezTo>
                <a:cubicBezTo>
                  <a:pt x="728" y="633"/>
                  <a:pt x="728" y="669"/>
                  <a:pt x="722" y="677"/>
                </a:cubicBezTo>
                <a:cubicBezTo>
                  <a:pt x="699" y="707"/>
                  <a:pt x="666" y="734"/>
                  <a:pt x="634" y="755"/>
                </a:cubicBezTo>
                <a:cubicBezTo>
                  <a:pt x="641" y="775"/>
                  <a:pt x="654" y="840"/>
                  <a:pt x="669" y="860"/>
                </a:cubicBezTo>
                <a:cubicBezTo>
                  <a:pt x="682" y="877"/>
                  <a:pt x="713" y="904"/>
                  <a:pt x="713" y="904"/>
                </a:cubicBezTo>
                <a:cubicBezTo>
                  <a:pt x="727" y="945"/>
                  <a:pt x="708" y="952"/>
                  <a:pt x="695" y="991"/>
                </a:cubicBezTo>
                <a:cubicBezTo>
                  <a:pt x="678" y="988"/>
                  <a:pt x="659" y="990"/>
                  <a:pt x="643" y="982"/>
                </a:cubicBezTo>
                <a:cubicBezTo>
                  <a:pt x="634" y="977"/>
                  <a:pt x="630" y="965"/>
                  <a:pt x="626" y="956"/>
                </a:cubicBezTo>
                <a:cubicBezTo>
                  <a:pt x="607" y="913"/>
                  <a:pt x="607" y="859"/>
                  <a:pt x="573" y="825"/>
                </a:cubicBezTo>
                <a:cubicBezTo>
                  <a:pt x="556" y="776"/>
                  <a:pt x="509" y="788"/>
                  <a:pt x="460" y="782"/>
                </a:cubicBezTo>
                <a:cubicBezTo>
                  <a:pt x="416" y="767"/>
                  <a:pt x="418" y="792"/>
                  <a:pt x="381" y="816"/>
                </a:cubicBezTo>
                <a:cubicBezTo>
                  <a:pt x="362" y="872"/>
                  <a:pt x="319" y="916"/>
                  <a:pt x="276" y="956"/>
                </a:cubicBezTo>
                <a:cubicBezTo>
                  <a:pt x="233" y="945"/>
                  <a:pt x="198" y="954"/>
                  <a:pt x="224" y="895"/>
                </a:cubicBezTo>
                <a:cubicBezTo>
                  <a:pt x="227" y="887"/>
                  <a:pt x="236" y="884"/>
                  <a:pt x="242" y="878"/>
                </a:cubicBezTo>
                <a:cubicBezTo>
                  <a:pt x="252" y="845"/>
                  <a:pt x="270" y="820"/>
                  <a:pt x="285" y="790"/>
                </a:cubicBezTo>
                <a:cubicBezTo>
                  <a:pt x="289" y="782"/>
                  <a:pt x="289" y="772"/>
                  <a:pt x="294" y="764"/>
                </a:cubicBezTo>
                <a:cubicBezTo>
                  <a:pt x="307" y="745"/>
                  <a:pt x="325" y="731"/>
                  <a:pt x="338" y="712"/>
                </a:cubicBezTo>
                <a:cubicBezTo>
                  <a:pt x="312" y="686"/>
                  <a:pt x="281" y="662"/>
                  <a:pt x="250" y="642"/>
                </a:cubicBezTo>
                <a:cubicBezTo>
                  <a:pt x="183" y="651"/>
                  <a:pt x="124" y="673"/>
                  <a:pt x="58" y="686"/>
                </a:cubicBezTo>
                <a:cubicBezTo>
                  <a:pt x="41" y="683"/>
                  <a:pt x="17" y="691"/>
                  <a:pt x="6" y="677"/>
                </a:cubicBezTo>
                <a:cubicBezTo>
                  <a:pt x="0" y="669"/>
                  <a:pt x="23" y="588"/>
                  <a:pt x="41" y="581"/>
                </a:cubicBezTo>
                <a:cubicBezTo>
                  <a:pt x="57" y="575"/>
                  <a:pt x="76" y="576"/>
                  <a:pt x="93" y="572"/>
                </a:cubicBezTo>
                <a:cubicBezTo>
                  <a:pt x="142" y="561"/>
                  <a:pt x="182" y="544"/>
                  <a:pt x="233" y="537"/>
                </a:cubicBezTo>
                <a:cubicBezTo>
                  <a:pt x="260" y="458"/>
                  <a:pt x="224" y="563"/>
                  <a:pt x="250" y="485"/>
                </a:cubicBezTo>
                <a:cubicBezTo>
                  <a:pt x="256" y="467"/>
                  <a:pt x="268" y="432"/>
                  <a:pt x="268" y="432"/>
                </a:cubicBezTo>
                <a:cubicBezTo>
                  <a:pt x="252" y="386"/>
                  <a:pt x="216" y="380"/>
                  <a:pt x="189" y="345"/>
                </a:cubicBezTo>
                <a:cubicBezTo>
                  <a:pt x="176" y="328"/>
                  <a:pt x="154" y="293"/>
                  <a:pt x="154" y="293"/>
                </a:cubicBezTo>
                <a:cubicBezTo>
                  <a:pt x="144" y="259"/>
                  <a:pt x="132" y="251"/>
                  <a:pt x="102" y="232"/>
                </a:cubicBezTo>
                <a:cubicBezTo>
                  <a:pt x="114" y="198"/>
                  <a:pt x="138" y="170"/>
                  <a:pt x="163" y="144"/>
                </a:cubicBezTo>
                <a:cubicBezTo>
                  <a:pt x="210" y="193"/>
                  <a:pt x="151" y="127"/>
                  <a:pt x="189" y="188"/>
                </a:cubicBezTo>
                <a:cubicBezTo>
                  <a:pt x="204" y="213"/>
                  <a:pt x="228" y="231"/>
                  <a:pt x="250" y="249"/>
                </a:cubicBezTo>
                <a:cubicBezTo>
                  <a:pt x="280" y="273"/>
                  <a:pt x="271" y="288"/>
                  <a:pt x="311" y="302"/>
                </a:cubicBezTo>
                <a:cubicBezTo>
                  <a:pt x="391" y="275"/>
                  <a:pt x="292" y="313"/>
                  <a:pt x="355" y="275"/>
                </a:cubicBezTo>
                <a:cubicBezTo>
                  <a:pt x="371" y="266"/>
                  <a:pt x="390" y="264"/>
                  <a:pt x="407" y="258"/>
                </a:cubicBezTo>
                <a:cubicBezTo>
                  <a:pt x="413" y="252"/>
                  <a:pt x="417" y="241"/>
                  <a:pt x="425" y="240"/>
                </a:cubicBezTo>
                <a:cubicBezTo>
                  <a:pt x="439" y="238"/>
                  <a:pt x="468" y="249"/>
                  <a:pt x="468" y="24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38880" y="6858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7676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295280" y="1371600"/>
                <a:ext cx="28195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762120" y="2514600"/>
            <a:ext cx="7696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 condiciones de borde T(0) =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y dT/dx =0  en x = L (largo aleta), se lleg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6704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43000" y="3657600"/>
                <a:ext cx="2438280" cy="16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den>
                        </m:f>
                      </m:e>
                      <m:e/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h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A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 flipV="1">
            <a:off x="5562720" y="350496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5486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052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95680" y="4191120"/>
                <a:ext cx="9144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867280" y="5410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x                  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3733920"/>
            <a:ext cx="2361960" cy="1676160"/>
          </a:xfrm>
          <a:custGeom>
            <a:avLst/>
            <a:gdLst/>
            <a:ahLst/>
            <a:rect l="l" t="t" r="r" b="b"/>
            <a:pathLst>
              <a:path w="1488" h="1056">
                <a:moveTo>
                  <a:pt x="0" y="0"/>
                </a:moveTo>
                <a:cubicBezTo>
                  <a:pt x="28" y="152"/>
                  <a:pt x="56" y="304"/>
                  <a:pt x="144" y="432"/>
                </a:cubicBezTo>
                <a:cubicBezTo>
                  <a:pt x="232" y="560"/>
                  <a:pt x="304" y="664"/>
                  <a:pt x="528" y="768"/>
                </a:cubicBezTo>
                <a:cubicBezTo>
                  <a:pt x="752" y="872"/>
                  <a:pt x="1328" y="1008"/>
                  <a:pt x="1488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3809880"/>
            <a:ext cx="2361960" cy="1447920"/>
          </a:xfrm>
          <a:custGeom>
            <a:avLst/>
            <a:gdLst/>
            <a:ahLst/>
            <a:rect l="l" t="t" r="r" b="b"/>
            <a:pathLst>
              <a:path w="1488" h="912">
                <a:moveTo>
                  <a:pt x="0" y="0"/>
                </a:moveTo>
                <a:cubicBezTo>
                  <a:pt x="60" y="108"/>
                  <a:pt x="120" y="216"/>
                  <a:pt x="288" y="336"/>
                </a:cubicBezTo>
                <a:cubicBezTo>
                  <a:pt x="456" y="456"/>
                  <a:pt x="808" y="624"/>
                  <a:pt x="1008" y="720"/>
                </a:cubicBezTo>
                <a:cubicBezTo>
                  <a:pt x="1208" y="816"/>
                  <a:pt x="1348" y="864"/>
                  <a:pt x="1488" y="9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3733920"/>
            <a:ext cx="2438280" cy="990360"/>
          </a:xfrm>
          <a:custGeom>
            <a:avLst/>
            <a:gdLst/>
            <a:ahLst/>
            <a:rect l="l" t="t" r="r" b="b"/>
            <a:pathLst>
              <a:path w="1536" h="624">
                <a:moveTo>
                  <a:pt x="0" y="0"/>
                </a:moveTo>
                <a:cubicBezTo>
                  <a:pt x="92" y="80"/>
                  <a:pt x="184" y="160"/>
                  <a:pt x="336" y="240"/>
                </a:cubicBezTo>
                <a:cubicBezTo>
                  <a:pt x="488" y="320"/>
                  <a:pt x="712" y="416"/>
                  <a:pt x="912" y="480"/>
                </a:cubicBezTo>
                <a:cubicBezTo>
                  <a:pt x="1112" y="544"/>
                  <a:pt x="1324" y="584"/>
                  <a:pt x="153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34290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24600" y="121932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9907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924680" y="533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48920" y="152280"/>
            <a:ext cx="39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calor total transferido por aleta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0536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0536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676520"/>
            <a:ext cx="891540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la práctica para aplicar lo anterior al diseño se introduce el concepto de eficiencia de ale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q/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que q es el calor real transmitido por la aleta (el calculado anteriormente) y 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calor máximo que es posible transferir por la aleta (caso en que T(x)=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. De este modo q se puede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 =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(T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143000" y="609480"/>
                <a:ext cx="2514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tanh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380880"/>
            <a:ext cx="6781680" cy="36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uego el calor total transmitido por las aletas (área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y la superficie exterior del tubo libre de aletas (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= h(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eemplazando en la expresion de la resistencia se lleg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86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219320" y="2666880"/>
                <a:ext cx="4495680" cy="141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914400" y="4267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la eficiencia de la aleta aumenta, disminuye la resistencia a la transferencia de calor. ¿qué diseño de aleta produce buenas eficienci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05:42:27Z</dcterms:created>
  <dc:creator>Tomás Vargas </dc:creator>
  <dc:description/>
  <dc:language>en-US</dc:language>
  <cp:lastModifiedBy>Tomas Vargas</cp:lastModifiedBy>
  <dcterms:modified xsi:type="dcterms:W3CDTF">2006-08-07T20:32:19Z</dcterms:modified>
  <cp:revision>9</cp:revision>
  <dc:subject/>
  <dc:title>Presentación de PowerPoint</dc:title>
</cp:coreProperties>
</file>