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D3B-D3EA-4CFA-861F-686992B8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815-0037-46A2-88A4-B2B2F5F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675-0312-4546-B2B7-F48A8C0E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1F8-9881-4BAD-B144-49E64C73B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737-DCF6-4396-BBF8-81C1EAC8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F48-FFAF-41AC-AA07-804831D6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D68-69CB-4DD5-A9A5-04EBB670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CE8-8A83-4947-8E0A-894DD024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AA2-63A9-4E24-9711-CB10B8B5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CB1-5305-41CF-BA40-1CB7CD06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13E-0D91-4E3D-A56E-F122ECE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AA7-4F89-4146-8225-2E6C9BD3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1210-795C-46B8-94CE-5DE661C4F76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6-08-07T20:32:19Z</dcterms:modified>
  <cp:revision>9</cp:revision>
  <dc:subject/>
  <dc:title>Presentación de PowerPoint</dc:title>
</cp:coreProperties>
</file>