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234-0493-45A0-AEE0-DC24EA0D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B7B-032B-46A4-A049-7105BE61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F92-B336-4E76-BEB0-75CE0586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6A8-CB2A-4376-90DE-60D792C7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B70-D985-487A-BE3D-E11B31C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5CB-CF35-4196-B986-3E7FCD3E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291-E2C3-4B2B-848E-4A014AFC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6AF-C65C-41EE-B572-393A253B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7BB-8484-4850-B6B3-0DC3887E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0CF-9925-448E-991D-8DB7F1F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9C4-0ACE-44B2-A463-39851B12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02F-A9E2-4000-A5D7-4175AB1F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2DCF-E2C7-46ED-B96C-8D28527A2BD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6-08-07T20:32:19Z</dcterms:modified>
  <cp:revision>9</cp:revision>
  <dc:subject/>
  <dc:title>Presentación de PowerPoint</dc:title>
</cp:coreProperties>
</file>