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44CE9-1A61-45EB-8D6A-B0DD3D026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1358F-2A2E-42D7-B18C-6E0EA985B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00D02-DB03-4456-8465-7CF118B3E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990C0-6999-41FE-8CB8-EDE39DE17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24BB7-C6D6-4DEA-B10C-200F91B93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F3879-9C6F-4784-911B-FDD951CD6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C090A-86E3-43AA-95D7-F3254C57A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30CE9-EB5E-482E-B8E1-A9D9B1AA8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D0BAB-C17A-414C-9986-C97E5CCBC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B231F-F1BA-468D-AC3F-AEBBFCA45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2639B-1FCF-4D2B-AA59-4DB3DB8D8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AB26A-4466-4FC2-8E01-CEB7EE995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542A-9C30-4E78-986D-8694A0A2C3C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RANSPARENCIA4" descr=""/>
          <p:cNvPicPr/>
          <p:nvPr/>
        </p:nvPicPr>
        <p:blipFill>
          <a:blip r:embed="rId1"/>
          <a:stretch/>
        </p:blipFill>
        <p:spPr>
          <a:xfrm>
            <a:off x="2286000" y="152280"/>
            <a:ext cx="4902120" cy="6553440"/>
          </a:xfrm>
          <a:prstGeom prst="rect">
            <a:avLst/>
          </a:prstGeom>
          <a:ln w="0">
            <a:noFill/>
          </a:ln>
        </p:spPr>
      </p:pic>
      <p:sp>
        <p:nvSpPr>
          <p:cNvPr id="42" name=""/>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TRANSPARENCIA1" descr=""/>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TRANSPARENCIA3" descr=""/>
          <p:cNvPicPr/>
          <p:nvPr/>
        </p:nvPicPr>
        <p:blipFill>
          <a:blip r:embed="rId1"/>
          <a:stretch/>
        </p:blipFill>
        <p:spPr>
          <a:xfrm>
            <a:off x="3740040" y="-380880"/>
            <a:ext cx="5403960" cy="7391160"/>
          </a:xfrm>
          <a:prstGeom prst="rect">
            <a:avLst/>
          </a:prstGeom>
          <a:ln w="0">
            <a:noFill/>
          </a:ln>
        </p:spPr>
      </p:pic>
      <p:sp>
        <p:nvSpPr>
          <p:cNvPr id="46" name=""/>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TRANSPARENCIA2" descr=""/>
          <p:cNvPicPr/>
          <p:nvPr/>
        </p:nvPicPr>
        <p:blipFill>
          <a:blip r:embed="rId1"/>
          <a:stretch/>
        </p:blipFill>
        <p:spPr>
          <a:xfrm>
            <a:off x="4116240" y="-76320"/>
            <a:ext cx="5027760" cy="6934320"/>
          </a:xfrm>
          <a:prstGeom prst="rect">
            <a:avLst/>
          </a:prstGeom>
          <a:ln w="0">
            <a:noFill/>
          </a:ln>
        </p:spPr>
      </p:pic>
      <p:sp>
        <p:nvSpPr>
          <p:cNvPr id="48" name=""/>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85800" y="5257800"/>
                <a:ext cx="2590920" cy="118260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Tomás Vargas </cp:lastModifiedBy>
  <dcterms:modified xsi:type="dcterms:W3CDTF">2005-08-08T22:37:12Z</dcterms:modified>
  <cp:revision>7</cp:revision>
  <dc:subject/>
  <dc:title>Presentación de PowerPoint</dc:title>
</cp:coreProperties>
</file>