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F797D-1BF8-4E65-A86B-C57325826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EF2D3-98FD-4F56-896C-392F031B7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F009A-CA1B-469A-B172-4F62DF9D3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8DDF9-0667-4AB7-B8E5-DB588DC07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A66F4-C51E-4CDF-B631-813C7661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4FA0-5268-4FB6-8C96-AE83DCAD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57E7-1EF5-490D-93C7-5AF25F03C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8D93F-C550-4BA9-A2AC-B1C4048AC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A1F22-D79F-40E1-B0F4-3BB0F1331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AE5B8-0C79-45E6-868E-6D096D63D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65A9-1A4E-4520-BFB7-3DC10895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E0BD-DFE8-4D65-83C6-8D264C84B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E2E0-360E-4546-B264-35E2B24A7D6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RANSPARENCIA4"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TRANSPARENCIA1"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TRANSPARENCIA3"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TRANSPARENCIA2"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ás Vargas </cp:lastModifiedBy>
  <dcterms:modified xsi:type="dcterms:W3CDTF">2005-08-08T22:37:12Z</dcterms:modified>
  <cp:revision>7</cp:revision>
  <dc:subject/>
  <dc:title>Presentación de PowerPoint</dc:title>
</cp:coreProperties>
</file>