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9CAE4-00A8-41E5-ADD6-91479C859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A5AE1-0E75-4BE9-A9EF-B01CA65FB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DE764-F1D3-4A7D-A0D3-5383C68A5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80447-6081-4295-85DC-02E06F656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F99BA-AF6B-4B07-AC46-56C999B8D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893CC-FB31-4AF6-9764-649AF011A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B7FD2-4F33-4661-9BEA-FE37BA99D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C23CB-65AD-4A22-BEE9-440A60C9D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70487-5E58-4B50-A955-22941EEBC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ABC08-5D37-40B8-B820-44A8F448D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472C6-C75B-4929-BBBD-A3303F83C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0F31A-455C-491D-81F2-D177CC024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3F2A-ABE6-48FE-A79B-6FFB3C3FADB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RANSPARENCIA4" descr=""/>
          <p:cNvPicPr/>
          <p:nvPr/>
        </p:nvPicPr>
        <p:blipFill>
          <a:blip r:embed="rId1"/>
          <a:stretch/>
        </p:blipFill>
        <p:spPr>
          <a:xfrm>
            <a:off x="2286000" y="152280"/>
            <a:ext cx="4902120" cy="6553440"/>
          </a:xfrm>
          <a:prstGeom prst="rect">
            <a:avLst/>
          </a:prstGeom>
          <a:ln w="0">
            <a:noFill/>
          </a:ln>
        </p:spPr>
      </p:pic>
      <p:sp>
        <p:nvSpPr>
          <p:cNvPr id="42" name=""/>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TRANSPARENCIA1" descr=""/>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TRANSPARENCIA3" descr=""/>
          <p:cNvPicPr/>
          <p:nvPr/>
        </p:nvPicPr>
        <p:blipFill>
          <a:blip r:embed="rId1"/>
          <a:stretch/>
        </p:blipFill>
        <p:spPr>
          <a:xfrm>
            <a:off x="3740040" y="-380880"/>
            <a:ext cx="5403960" cy="7391160"/>
          </a:xfrm>
          <a:prstGeom prst="rect">
            <a:avLst/>
          </a:prstGeom>
          <a:ln w="0">
            <a:noFill/>
          </a:ln>
        </p:spPr>
      </p:pic>
      <p:sp>
        <p:nvSpPr>
          <p:cNvPr id="46" name=""/>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TRANSPARENCIA2" descr=""/>
          <p:cNvPicPr/>
          <p:nvPr/>
        </p:nvPicPr>
        <p:blipFill>
          <a:blip r:embed="rId1"/>
          <a:stretch/>
        </p:blipFill>
        <p:spPr>
          <a:xfrm>
            <a:off x="4116240" y="-76320"/>
            <a:ext cx="5027760" cy="6934320"/>
          </a:xfrm>
          <a:prstGeom prst="rect">
            <a:avLst/>
          </a:prstGeom>
          <a:ln w="0">
            <a:noFill/>
          </a:ln>
        </p:spPr>
      </p:pic>
      <p:sp>
        <p:nvSpPr>
          <p:cNvPr id="48" name=""/>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685800" y="5257800"/>
                <a:ext cx="2590920" cy="118260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Tomás Vargas </cp:lastModifiedBy>
  <dcterms:modified xsi:type="dcterms:W3CDTF">2005-08-08T22:37:12Z</dcterms:modified>
  <cp:revision>7</cp:revision>
  <dc:subject/>
  <dc:title>Presentación de PowerPoint</dc:title>
</cp:coreProperties>
</file>