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D07-524C-4782-B3FD-52EB8163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7B0-D1C9-4D82-A9F0-41209CB9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762-303D-473E-ABFA-F905977D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57C-39B2-4392-93C9-B4FCF9A2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F7F-FF31-488D-A70B-8AA5340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176-54E2-43D7-97F3-978AAA9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881-00B3-45EE-AA55-E4477516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DD9-F78C-47EA-95A1-794DF1DC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473-65AC-4C2A-AEA1-848C54BF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D9B-DD61-49BD-AD69-033F306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D9C-9C34-4837-A34B-FCE68D7D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045-FB4F-4DA2-B4C2-107C1817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6332-C072-4A3C-80DD-EC701493F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95280" y="0"/>
                <a:ext cx="3583080" cy="487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19720" y="762120"/>
                <a:ext cx="45082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60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126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2060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01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732720" y="3357720"/>
                <a:ext cx="1512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33360"/>
            <a:ext cx="7200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11280" y="155736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6-08-02T20:01:07Z</dcterms:modified>
  <cp:revision>10</cp:revision>
  <dc:subject/>
  <dc:title>Presentación de PowerPoint</dc:title>
</cp:coreProperties>
</file>