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F95-8681-4D02-8AE7-7864FBB9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7EC-9234-48E4-AAB9-49F67FDC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5EA-5DB0-4EDA-AE80-94DD107B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B01-10DA-4381-9BCE-61530175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5F6-4939-4617-9114-A86F681F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45C-DDCF-4374-A24C-30F5A281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3D2-DC1D-4FB6-8E59-C5F63EE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FF8-4BA9-4C26-9F11-C9D12F60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7ED-B99D-4CEB-AE74-8DC761FC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400-35FE-47AB-A3C9-40C194D3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296-22CC-49AA-AD2D-51B376D1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5C2-7B95-496C-9A08-43EE3892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7CA8-ED63-40ED-A40B-C6FE83EC2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95280" y="0"/>
                <a:ext cx="3583080" cy="487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/>
                        </m:bar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19720" y="762120"/>
                <a:ext cx="450828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60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126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2060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01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732720" y="3357720"/>
                <a:ext cx="1512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33360"/>
            <a:ext cx="7200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11280" y="155736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6-08-02T20:01:07Z</dcterms:modified>
  <cp:revision>10</cp:revision>
  <dc:subject/>
  <dc:title>Presentación de PowerPoint</dc:title>
</cp:coreProperties>
</file>