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98E-00BA-46F1-81D9-201A0828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8A3-48B7-4022-BF92-D50BB861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EFB-1773-4D72-A80D-6E28297D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C23-AA71-4847-AD27-9A642E0C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29C-4FD6-47B2-852F-5814072B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B94-836A-499F-A799-BC0D4B6A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B78-4CB0-461D-B7DE-944F5747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8EF-C096-4E41-BD6D-812E1940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488-1D72-4A48-AD61-F6DD2B5B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02D-AB1F-415A-AFCB-8D817099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71E-189F-487E-92D0-221F7C43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952-BAD6-4196-8FD3-25AEFA9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5640-0DD3-43BD-A3E7-3A33B4BC7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95280" y="0"/>
                <a:ext cx="3583080" cy="487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19720" y="762120"/>
                <a:ext cx="45082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60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126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2060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01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732720" y="3357720"/>
                <a:ext cx="1512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33360"/>
            <a:ext cx="7200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11280" y="155736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6-08-02T20:01:07Z</dcterms:modified>
  <cp:revision>10</cp:revision>
  <dc:subject/>
  <dc:title>Presentación de PowerPoint</dc:title>
</cp:coreProperties>
</file>