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4A34-D44F-4C32-A204-8DB4669E7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DA676-A0F9-450C-B95C-CD6052EE5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66C00-E1FF-4C75-8928-3BC49B2CC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9FD0-B3F8-4E56-8F24-0585700FE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30B2-0A01-4322-9A5E-54FD12DEB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F54F-D5CF-4833-B6F8-CCA269D30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0D4F-10D0-436A-86E0-DCDB5B9A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C46E-BED9-414F-977B-B429581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4498-8E1A-438C-A30C-0FCE38C9F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5993-3DBA-4447-B61C-1975BCDF2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5277-F209-4149-8556-5E1F2C801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8504-0DA2-4A15-AF0C-EE71AD7FE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0A366-8306-4A00-A3A2-EE27B431E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395280" y="0"/>
                <a:ext cx="3583080" cy="4873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bar>
                          <m:barPr>
                            <m:pos m:val="bot"/>
                          </m:barPr>
                          <m:e/>
                        </m:bar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19720" y="762120"/>
                <a:ext cx="4508280" cy="19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700360" y="26028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7640" y="126828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771640" y="2060640"/>
            <a:ext cx="6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700360" y="5013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732720" y="3357720"/>
                <a:ext cx="1512720" cy="97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  <m:r>
                          <m:t xml:space="preserve">Δ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333360"/>
            <a:ext cx="7200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611280" y="155736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333360"/>
            <a:ext cx="77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6-08-02T20:01:07Z</dcterms:modified>
  <cp:revision>10</cp:revision>
  <dc:subject/>
  <dc:title>Presentación de PowerPoint</dc:title>
</cp:coreProperties>
</file>