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15C-6723-4E0B-B7F8-8C646EDA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B63B-0440-4283-9F6B-99FD22E0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1D4-A95B-4683-B734-EB390BE5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CF9-32EA-45EB-ABF0-82E69089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0E2-5A21-4B16-A7D8-9ABDB87D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4AF-C80A-41D2-967C-9900E6B0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534-BE0A-489D-8852-D0FEF468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899-BB7C-4945-AA74-FCD44F43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D97C-DF08-4C30-BA3D-4B52ED6F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03A-1E57-4351-B93E-2FE468A4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96D-E019-40D6-BDD8-AB26B2FD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2F8-C6C8-4BF2-88D0-0584552F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954A-79D7-4B6F-BF34-D7529564085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049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POR CONDUCCIÓN  A TRAVES DE LAS PAREDES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371600"/>
            <a:ext cx="6019920" cy="4572000"/>
            <a:chOff x="0" y="1371600"/>
            <a:chExt cx="6019920" cy="4572000"/>
          </a:xfrm>
        </p:grpSpPr>
        <p:sp>
          <p:nvSpPr>
            <p:cNvPr id="43" name=""/>
            <p:cNvSpPr/>
            <p:nvPr/>
          </p:nvSpPr>
          <p:spPr>
            <a:xfrm>
              <a:off x="1371600" y="2286000"/>
              <a:ext cx="3962520" cy="10670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81440" y="2514600"/>
              <a:ext cx="2819160" cy="533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62320" y="2667240"/>
              <a:ext cx="198108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281952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3412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44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1676520"/>
              <a:ext cx="609480" cy="1219320"/>
            </a:xfrm>
            <a:prstGeom prst="downArrow">
              <a:avLst>
                <a:gd name="adj1" fmla="val 50000"/>
                <a:gd name="adj2" fmla="val 50015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24440" y="1676520"/>
              <a:ext cx="609480" cy="1143000"/>
            </a:xfrm>
            <a:prstGeom prst="upArrow">
              <a:avLst>
                <a:gd name="adj1" fmla="val 50000"/>
                <a:gd name="adj2" fmla="val 468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33920" y="13716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Times New Roman"/>
                </a:rPr>
                <a:t>Fluído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52424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3399ff"/>
                  </a:solidFill>
                  <a:latin typeface="Times New Roman"/>
                </a:rPr>
                <a:t>Fluído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952880" y="3962520"/>
            <a:ext cx="2514600" cy="2514600"/>
          </a:xfrm>
          <a:prstGeom prst="ellipse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4343400"/>
            <a:ext cx="167616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4572000"/>
            <a:ext cx="1218960" cy="1219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510552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8120" y="152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61" name="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00068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1981080" cy="110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95680" y="9907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Notar que en estado estacionario dT/dr decrece con aumento d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4320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432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419720" y="2286000"/>
                <a:ext cx="3317760" cy="36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/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8152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09680" y="2971800"/>
                <a:ext cx="3048120" cy="24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685800" y="152280"/>
            <a:ext cx="69343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el flujo q a través de la pared de un cilindro se puede expresar con una ecuación similar al caso de una pared plana,, introduciend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   ,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área media logarít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952880" cy="1290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1600" y="586728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radio medio logarít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3808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entre dos fluídos a través de la pared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6712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952880" y="1219320"/>
                <a:ext cx="274320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533520" y="1447920"/>
          <a:ext cx="36576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36576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433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886200" y="4191120"/>
                <a:ext cx="47912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600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47920" y="609480"/>
                <a:ext cx="31240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295280" y="1828800"/>
            <a:ext cx="640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/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y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Lu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4320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905120" y="2666880"/>
                <a:ext cx="2681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676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19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00200" y="4038480"/>
                <a:ext cx="297180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ex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álogamente, si se toma como base el área interna del t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81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00200" y="1219320"/>
                <a:ext cx="30481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514600" y="40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600200" y="2971800"/>
                <a:ext cx="3276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in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04:18:40Z</dcterms:created>
  <dc:creator>Tomás Vargas </dc:creator>
  <dc:description/>
  <dc:language>en-US</dc:language>
  <cp:lastModifiedBy>Tomás Vargas </cp:lastModifiedBy>
  <dcterms:modified xsi:type="dcterms:W3CDTF">2004-08-03T14:10:42Z</dcterms:modified>
  <cp:revision>13</cp:revision>
  <dc:subject/>
  <dc:title>Presentación de PowerPoint</dc:title>
</cp:coreProperties>
</file>