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A58-D7E1-4927-AAB9-35F02AA9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969-6118-4755-A44E-C75AE0F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D47-F141-4C22-AA0C-EB480C01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AB4-8974-4D3C-A72F-E176DDDF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558-E32F-44BD-9877-FDE6CD18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04F-14E6-46A1-B989-F9A5668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5C2-4307-4DDA-A8B1-12ED33E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1E9-9F75-47CF-99FC-C162781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E14-8494-43DB-92D4-F4F8DA2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4F9-623D-40B6-9181-05A787D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798-A985-49DD-92B3-398C96B1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61B-4F01-454D-91D6-0EE221B3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83C-86FD-4AF5-BAC9-A251A9B05C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ás Vargas </cp:lastModifiedBy>
  <dcterms:modified xsi:type="dcterms:W3CDTF">2004-08-03T14:10:42Z</dcterms:modified>
  <cp:revision>13</cp:revision>
  <dc:subject/>
  <dc:title>Presentación de PowerPoint</dc:title>
</cp:coreProperties>
</file>