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8E1-5B25-465D-9D19-05CF5F5F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047-147B-4E87-81E1-E215128F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513-2BC3-4852-BEAA-D5D046D5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7B6-527D-4646-A663-73F89208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4C5-21A5-4E9F-93D6-E4A6717B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042-728D-4D4C-A6D4-B356EEE0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037-57A9-4E13-B276-F1EB7044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E52-BCB4-41D4-B32C-2EEC026B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936-E7DF-4C14-A70E-68E601E7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AF6-6619-4215-9B6D-07214262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1B3-4F9D-4C73-919D-83430DD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986-3E48-4111-AED5-48FE053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9402-B454-4272-A6DB-BDEDA6178FE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ás Vargas </cp:lastModifiedBy>
  <dcterms:modified xsi:type="dcterms:W3CDTF">2004-08-03T14:10:42Z</dcterms:modified>
  <cp:revision>13</cp:revision>
  <dc:subject/>
  <dc:title>Presentación de PowerPoint</dc:title>
</cp:coreProperties>
</file>