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DBC-DDBC-478E-91F2-0DFD7814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008-C0BD-4CB2-B6E6-DC131111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72E-16A2-4479-9416-3F3B0322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0B8-0E74-45FC-85CD-28823F87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868-2F47-42A9-BF4B-7258AB40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76A-6493-457C-AD29-872BE43B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FB2-2F86-4281-BDE9-78557D16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47B-5187-4DFF-BF21-D7A5292F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686-102E-4A74-BA71-4AF20829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84F-FBD9-41C4-9316-16323D5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E71-7E23-46DA-8C7A-53889739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AF2-791A-4AA0-BF31-9E453661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E577-D067-4803-A2B3-A99DF15A86F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ás Vargas </cp:lastModifiedBy>
  <dcterms:modified xsi:type="dcterms:W3CDTF">2004-08-03T14:10:42Z</dcterms:modified>
  <cp:revision>13</cp:revision>
  <dc:subject/>
  <dc:title>Presentación de PowerPoint</dc:title>
</cp:coreProperties>
</file>