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44A-7B50-4847-912D-7CA1C625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5BF-24B9-439F-86D8-A6BE3B14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C27-23AC-4C04-B75A-5DC37EC7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806-F2D3-431A-929F-E2FCB54D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739-3795-4E55-B92A-09715F39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CB9-7598-43CE-8FD3-2FB0ADDC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3F8-4D34-4CD7-B49D-B9417268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5FA-6207-402B-B950-B3441830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EAF-5038-4C71-BA43-2BBC515D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ED4-4D01-4781-AB93-4BF8444E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00F-50D2-4AD2-BD3E-C386FFEA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776-E452-4CA4-8227-1A064B2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01A4-A628-48FC-BA0B-6E1BEE353C0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ás Vargas </cp:lastModifiedBy>
  <dcterms:modified xsi:type="dcterms:W3CDTF">2004-08-03T14:10:42Z</dcterms:modified>
  <cp:revision>13</cp:revision>
  <dc:subject/>
  <dc:title>Presentación de PowerPoint</dc:title>
</cp:coreProperties>
</file>