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B74-0194-4E58-99D0-82FC0B5F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21E-D69B-4015-9043-66E623E7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345-ADF2-4481-A6B4-5FE51F9F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09B-DEA4-4BAE-B6A3-F77A3C17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34D-E6EB-4CCB-B658-4F0AD350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CF7-6859-4BB5-8CB8-DE5771DF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062-E7CB-4A5D-933F-3AC5536A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5F8-A8FE-47CD-8B69-FDC7AC86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F71-3FB4-48C8-8B85-31E3ABA2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211-0A03-40E2-8499-3E951E93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399-6CB8-4E32-9731-2AA972C3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01B-CDC9-4990-AE51-AB420DA0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113D-B124-4024-9D7F-4E4C8AA9DAA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s Encadenantes de la Innovación &amp; el Emprendimi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estima… Subestimar lo nacional VS extranjero (copiar, envidia y comparación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acios para innovar… Estructuras de pensamiento y organizacionales (ide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edo al cambio, tolerancia al fracaso, aceptación de riesgos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foque cultural: continuidad… mantener el status quo, convicción (“creerse el cuento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Áreas: Individual, empresa y 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dividuo: Miedo, desconfianza, resignación, saber escuchar… / Empresa: Políticas coercitivas  y burocracias (premios y castigos). Visión reduccionista, memoria y alcances reales (viabilidad)… Pensamiento grupal (dominios y trabajo interdisciplinar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ltura: División social, temas económicos… Estados de ánimo. Historia… Hacerse cargo del 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s Encadenantes de la Innovación &amp; el Emprendimi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mersos en territorio hostil (zanahorias, garrotes y serm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juicios y sesgos (duda sobre las capacidades de las personas). La levedad del “Ser y estar” (lengu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nace para ser lo que se es… (determinismo… destino… ?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ja negra: Egoísmo cognitivo, técnico, de conocimiento… Know How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onar VS Realizar… Articular ideas con otro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delo de administración rígido y prácticas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ltura anestesiada… Temor a perder la pega, inseguridad, falta de compromiso… Envidia… Validaci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ducación y modelos de formación: destrezas, habilidad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8:39:51Z</dcterms:created>
  <dc:creator>Alvaro Ramírez</dc:creator>
  <dc:description/>
  <dc:language>en-US</dc:language>
  <cp:lastModifiedBy>Alvaro Ramírez</cp:lastModifiedBy>
  <dcterms:modified xsi:type="dcterms:W3CDTF">2006-12-16T16:26:01Z</dcterms:modified>
  <cp:revision>10</cp:revision>
  <dc:subject/>
  <dc:title>Presentación de PowerPoint</dc:title>
</cp:coreProperties>
</file>