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D22-78CF-4FF0-84B1-AC7BE82D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D8C-A269-40CA-95C9-00AC849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77B-3798-4D24-893A-425557EC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F04-2460-4175-B54F-8827FC18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E41-A593-41CD-A9BC-0ABD8AF2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E2D-BDB6-4367-BFFC-6BCAC52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E78-64F9-4493-950B-DB02A4FB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247-8851-4DC1-AA4E-32D7336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A56-D3A5-453B-8BB4-1790F07C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64C-E25C-4CB9-98D6-B3950AA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C84-2C85-4ACB-9B2D-B74B8AB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857-8F9C-4896-AB5B-DBC6FF5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0F94-1C3B-4DF4-9483-28454AB71E7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estima… Subestimar lo nacional VS extranjero (copiar, envidia y comparació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acios para innovar… Estructuras de pensamiento y organizacionales (ide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edo al cambio, tolerancia al fracaso, aceptación de riesgo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oque cultural: continuidad… mantener el status quo, convicción (“creerse el cuent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: Individual, empresa y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viduo: Miedo, desconfianza, resignación, saber escuchar… / Empresa: Políticas coercitivas  y burocracias (premios y castigos). Visión reduccionista, memoria y alcances reales (viabilidad)… Pensamiento grupal (dominios y trabajo interdisciplinar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: División social, temas económicos… Estados de ánimo. Historia… Hacerse cargo d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mersos en territorio hostil (zanahorias, garrotes y serm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juicios y sesgos (duda sobre las capacidades de las personas). La levedad del “Ser y estar” (lengu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nace para ser lo que se es… (determinismo… destino… 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ja negra: Egoísmo cognitivo, técnico, de conocimiento… Know How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onar VS Realizar… Articular ideas con otr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 de administración rígido y práctica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 anestesiada… Temor a perder la pega, inseguridad, falta de compromiso… Envidia… Valida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y modelos de formación: destrezas, habilidad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39:51Z</dcterms:created>
  <dc:creator>Alvaro Ramírez</dc:creator>
  <dc:description/>
  <dc:language>en-US</dc:language>
  <cp:lastModifiedBy>Alvaro Ramírez</cp:lastModifiedBy>
  <dcterms:modified xsi:type="dcterms:W3CDTF">2006-12-16T16:26:01Z</dcterms:modified>
  <cp:revision>10</cp:revision>
  <dc:subject/>
  <dc:title>Presentación de PowerPoint</dc:title>
</cp:coreProperties>
</file>