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833-ED92-4842-B873-80CB0B41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C91-FFF8-4153-B638-4225D56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326-BFD3-4A21-8B9D-5BC70929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E5D-6CE8-487D-A5E5-F1A0F8A9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0E9-5711-4BF3-9E7A-A758E06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377-00FA-4BDB-9F91-AF8049E3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1B2-C769-43A9-8308-0270EDC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8DE-1B1E-4C48-9537-4174443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9C7-ED1A-4DE3-8569-0081FA0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438-3013-47CF-A603-BE5107E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A11-3C14-4E18-9D38-754F321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1B7-AD03-4792-ADCD-7607137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6B5-4F7B-44AC-9391-1B800F4152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estima… Subestimar lo nacional VS extranjero (copiar, envidia y comparació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acios para innovar… Estructuras de pensamiento y organizacionales (ide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edo al cambio, tolerancia al fracaso, aceptación de riesgo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oque cultural: continuidad… mantener el status quo, convicción (“creerse el cuent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: Individual, empresa y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viduo: Miedo, desconfianza, resignación, saber escuchar… / Empresa: Políticas coercitivas  y burocracias (premios y castigos). Visión reduccionista, memoria y alcances reales (viabilidad)… Pensamiento grupal (dominios y trabajo interdisciplinar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: División social, temas económicos… Estados de ánimo. Historia… Hacerse cargo d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mersos en territorio hostil (zanahorias, garrotes y serm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juicios y sesgos (duda sobre las capacidades de las personas). La levedad del “Ser y estar” (lengu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nace para ser lo que se es… (determinismo… destino… 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ja negra: Egoísmo cognitivo, técnico, de conocimiento… Know How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onar VS Realizar… Articular ideas con otr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 de administración rígido y práctica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 anestesiada… Temor a perder la pega, inseguridad, falta de compromiso… Envidia… Valida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y modelos de formación: destrezas, habilidad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39:51Z</dcterms:created>
  <dc:creator>Alvaro Ramírez</dc:creator>
  <dc:description/>
  <dc:language>en-US</dc:language>
  <cp:lastModifiedBy>Alvaro Ramírez</cp:lastModifiedBy>
  <dcterms:modified xsi:type="dcterms:W3CDTF">2006-12-16T16:26:01Z</dcterms:modified>
  <cp:revision>10</cp:revision>
  <dc:subject/>
  <dc:title>Presentación de PowerPoint</dc:title>
</cp:coreProperties>
</file>