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C3F-07EC-4AE5-B6FB-D6873D43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E8D-A393-45E6-A1F7-E7946ED2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E63-A91A-4CDC-9E6D-D740A826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154-C2BA-4BF6-95FE-BD75A50E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31B-FEF9-4117-98AA-05CBD96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66B-585F-49EA-ADAC-BAEEC50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048-1C15-46E9-B064-7C4D2365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7DD-540C-4B42-9CBA-EB21A22A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0C8-EC22-4CA3-BF78-179A904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022-1D37-4CB3-99FE-513FB5DF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19B-56C2-4062-ACF6-D09FD01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149-3C00-440E-B708-BCEE62E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1FC7-7139-4AEA-B000-1932E10660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estima… Subestimar lo nacional VS extranjero (copiar, envidia y comparació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acios para innovar… Estructuras de pensamiento y organizacionales (ide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edo al cambio, tolerancia al fracaso, aceptación de riesgo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foque cultural: continuidad… mantener el status quo, convicción (“creerse el cuent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Áreas: Individual, empresa y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viduo: Miedo, desconfianza, resignación, saber escuchar… / Empresa: Políticas coercitivas  y burocracias (premios y castigos). Visión reduccionista, memoria y alcances reales (viabilidad)… Pensamiento grupal (dominios y trabajo interdisciplinar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: División social, temas económicos… Estados de ánimo. Historia… Hacerse cargo del 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s Encadenantes de la Innovación &amp; el Emprendi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mersos en territorio hostil (zanahorias, garrotes y serm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juicios y sesgos (duda sobre las capacidades de las personas). La levedad del “Ser y estar” (lengu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nace para ser lo que se es… (determinismo… destino… 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ja negra: Egoísmo cognitivo, técnico, de conocimiento… Know How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onar VS Realizar… Articular ideas con otr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delo de administración rígido y práctica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ltura anestesiada… Temor a perder la pega, inseguridad, falta de compromiso… Envidia… Valida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ucación y modelos de formación: destrezas, habilidad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8:39:51Z</dcterms:created>
  <dc:creator>Alvaro Ramírez</dc:creator>
  <dc:description/>
  <dc:language>en-US</dc:language>
  <cp:lastModifiedBy>Alvaro Ramírez</cp:lastModifiedBy>
  <dcterms:modified xsi:type="dcterms:W3CDTF">2006-12-16T16:26:01Z</dcterms:modified>
  <cp:revision>10</cp:revision>
  <dc:subject/>
  <dc:title>Presentación de PowerPoint</dc:title>
</cp:coreProperties>
</file>