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057A-A207-4579-861C-653D6854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ABB9-13EF-4F86-B4C5-A93D6953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AC1E-0632-4CD4-BFBE-464E284C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411C-8425-4EF8-B48D-C05FDA17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4BB6-4973-4CCE-A8A4-892BA49F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EFEB-CDA7-4367-935B-2210FE65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2978-91CB-4147-A384-06D23BB1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A8F0-EEEF-47E7-BF06-F431D623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BCD0-36D6-442F-A4EE-40EACC6D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DC5E-66A9-457C-8218-6298F7A6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C455-7F33-4F65-8D5A-F5FBAC9B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1B83-4DBC-42D0-A19B-7F326E5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A7FA-C607-426E-B29A-5247BE4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2164-2D59-4493-A6D6-7DBBBF8C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D8FD-982C-46A9-80B1-0BADF119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A564-AE28-4A23-B6EE-194E2ED6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FC98-053D-4251-8444-B16C2BC5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C9F5-5B2F-4F1D-A34B-CF56E060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F95A-9783-4B49-B776-4CA5E21A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EC1E-CBF3-4FC6-A883-0B3746C9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BF16-3E1E-4EF0-B6C9-89BC3B43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4E46-BD34-4DC0-BB45-75C62AE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FE6D-6DDF-4EF2-B549-984E3A6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F477-AA03-40C4-8854-8B27164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5921-7647-4473-BBC8-E7DFC1649DF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C116-D789-4533-AEDE-46E1547FB55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¿POR QUÉ ES DIFICIL CONSTRUIR MAR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6-10-04T03:57:19Z</dcterms:modified>
  <cp:revision>47</cp:revision>
  <dc:subject/>
  <dc:title>Sin título de diapositiva</dc:title>
</cp:coreProperties>
</file>