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C52BA-EE7B-4372-830B-15EBBB7F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16F19-3AE2-404A-BD7A-EE33A248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A2180-01F2-438E-B447-2263B5ED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DCDE6-20E1-4EF3-8DBD-3B10647C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7D1F-D123-4E32-BD1E-9D278C5B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9DC6-5CDB-4BB2-9189-49F4005E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8362-19CA-43E5-B8A9-17FF4196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5B7A-5E7C-4F1B-ABF0-1A5279A1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D249-5268-4F3A-AC40-D65F61F4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199F-DA9F-4B5C-9614-6D66D195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7EF1-8415-427A-B9F8-02EBDFAD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3E6E0-39D8-4BEF-9F9F-ADC8C7E9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2572-0ABD-47F0-ADD0-EEF37DE3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2392-979A-40DE-BA39-A3062154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FF16-2D1B-4DEE-BDC1-71CB3F0D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FEA8-3C15-4A54-ABDC-2D69CB44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C573-0768-4185-B79E-71D4F37D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0F0D7-4117-4031-B560-ADB69EB9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CEE5E-2296-47A5-A4AC-48487C6F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99591-CC8A-41DC-B3EA-9997964B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34F66-1DEE-4DB1-9961-26BC0A9A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C28E9-23F9-4942-8956-E1BC0BA7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B64F-9346-4E72-A487-AA642080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9CD9A-9741-4FE0-94FF-028FED66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1665-4861-4754-934A-64D924E4249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823C-C78D-4E3B-98F4-C148514CA0A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ffff"/>
                </a:solidFill>
                <a:latin typeface="Arial"/>
              </a:rPr>
              <a:t>MAR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LA CREACIÓN DE 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be existir Calidad de ver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errores se p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dad en  dimensión importante para los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importante entender que los consumidores usan pequeños trucos para evaluar la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algunos casos se puede “capacitar” a los 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EAL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ealtad es Re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aumentar la “Lealtad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gramas de Frec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tabase mark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 a las distintas asociaciones que hace el consumidor al oir o ver el nombre de la mar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junto de esas Asociaciones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MAG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asociaciones pueden incluir entre ot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ributos del Pro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celeb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ímb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DENT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dentidad gobierna las Asoci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¿POR QUÉ ES DIFICIL CONSTRUIR MARC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IDENTIDAD DE MARCA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28880" y="609480"/>
            <a:ext cx="7086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Trampa de la Imagen de Mar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8200" y="304920"/>
            <a:ext cx="860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MB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UATRO PERSPECTIVAS DE LA IDENTIDAD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Ó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fican la elección rut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si todas las semanas compro jabón, no tengo que tomar una decisión cada vez, simplemente “echo” Le Sancy en el car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ucen el riesgo en decisiones más complej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Cuando compro un equipo de audio la marca Sony me indica que ciertas cosas estoy seguro que NO me van a pas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a marca me puede producir beneficios emocion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Por algo la gente compra Gucci, o anda mostrando la Marca de algunos de sus compr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eran algún sentido de “pertenenc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”. (La gente que tiene un computador Apple siente cierto grado de identificación con otros que usan la misma marca, y eso les hace sentirse bi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/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ís o Reg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549360"/>
            <a:ext cx="853092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erso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Símbo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OLITICA DE</a:t>
            </a: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gún la mezcla de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ara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Línea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oble (o Tri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cada producto la empresa le asigna una marca y un posicionamiento espec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: Detergentes OMO, DRIVE, SK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la política tradicional de empresas como Procter &amp; Gamble y L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NTAJA:  La empresa no “juega” su reputación en el resultado de un producto en 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16477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ARA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arca Paraguas acoge a varias Categorías de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chas empresas usan su nombre como marca Paraguas. Daewoo, Sony, IB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793880"/>
            <a:ext cx="79250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LÍNEA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16477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JERARQUÍAS DE MAR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haber varios niveles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ha Asada....  Producto espec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s marcas pueden ser un activo tan valioso, ¿porqué no se contabiliz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incipales atributos de la Marc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Young&amp;Rubic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EREN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as diferentes, claramente diferenciadas por la gente, con identidad propia, ú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EV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esten de acuerdo con las expectativas, necesidades, anhelos y fantasías  de las person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haya generado en el respeto y la confianza de la población general. Proceso lento que requiere conocimiento y una cierta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sean conocidas y estén presentes en el mundo cotidiano de las personas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8040" y="212760"/>
            <a:ext cx="846792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Aak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Valor de Marc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ALTAD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5840" y="611280"/>
            <a:ext cx="79218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noce usted esta mar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R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Marcas de esta clase Producto conoce u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Top of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4080" y="382680"/>
            <a:ext cx="8683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7002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ECONOCIMIENTO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4400" y="22860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557360"/>
            <a:ext cx="7315200" cy="4673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RECONOCIMIENTO Vs. RECORD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 Young</cp:lastModifiedBy>
  <dcterms:modified xsi:type="dcterms:W3CDTF">2006-10-04T03:57:19Z</dcterms:modified>
  <cp:revision>47</cp:revision>
  <dc:subject/>
  <dc:title>Sin título de diapositiva</dc:title>
</cp:coreProperties>
</file>