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DBDE-4A57-4D4F-99E0-9F0B2477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7F3B-2C90-415A-BD13-EE9DF6EF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00D1B-EACF-4489-B923-761413A5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2D765-3742-4579-B478-4659BFC6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4883-D868-4F24-A06C-B98B3668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89E3-A448-4B73-B784-28DB82F4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48D5-7707-4A07-BD51-C5F28E28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739A-10C4-4E06-8C7C-A940945C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770C-B58E-445E-B7F1-C39B99D7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36B0-F170-4242-B157-0920C336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9DF0-0A5B-4F2C-803D-AF185E38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58121-BEBC-485B-ADA3-ED7A5966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3422-CE25-40FC-BE9C-B9CF20F4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05E1-89D1-4ED3-8532-D9F0CABF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9DCD-8DF0-4F99-AE2A-2CD7FF5B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08BD-6FC2-4832-86EE-23638E0C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7506-0F12-4B8B-8A04-31D8A628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6410C-1415-4015-A014-583763DB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F46C-7BFB-4864-893B-FA350615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5CAF-B6CC-4A36-B192-164DFA92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56617-7EBD-46EB-8BAD-07229ACB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B20F0-4149-4C30-910D-D3BCDB00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3BBE-0A20-4D07-BF4E-F3F505A9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1B03-D002-4175-AE49-DFA47A6B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E794-7969-4533-8EF9-58EA0063423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A2F5-2FDF-4945-A4C6-8079FDEB8E1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ffff"/>
                </a:solidFill>
                <a:latin typeface="Arial"/>
              </a:rPr>
              <a:t>MAR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LA CREACIÓN DE 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 existir Calidad de ver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rrores se p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ad en  dimensión importante para los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importante entender que los consumidores usan pequeños trucos para evaluar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algunos casos se puede “capacitar” a los 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EA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ealtad es Re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aumentar la “Lealtad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gramas de Frec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tabas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 a las distintas asociaciones que hace el consumidor al oir o ver el nombre de la mar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junto de esas Asociaciones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AG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asociaciones pueden incluir entre o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ributos del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celeb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ímb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ntidad gobierna las Asoci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¿POR QUÉ ES DIFICIL CONSTRUIR MAR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IDENTIDAD DE MARC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28880" y="609480"/>
            <a:ext cx="7086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Trampa de la Imagen de Mar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8200" y="304920"/>
            <a:ext cx="860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B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UATRO PERSPECTIVAS DE LA IDENTIDAD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Ó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fican la elección rut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si todas las semanas compro jabón, no tengo que tomar una decisión cada vez, simplemente “echo” Le Sancy en el car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en el riesgo en decisiones más complej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Cuando compro un equipo de audio la marca Sony me indica que ciertas cosas estoy seguro que NO me van a pas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marca me puede producir beneficios emocion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or algo la gente compra Gucci, o anda mostrando la Marca de algunos de sus comp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 algún sentido de “perten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”. (La gente que tiene un computador Apple siente cierto grado de identificación con otros que usan la misma marca, y eso les hace sentirse b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/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 o Reg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549360"/>
            <a:ext cx="85309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ers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Símb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LITICA DE</a:t>
            </a: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ún la mezcla de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ara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oble (o Tri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cada producto la empresa le asigna una marca y un posicionamiento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: Detergentes OMO, DRIVE, SK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la política tradicional de empresas como Procter &amp; Gamble y L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TAJA:  La empresa no “juega” su reputación en el resultado de un producto en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16477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AR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arca Paraguas acoge a varias Categorías de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as empresas usan su nombre como marca Paraguas. Daewoo, Sony, IB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793880"/>
            <a:ext cx="7925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LÍNEA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1647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JERARQUÍAS DE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haber varios niveles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a Asada....  Product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marcas pueden ser un activo tan valioso, ¿porqué no se contabiliz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incipales atributos de la Marc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Young&amp;Rubic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s diferentes, claramente diferenciadas por la gente, con identidad propia, ú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EV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esten de acuerdo con las expectativas, necesidades, anhelos y fantasías  de las perso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haya generado en el respeto y la confianza de la población general. Proceso lento que requiere conocimiento y una cierta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sean conocidas y estén presentes en el mundo cotidiano de las persona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8040" y="212760"/>
            <a:ext cx="84679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A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Valor de Marc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ALTAD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5840" y="611280"/>
            <a:ext cx="7921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oce usted esta ma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R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Marcas de esta clase Producto conoce 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Top of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4080" y="382680"/>
            <a:ext cx="8683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002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CONOCIMIENTO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2286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4673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RECONOCIMIENTO Vs. RECOR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 Young</cp:lastModifiedBy>
  <dcterms:modified xsi:type="dcterms:W3CDTF">2006-10-04T03:57:19Z</dcterms:modified>
  <cp:revision>47</cp:revision>
  <dc:subject/>
  <dc:title>Sin título de diapositiva</dc:title>
</cp:coreProperties>
</file>