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A41B-DD0A-48EC-9B4A-94FE3D139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5E17-FB7F-41EC-AA80-46F2E5E38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C3D7-2654-47FC-87D1-82A3D967F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1689-BAD6-4518-B473-7C8C19834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E7A3-0F7E-4751-85C2-F77D98EB8A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7742-B143-471F-8FC9-F232ACCF7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A2E3-263C-4949-9012-D195C9F91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5E58-7A2F-4772-B455-CE93C0C55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B611-8A99-420E-8A6E-8AB79CCD2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B758-6D8E-426B-993C-02593DA85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8464-4C16-4F71-A5EB-9EE8B468A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C68E-8629-47C2-98F3-685D46FED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A62F-7343-4E96-9179-DD49DE1524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A8EA-E4CC-4C0D-8F13-8AB687D5A5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3329-77A1-4842-871F-7FFCFEB3BC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82EA-6298-4473-8B3F-BAA2AC95B2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B50D-5705-463E-BA12-6055F98AFAC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078B-6681-4474-A120-77B99F8C471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4BE3-1717-4DC5-999F-5FF66C2072C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370A-D53C-42DB-AF1A-A8984A9D77A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25ED-878A-4D2D-9176-96F29BD254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33A9-8F7E-4260-B99B-62FC23944A0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16C4-2517-4BC9-8E7B-233E3F2F991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CBBB-834A-43F1-A3E1-C731A4E6C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19E8-79C0-465C-8A6A-CE94537BA5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AB2F-A785-4E80-89EA-9301569B37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93E1-3CE6-40EA-A06F-4949D97497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9743-666B-481D-9010-2C03A53C44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953A-57D5-4379-BA00-C3550C1F7E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0256-0EF8-47B7-86FE-0BC1308AEB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4537-6A62-4438-B267-C69C7E88FE6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41C7-F655-4697-B332-9FA6AEE45B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6F05-766A-4BB1-A934-2419E10025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0AA8-4200-41A1-8C39-C3D5E513D5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0E6B-558F-48AA-AE8A-C6E8D14555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027E-CA06-4D44-B48E-DFC0FF3ABE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D0C6-B5E6-405F-8019-01F656DDF9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F760-BB2A-4688-936E-85FF53F013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F117-3E5F-4701-AB4D-7D1F26568E8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E3DE-ADE4-4C6F-83FE-A59A196E16E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62DD-4643-4BB1-914D-855E17ED3FE7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505B-12C8-4CAD-8B1B-EAD8532DFA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06F0-FEA2-4E79-AB0C-694941E53D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86D2-A103-4921-BEA2-0D6C7B9966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EF4A-9528-46F6-AD92-4230769E26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932A-9BA3-4404-A8E3-BDFEBCC13C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6-10-04T20:01:18Z</dcterms:modified>
  <cp:revision>407</cp:revision>
  <dc:subject/>
  <dc:title>77n</dc:title>
</cp:coreProperties>
</file>