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2D29-8278-426B-823C-944D76BBC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F299-9CA2-4788-A5D0-5AE334766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2372-0769-44F9-8F5F-64108F9A3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E005-61CA-4872-AA56-03533E57D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871C-1E24-4BCB-9D82-18F295C6F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9D2B-A40B-4C19-9DAF-8D7BC4B71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031A-4151-48CF-8B7E-8FF8F60EC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007C-A4C2-44A3-83A2-126653BC2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34D8-52AA-4BAB-9C09-8EB791C64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8235-058F-4593-8FF0-69740574A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DD66-4EC9-447F-96E0-2F58BE40C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1D87-B4F9-4694-A1E6-0866ABE3D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1C53-36EC-44DD-8F98-075CA8545D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E1BB-0376-4F22-9F03-366FA09BCE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0E49-FE87-446E-ADB3-887730D49A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A6F8-6F88-4E81-A7D0-2EC2253139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605A-3136-40AF-B208-862F787D2C8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5B52-73BD-4DD5-B659-BCACA9FDFD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37AA-9856-445D-996F-90ACB389AF7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C3CA-0415-414F-B979-16FE01349D1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76B9-897A-46C3-9A6E-3195A59F5D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E866-E760-4635-A788-DF75ADDB78D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AE3D-2E05-4ED5-8C79-9340A9F746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E2C2-1188-4016-84A8-3B8CD10724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7C12-F91F-46B7-B1F6-60E13E0C2F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432C-A519-492F-9A4E-7919515443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1A45-F1C1-4A87-97BE-C8259BF8D8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44D4-AC0D-44C9-8744-35F3E60B80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E556-83C8-4D30-B43F-050D874CFE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FAE7-191E-4D45-A6B3-735E95D241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79E2-28BA-44BE-9D91-9C162CAE6ED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A642-E13B-43F5-9ADB-1F28265A7D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5C4C-66E2-470E-900D-0B15CA5BAE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7FC5-9227-4D77-A8CE-5234F94CAC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58EB-093E-4AF7-A965-9A47C50F4C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DA74-6712-48FF-8E34-BDF7CA0E14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EC78-AF30-460D-8199-11AAD47504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2F37-53FD-4F25-BE00-22DC0DF96F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86CB-E6B3-4C92-9A63-0FD79BCA13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F52B-269B-4E74-93CE-118BA55EFC5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5249-0D0A-4F79-BA36-8AF6D8DDB5C6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BAE0-A516-4CFE-9961-F38DC5DF15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586D-9AE5-4928-A552-743C3A5DDC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7713-D723-4895-B42A-9D74BCEDEC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116C-CF3F-40D4-90DA-DA455264D2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E0EA-1FE3-4B55-AC6E-6F4E7A5722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6-10-04T20:01:18Z</dcterms:modified>
  <cp:revision>407</cp:revision>
  <dc:subject/>
  <dc:title>77n</dc:title>
</cp:coreProperties>
</file>