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3345-7804-4F3A-AAE3-1D56617B5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2228-3EB9-41CD-B47A-C0D2AC820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CA31-BFC5-45E9-A25E-9CAE82277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207E-5455-4132-AE38-4A815DBB5E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B2DD-68F3-48BF-AD81-4DF88E903E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8A59-E536-4096-B0FB-3CA71D60D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0B58-5DF4-43A8-8597-6EDA49C0E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7B87-797B-454B-93F3-742C3B635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4887-B11F-4651-8959-D6635A7B1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16CE-DA0C-4563-A42F-12F43EEF2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D136-0B20-4A05-93C1-288782088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60D3-99A8-44A1-98ED-88AA1EDC5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4985-51ED-4E2D-8ECE-DDC15D1E56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479F-5C86-49E0-9068-575FAF94B2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730D-AC7A-4393-AA2C-9D841BD586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4229-9A9D-4F9C-8697-2678133C37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A9BA-04A8-444A-A058-0CAFE78102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ED21-584B-41C8-AE03-5F37577325C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B65A-C2E1-4306-AD3A-F241D027A34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C253-F246-4A57-8C52-14ADA79448C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47D1-D7FB-4E9D-BF1F-BB100CA6B1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9EA9-F5B6-481F-BB9B-CE8DF61BF99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B232-3713-4A05-A1A4-AD0952F461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A9CD-021C-4A18-916B-7FA50BA0C7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267C-8BC8-43A5-A636-9306E1A783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DB4D-89D3-406A-A299-C38094539C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EE4C-3843-4EFE-9C77-03AA010BDA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9C41-0F42-4627-A25A-7873E69C3D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6131-E74D-4A24-9217-78F9A29A95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EBD4-EA15-4F48-96F2-1440A467A3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2856-0A36-4245-A0E6-B02AFE52B33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BB07-5A3C-42CF-A92F-CDD738DA88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CE4D-E1F6-4943-8C21-B58FA35535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476E-A364-49D7-81D4-0F520FBC02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6011-F7DF-4E74-8136-269421D4FC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A0E1-9EAC-4985-9AC2-3B9B5A1290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B7B5-765E-4BCB-AA10-CEA6963D08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A390-39DC-41DE-978B-CBA0BFCCD1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E54B-A078-4FAF-9D68-5F65ED66838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6AFA-A161-4207-82D8-02CE5FB19ED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6DAB-FB1C-485A-863A-75C596E6BE28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48AA-4627-41BD-B220-EBF2ABE6E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546C-BCEE-43CF-A3BC-22660450D4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B37E-5901-4AB5-842D-2980A26B3A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02EB-B32E-4E4E-A224-8C9B8F83C6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B431-2A85-411A-ADCE-09EF2DAAB9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6-10-04T20:01:18Z</dcterms:modified>
  <cp:revision>407</cp:revision>
  <dc:subject/>
  <dc:title>77n</dc:title>
</cp:coreProperties>
</file>