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17E-4C94-4055-9FCB-74DF1E6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7B1-7A27-4ECD-8875-B38572FF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182-E6E7-4153-83D3-5F24172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671-40A5-4A14-8379-2C910C30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ACE-0ACF-43D6-88BE-806E9FC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0EA-6844-45F3-A0F0-F4BCD7E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A6D-631E-423A-BF3E-ED16084B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957-2507-49D6-99FF-96D719D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386-B5A1-451A-B45A-3088B45A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451-7522-48D5-9439-B0D79C0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D84-804A-4CE1-A321-ECBBA99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2E8-4072-4E81-825F-8B52EE4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BF7F-5EA2-4796-96A9-60DA0EA96B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cció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de Marketing</a:t>
            </a:r>
            <a:br>
              <a:rPr sz="32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 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ew C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369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iana Acev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rigo Brü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Oriz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stián Ro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14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413000"/>
            <a:ext cx="7848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nuevo sabor podía ser añadido en una nueva gama de productos o reemplazar totalmente a la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314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acciones frente a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3880"/>
            <a:ext cx="8294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ferencia de prensa masiva de presentación de la New Coke dejó a periodistas poco convencidos y sus artículos fueron neg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os resultados esperanzadores: 150 millones de personas probaron New Coke, récord para un producto nue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as horas: 650 llamadas de recla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dos semanas del lanzamiento: 5000 llamadas diarias y gran cantidad de cartas de protesta. Se dispuso nuevo personal para atende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 “Pueblo” alza la v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294760" cy="43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ún la gente Coca - Cola era un símbolo americano, y para ellos el cambio fue como si un viejo amigo les hubiese traicion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¡Qué pena tan grande siento al saber que no sólo no volveré a disfrutar de la Coca - Cola de verdad, sino que además mis hijos y mis nietos no la conocerán!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ormó la “Asociación de bebedores americanos de Coca - Cola antigua”, grupo dispuesto a denuncia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gente comenzó a acaparar Coca - Cola anti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523880"/>
            <a:ext cx="82947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botelladores pidieron el regreso de la antigua Coca - Cola debido a las bajas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entimiento negativo se incrementaba co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úblicamente, haber tocado la fórmula original, que tenía 99 años, era un insulto al orgullo patr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ejecutivos comenzaron a temer un boicot por parte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torno en gloria y majes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413000"/>
            <a:ext cx="82231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tres meses del lanzamiento se decidió volver a ofrecer la Coca - Cola bajo la marca Coca - Cola Clas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enviaron 2 mensajes al consumidor americ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bebían New Coke y les gustaba se les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adeci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os que querían el regreso de la Coca - Co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igua se les dijo “hemos oido sus mensaj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2653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e la cotización de las acciones de la compañía a su nivel máximo en 1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13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udios de Mercados defec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ón basada en pruebas de aceptabilidad de nuevos sab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se consideró la lealtad del cliente hacia Coca -  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uestra real poco signific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-2649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revieron valor simbólico de la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últiples factores afectan decisión del consumidor, no solo el sab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 la image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onentes psicológicos del consumidor. Simbolismo y perma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zar en profundidad si es ventajoso cambiar algo probadamente exit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Qué sucedió despué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enos resultados al trabajar con dos refresco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l fiasco, ventas de la empresa aumentan 10%. En 1998 se alcanza 40% del mercado norteameric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año ´81 se vendía sólo Coca-Cola (1.310M cajas). Al año ´86 luego de diversificar la cartera de productos se vendían 2199M cajas (60% Coke clás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El Error del siglo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Todo fue un montaje para recibir publicidad gratuita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o ejemplo de la importancia de tener un gran pode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resultados iniciales, Coca-Cola descubrió las grandes posibilidades que existían al diversificar sus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92376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toria de Coca -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cisión (Error)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cuelas de la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Cuál fue el 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cciones que se pueden ap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e sucedió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Un poco de Hi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351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ntada y 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tada en 1885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o de la venta en 1886, no como refresco sino como remedio para el dolor de cabez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resa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887 Asa Grigs Candler compra los derechos de Coca - Cola en US $2.3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spcBef>
                <a:spcPts val="601"/>
              </a:spcBef>
              <a:tabLst>
                <a:tab algn="l" pos="0"/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-353880">
              <a:buClr>
                <a:srgbClr val="000000"/>
              </a:buClr>
              <a:buFont typeface="Times New Roman"/>
              <a:buChar char="-"/>
              <a:tabLst>
                <a:tab algn="l" pos="35388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briéndose pa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523880"/>
            <a:ext cx="836784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892 se organiza la Compañía Coca - Co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za el anuncio de bebida refresca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19 se vende la compañía a un grupo de comerciantes de Atlanta en USD 25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Segunda Guerra Mundial, Coca - Cola se distribuía para que cada soldado la obtuviera por 5 centavos, sin importar su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Gran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23880"/>
            <a:ext cx="82947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ños 50,60 y principios de los 70 líder del sector refrescos. Doblaban a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re 1976 y 1979 Coca - Cola baja tasas de crecimiento de 13% a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psi logra grandes triunfos: “Generación Pepsi”, “Desafío Pepsi” (Pruebas ciegas de sab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stigaciones de Coca - Cola obtienen resultados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Baja en la participa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773360"/>
          <a:ext cx="8713800" cy="2805120"/>
        </p:xfrm>
        <a:graphic>
          <a:graphicData uri="http://schemas.openxmlformats.org/drawingml/2006/table">
            <a:tbl>
              <a:tblPr/>
              <a:tblGrid>
                <a:gridCol w="1296720"/>
                <a:gridCol w="1163880"/>
                <a:gridCol w="1290600"/>
                <a:gridCol w="912960"/>
                <a:gridCol w="1271520"/>
                <a:gridCol w="1269720"/>
                <a:gridCol w="1508400"/>
              </a:tblGrid>
              <a:tr h="42696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cipación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e Mercado de Coca - Cola y Pep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 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</a:t>
                      </a: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p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95480" y="5105520"/>
            <a:ext cx="2841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mbio en los gu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87640" y="5430960"/>
            <a:ext cx="2770200" cy="13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116000" y="1341360"/>
          <a:ext cx="7273800" cy="3998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341360"/>
                    <a:ext cx="727380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Antecedentes de la deci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294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asto en publicidad de Coca - Cola era de USD 100 millones más que Pep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0 asume la presidencia Roberto Goizueta pronosticando grand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omenzó a estudiar el producto en sí,  resultando evidente que el sabor era la causa más importante de la decadencia de Coca – 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Habrá que revisar la fórmula secreta original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nicia el Proyecto Kansas en 198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royecto Kan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29476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000 entrevistas en 10 mercados diferentes: disposición del público a aceptar una Coca - Col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% a 12% de los consumidores de Coca - Cola se sentirían molestos, la mitad de ellos superaría el tra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1984 se alcanzó el sabor ideal: una bebida de cola más dulce, menos espum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pruebas ciegas (191.000 personas e inversión de USD 4 millones)) el nuevo sabor superó a Pepsi y a la fórmula antigua, en un 5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4:06:08Z</dcterms:created>
  <dc:creator>Sebastián</dc:creator>
  <dc:description/>
  <dc:language>en-US</dc:language>
  <cp:lastModifiedBy>Jorge Lara</cp:lastModifiedBy>
  <dcterms:modified xsi:type="dcterms:W3CDTF">2006-11-05T23:06:11Z</dcterms:modified>
  <cp:revision>29</cp:revision>
  <dc:subject/>
  <dc:title> Dirección de Marketing El Caso New Coke</dc:title>
</cp:coreProperties>
</file>