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96C-82A0-4E4D-8094-265312B1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D3F-A62A-428F-9984-33703F2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A33-BBA9-40D1-AC7C-335FC29B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64E-0C76-42E6-ADDA-7A4FA19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8AF-CFB0-4115-A893-0A772382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801-EF14-4116-9901-2333A45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0D6-1447-4B01-AC1D-91CD728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56B-AC54-4AB5-A3A0-DFA5D82D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B00-BF70-4D1E-97AB-D8BDE6A2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47-D3FC-49D6-90E9-C1FFD22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883-1E3B-4603-BF6A-E3F862D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02E-CF4A-4FAD-B56C-A4F0343B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F9B-3EB7-4461-B6BC-1EB55C87EF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de Marketing</a:t>
            </a:r>
            <a:br>
              <a:rPr sz="32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w C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369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iana Acev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rigo Brü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Oriz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Ro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nuevo sabor podía ser añadido en una nueva gama de productos o reemplazar totalmente a la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acciones frente a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3880"/>
            <a:ext cx="8294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erencia de prensa masiva de presentación de la New Coke dejó a periodistas poco convencidos y sus artículos fueron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os resultados esperanzadores: 150 millones de personas probaron New Coke, récord para un product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as horas: 650 llamadas de rec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dos semanas del lanzamiento: 5000 llamadas diarias y gran cantidad de cartas de protesta. Se dispuso nuevo personal para atende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 “Pueblo” alza la v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2947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ún la gente Coca - Cola era un símbolo americano, y para ellos el cambio fue como si un viejo amigo les hubiese trai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¡Qué pena tan grande siento al saber que no sólo no volveré a disfrutar de la Coca - Cola de verdad, sino que además mis hijos y mis nietos no la conocerán!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ormó la “Asociación de bebedores americanos de Coca - Cola antigua”, grupo dispuesto a denuncia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gente comenzó a acaparar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2947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botelladores pidieron el regreso de la antigua Coca - Cola debido a las bajas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entimiento negativo se incrementaba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úblicamente, haber tocado la fórmula original, que tenía 99 años, era un insulto al orgullo patr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ejecutivos comenzaron a temer un boicot por parte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torno en gloria y majes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13000"/>
            <a:ext cx="82231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tres meses del lanzamiento se decidió volver a ofrecer la Coca - Cola bajo la marca Coca - Cola Clas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enviaron 2 mensajes al consumidor amer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bebían New Coke y les gustaba se les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ade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querían el regreso de la Coca - Co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igua se les dijo “hemos oido sus mensaj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e la cotización de las acciones de la compañía a su nivel máximo en 1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13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s de Mercados defec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ón basada en pruebas de aceptabilidad de nuevos sab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se consideró la lealtad del cliente hacia Coca -  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estra real poco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revieron valor simbólico de la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últiples factores afectan decisión del consumidor, no solo el sab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 la image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nentes psicológicos del consumidor. Simbolismo y perma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zar en profundidad si es ventajoso cambiar algo probadamente exit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Qué sucedió despu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enos resultados al trabajar con dos refresc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l fiasco, ventas de la empresa aumentan 10%. En 1998 se alcanza 40% del mercado norteameri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año ´81 se vendía sólo Coca-Cola (1.310M cajas). Al año ´86 luego de diversificar la cartera de productos se vendían 2199M cajas (60% Coke cl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El Error del sigl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o fue un montaje para recibir publicidad gratuita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o ejemplo de la importancia de tener un gran pode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resultados iniciales, Coca-Cola descubrió las grandes posibilidades que existían al diversificar su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237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toria de Coca -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ón (Error)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 sucedió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Un poco de Hi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351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ntada y 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tada en 1885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o de la venta en 1886, no como refresco sino como remedio para el dolor de cabez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resa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887 Asa Grigs Candler compra los derechos de Coca - Cola en US $2.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buClr>
                <a:srgbClr val="000000"/>
              </a:buClr>
              <a:buFont typeface="Times New Roman"/>
              <a:buChar char="-"/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briéndose pa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36784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892 se organiza la Compañía Coca - Co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a el anuncio de bebida refresca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19 se vende la compañía a un grupo de comerciantes de Atlanta en USD 25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Segunda Guerra Mundial, Coca - Cola se distribuía para que cada soldado la obtuviera por 5 centavos, sin importar su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ran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2947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ños 50,60 y principios de los 70 líder del sector refrescos. Doblaban a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1976 y 1979 Coca - Cola baja tasas de crecimiento de 13% a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psi logra grandes triunfos: “Generación Pepsi”, “Desafío Pepsi” (Pruebas ciegas de sab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ones de Coca - Cola obtienen resultad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Baja en la participa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773360"/>
          <a:ext cx="8713800" cy="2805120"/>
        </p:xfrm>
        <a:graphic>
          <a:graphicData uri="http://schemas.openxmlformats.org/drawingml/2006/table">
            <a:tbl>
              <a:tblPr/>
              <a:tblGrid>
                <a:gridCol w="1296720"/>
                <a:gridCol w="1163880"/>
                <a:gridCol w="1290600"/>
                <a:gridCol w="912960"/>
                <a:gridCol w="1271520"/>
                <a:gridCol w="1269720"/>
                <a:gridCol w="1508400"/>
              </a:tblGrid>
              <a:tr h="426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 Mercado de Coca - Cola y Pe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</a:t>
                      </a: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p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2841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mbio en los g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5430960"/>
            <a:ext cx="277020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116000" y="1341360"/>
          <a:ext cx="7273800" cy="399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341360"/>
                    <a:ext cx="72738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294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sto en publicidad de Coca - Cola era de USD 100 millones más que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0 asume la presidencia Roberto Goizueta pronosticando grand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omenzó a estudiar el producto en sí,  resultando evidente que el sabor era la causa más importante de la decadencia de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Habrá que revisar la fórmula secreta original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nicia el Proyecto Kansas en 198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royecto Kan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294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entrevistas en 10 mercados diferentes: disposición del público a aceptar una Coca - Col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% a 12% de los consumidores de Coca - Cola se sentirían molestos, la mitad de ellos superaría el tra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4 se alcanzó el sabor ideal: una bebida de cola más dulce, menos espu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pruebas ciegas (191.000 personas e inversión de USD 4 millones)) el nuevo sabor superó a Pepsi y a la fórmula antigua, en un 5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4:06:08Z</dcterms:created>
  <dc:creator>Sebastián</dc:creator>
  <dc:description/>
  <dc:language>en-US</dc:language>
  <cp:lastModifiedBy>Jorge Lara</cp:lastModifiedBy>
  <dcterms:modified xsi:type="dcterms:W3CDTF">2006-11-05T23:06:11Z</dcterms:modified>
  <cp:revision>29</cp:revision>
  <dc:subject/>
  <dc:title> Dirección de Marketing El Caso New Coke</dc:title>
</cp:coreProperties>
</file>