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32.wmf" ContentType="image/x-wmf"/>
  <Override PartName="/ppt/media/image19.png" ContentType="image/png"/>
  <Override PartName="/ppt/media/image17.jpeg" ContentType="image/jpeg"/>
  <Override PartName="/ppt/media/image45.wmf" ContentType="image/x-wmf"/>
  <Override PartName="/ppt/media/image16.png" ContentType="image/png"/>
  <Override PartName="/ppt/media/image22.jpeg" ContentType="image/jpeg"/>
  <Override PartName="/ppt/media/image42.wmf" ContentType="image/x-wmf"/>
  <Override PartName="/ppt/media/image15.wmf" ContentType="image/x-wmf"/>
  <Override PartName="/ppt/media/image41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10.wmf" ContentType="image/x-wmf"/>
  <Override PartName="/ppt/media/image31.jpeg" ContentType="image/jpeg"/>
  <Override PartName="/ppt/media/image9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36.png" ContentType="image/png"/>
  <Override PartName="/ppt/media/image37.png" ContentType="image/png"/>
  <Override PartName="/ppt/media/image43.wmf" ContentType="image/x-wmf"/>
  <Override PartName="/ppt/media/image44.png" ContentType="image/png"/>
  <Override PartName="/ppt/media/image40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.jpeg" ContentType="image/jpeg"/>
  <Override PartName="/ppt/media/image30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comments/comment4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723438"/>
</p:presentation>
</file>

<file path=ppt/commentAuthors.xml><?xml version="1.0" encoding="utf-8"?>
<p:cmAuthorLst xmlns:p="http://schemas.openxmlformats.org/presentationml/2006/main">
  <p:cmAuthor id="0" name="Luis Contreras" initials="LC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<Relationship Id="rId34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06-11-04T17:12:05.625000000" idx="3">
    <p:pos x="10" y="10"/>
    <p:text>¿Cual es el deglose de costos?</p:text>
  </p:cm>
</p:cmLst>
</file>

<file path=ppt/comments/comment4.xml><?xml version="1.0" encoding="utf-8"?>
<p:cmLst xmlns:p="http://schemas.openxmlformats.org/presentationml/2006/main">
  <p:cm authorId="0" dt="2006-11-04T16:49:42.484000000" idx="1">
    <p:pos x="5418" y="922"/>
    <p:text>4,7 M ha. 3,4 ha en Chile y 1,3 ha en Arg.</p:text>
  </p:cm>
</p:cmLst>
</file>

<file path=ppt/comments/comment7.xml><?xml version="1.0" encoding="utf-8"?>
<p:cmLst xmlns:p="http://schemas.openxmlformats.org/presentationml/2006/main">
  <p:cm authorId="0" dt="2006-11-05T17:40:02.078000000" idx="2">
    <p:pos x="10" y="10"/>
    <p:text>Confirmar valores.
Ignisterra similara a FTdC según GR
Famapal según brochoure
Macsa según GR
San Vicente según GR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3139-01DC-499A-B952-807DF721B1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ener claros los num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quí colocar que uso se le da a cada tipo de mader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uanto se transa en total en este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997-5C4F-456A-89E6-907ED467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950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614-4BDC-439F-B706-4D16AAEC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619-E516-45EC-AD0D-8D462BB1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4126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41264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950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950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950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79A2-9B2F-401B-943C-101322FF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1EF6-F813-4610-BFAC-C672AC99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E2A-920F-41D5-889E-1E531C70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87E-F690-46ED-8D99-82D52C53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C02-3188-4C20-B882-68E1165C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33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233-8310-4DC4-82A9-7CB28ABE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0B3-4C40-43CE-B7B7-9C14A394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50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A20-755E-4296-93BB-C5E78DE2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50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8CC-7AEF-44D8-9424-71972918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A62E-D6A0-405F-813E-463ED3D7399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24000" y="1268280"/>
            <a:ext cx="849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30717" t="19836" r="63972" b="70731"/>
          <a:stretch/>
        </p:blipFill>
        <p:spPr>
          <a:xfrm>
            <a:off x="8032680" y="125280"/>
            <a:ext cx="973080" cy="10810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71640" cy="873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71640" cy="873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114480" y="50760"/>
            <a:ext cx="1871640" cy="87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images.google.cl/imgres?imgurl=http://canales.larioja.com/tvr/fotos/fotosweb/expectativas.jpg&amp;imgrefurl=http://canales.larioja.com/tvr/expectativas.html&amp;h=224&amp;w=325&amp;sz=19&amp;hl=es&amp;start=1&amp;tbnid=9Rx0pUl-kH5buM:&amp;tbnh=81&amp;tbnw=118&amp;prev=/images%3Fq%3DEXPECTATIVAS%26svnum%3D10%26hl%3Des%26lr%3D%26sa%3DN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images.google.cl/imgres?imgurl=http://images2.sina.com/english/z/050307yuan/U12P6T13D77F52DT20050306193948.jpg&amp;imgrefurl=http://english.sina.com/z/050307yuan/index.shtml&amp;h=209&amp;w=315&amp;sz=12&amp;hl=es&amp;start=1&amp;tbnid=otQAInOogEFSHM:&amp;tbnh=78&amp;tbnw=117&amp;prev=/images%3Fq%3Dyuan%26svnum%3D10%26hl%3Des%26lr%3D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hyperlink" Target="file:///../../../Local%20Settings/Luis/Configuraci&#243;n%20local/Archivos%20temporales%20de%20Internet/OLK12C/feria%20china.ppt" TargetMode="External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http://images.google.cl/imgres?imgurl=http://www.radioradicale.it/approfondimento_cina/immagini/galleria/shangai_nanjinglu1_200208.JPG&amp;imgrefurl=http://itwalks.blogspot.com/2005_11_01_itwalks_archive.html&amp;h=1024&amp;w=768&amp;sz=167&amp;hl=es&amp;start=6&amp;tbnid=pR4tGnfMcSaN7M:&amp;tbnh=150&amp;tbnw=113&amp;prev=/images%3Fq%3Dshangai%26svnum%3D10%26hl%3Des%26lr%3D" TargetMode="External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8.xml"/><Relationship Id="rId1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hyperlink" Target="http://images.google.cl/imgres?imgurl=http://www.inac.gub.uy/images/mundoexp.jpg&amp;imgrefurl=http://www.inac.gub.uy/exportaciones.htm&amp;h=236&amp;w=240&amp;sz=14&amp;hl=es&amp;start=6&amp;tbnid=UFnZeE-24eYkcM:&amp;tbnh=108&amp;tbnw=110&amp;prev=/images%3Fq%3Dexportaciones%26svnum%3D10%26hl%3Des%26lr%3D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1.xml"/><Relationship Id="rId7" Type="http://schemas.openxmlformats.org/officeDocument/2006/relationships/comments" Target="../comments/comment7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1873080"/>
            <a:ext cx="665784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ahoma"/>
              </a:rPr>
              <a:t>Forestal Trillium de Chile Ltda.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lan de Marketing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3500280"/>
            <a:ext cx="345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Integra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María Jose Chu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Luis Contr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Lionel Corn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Rodrigo Capet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ahoma"/>
              </a:rPr>
              <a:t>José Riv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00720" y="3860640"/>
            <a:ext cx="4392360" cy="1930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7280" y="764640"/>
            <a:ext cx="6658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ahoma"/>
              </a:rPr>
              <a:t>Dirección de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6021360"/>
            <a:ext cx="1236960" cy="692280"/>
          </a:xfrm>
          <a:custGeom>
            <a:avLst/>
            <a:gdLst/>
            <a:ahLst/>
            <a:rect l="l" t="t" r="r" b="b"/>
            <a:pathLst>
              <a:path w="795" h="375">
                <a:moveTo>
                  <a:pt x="0" y="0"/>
                </a:moveTo>
                <a:lnTo>
                  <a:pt x="649" y="0"/>
                </a:lnTo>
                <a:lnTo>
                  <a:pt x="795" y="189"/>
                </a:lnTo>
                <a:lnTo>
                  <a:pt x="649" y="375"/>
                </a:lnTo>
              </a:path>
            </a:pathLst>
          </a:custGeom>
          <a:noFill/>
          <a:ln w="2232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M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A5A2-C7F4-474F-A5D4-D193E3B4CDD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148360" y="4653000"/>
            <a:ext cx="2879640" cy="1584360"/>
            <a:chOff x="5148360" y="4653000"/>
            <a:chExt cx="2879640" cy="158436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5148360" y="4653000"/>
              <a:ext cx="28796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 txBox="1"/>
            <p:nvPr/>
          </p:nvSpPr>
          <p:spPr>
            <a:xfrm>
              <a:off x="5148360" y="4653000"/>
              <a:ext cx="287964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5000"/>
                </a:lnSpc>
                <a:spcBef>
                  <a:spcPts val="876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287964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148360" y="2997360"/>
            <a:ext cx="2879640" cy="1655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24000" y="1628640"/>
            <a:ext cx="4535280" cy="453708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2060640"/>
            <a:ext cx="4464000" cy="40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ja de los costos de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Mercados Glob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ponibilidad de Tecnología de   Aserrío, Secado, Vaporizado,  Remanufac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B0E-882E-4BB7-B9FA-595DFB05FE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ercado Global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aderas D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8000" y="2117880"/>
            <a:ext cx="4676760" cy="2882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3640" y="2133720"/>
            <a:ext cx="3816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 de población con alto poder adquisi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ón de masas fores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 de restriccione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2133720"/>
            <a:ext cx="4033800" cy="302400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4259-630E-486D-81FF-F84554A778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413000"/>
          <a:ext cx="8229240" cy="4857120"/>
        </p:xfrm>
        <a:graphic>
          <a:graphicData uri="http://schemas.openxmlformats.org/drawingml/2006/table">
            <a:tbl>
              <a:tblPr/>
              <a:tblGrid>
                <a:gridCol w="6665400"/>
                <a:gridCol w="1563840"/>
              </a:tblGrid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ción madera de aserradero (m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ñ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bosque a cosechar anual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bosque a cosechar en 115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9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lenga adulto Prov Magallanes, cosech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lenga disponible para FT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s de sustentabilidad con bosque dispon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 lenga cosechable de Lenga Patagonia, A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s de sustentabilidad con bosque dispon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b67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o de ro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3a3a3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B69-1DFB-448C-B862-05FA382C19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811160"/>
            <a:ext cx="4174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pacidad instalada insuficiente. (Homogenizad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Bajo uso de herramientas de Control de Gestió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alta de certificación Calidad, Medioambien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la imagen de la marca Trill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cesos críticos de producción dependientes de Mano de Obra no calificad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151080" cy="4464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4000" y="1413000"/>
            <a:ext cx="4535280" cy="453708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178B-9EED-4486-A1A3-09FA1986ED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iones de grupos ambient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Pérdida de mercado por parte de Chile</a:t>
            </a:r>
            <a:r>
              <a:rPr b="0" lang="es-CL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debido </a:t>
            </a:r>
            <a:r>
              <a:rPr b="0" lang="es-ES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al mayor tiempo de embarque requerido desde Chile hacia mercados internacion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Porcentaje de recuperación inferior al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219640" y="1557360"/>
            <a:ext cx="3672000" cy="4464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24000" y="1557360"/>
            <a:ext cx="4535280" cy="453708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2D7-7940-4610-9153-BFC5DFCBBC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rcado de Muebles en el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54246" t="1867" r="0" b="2045"/>
          <a:stretch/>
        </p:blipFill>
        <p:spPr>
          <a:xfrm>
            <a:off x="1547640" y="1700280"/>
            <a:ext cx="583272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6705720" y="1905120"/>
            <a:ext cx="2133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DF2-8C61-4673-A236-E7B891DBD6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manda 2007 Madera Dura Aser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1905120"/>
            <a:ext cx="2133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187280" y="1700280"/>
          <a:ext cx="6624720" cy="42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6624720" cy="424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1116000" y="595008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uente :UNE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41A-BDD2-4C44-8296-E57F2DFDF0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Objetivo del Plan de M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03080" y="2347560"/>
            <a:ext cx="3455640" cy="28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ar ingresos  por ventas de maderas de calidades Selecta y Primera, en 50% a partir d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311800" y="2347920"/>
            <a:ext cx="3005280" cy="29527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896A-7EAA-486A-A227-824DE36449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145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29913" t="22264" r="39742" b="15031"/>
          <a:stretch/>
        </p:blipFill>
        <p:spPr>
          <a:xfrm>
            <a:off x="684360" y="1916280"/>
            <a:ext cx="3178080" cy="4103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835280" y="692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276640"/>
            <a:ext cx="3960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o de    exportaciones al mercado chino (1.600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gregar valor a la madera mediante homogenizado (Aumento de precio 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56000" y="1989000"/>
            <a:ext cx="4392720" cy="388800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D18-9F51-41AA-94A9-FF39398635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yección Demanda Mercado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3276720" y="1771560"/>
            <a:ext cx="5472000" cy="4321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771560"/>
            <a:ext cx="2952720" cy="4321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B6B-2BB0-493F-86C2-2D56208504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2171880"/>
            <a:ext cx="628668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ripción de la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rcado de Muebles en el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bjetivo del Plan d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ividades a Re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13600" y="2133720"/>
            <a:ext cx="93672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15040" y="1628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á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4DD-10F3-470F-8587-63EA8005B3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na: Exporta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nas de muebles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illones de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3708360" y="1700280"/>
            <a:ext cx="5111640" cy="4464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700280"/>
            <a:ext cx="3129120" cy="4465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ACB-78B9-498F-BDAE-CA78724ACA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ducción y comercio de madera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errada en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692360" y="1843200"/>
          <a:ext cx="5724360" cy="360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43200"/>
                    <a:ext cx="5724360" cy="36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763640" y="551664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uente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General Customs Administration of the People Republic of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C4A-F8AB-4671-A39C-6FA8AA67E5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4000" y="2060640"/>
            <a:ext cx="849600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701360"/>
            <a:ext cx="842472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  </a:t>
            </a:r>
            <a:r>
              <a:rPr b="1" i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1-…Woodmac Shang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              </a:t>
            </a:r>
            <a:r>
              <a:rPr b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2-</a:t>
            </a:r>
            <a:r>
              <a:rPr b="0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</a:t>
            </a:r>
            <a:r>
              <a:rPr b="1" i="1" lang="es-CL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…Furniture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0" y="4437000"/>
            <a:ext cx="9180000" cy="1989360"/>
            <a:chOff x="0" y="4437000"/>
            <a:chExt cx="9180000" cy="198936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6416640" y="4437000"/>
              <a:ext cx="2763360" cy="19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0" y="4437000"/>
              <a:ext cx="3432960" cy="19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432960" y="4437000"/>
              <a:ext cx="3035880" cy="198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D07-4E3C-4DDE-A415-D770F3C595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011-2A1C-45FD-B53A-78E2DB539E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200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Viaje de promoción y venta a productores de muebles chinos e import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6948360" cy="2952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997360"/>
            <a:ext cx="2060280" cy="2735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0" y="2997360"/>
            <a:ext cx="2411280" cy="27367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4ED-1EF1-435F-8069-C1C08CCAD7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128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ar la cosecha de bosques de Lenga en Argentina para aumentar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3816360" cy="28224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13F-DEE0-45EF-93F5-6214357563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grama de Actividades 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rcRect l="0" t="3594" r="1961" b="0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238-2727-4984-B90A-84D2A09DC1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valuación Económica (Sin proyec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0" y="1341360"/>
            <a:ext cx="9144000" cy="4465800"/>
            <a:chOff x="0" y="1341360"/>
            <a:chExt cx="9144000" cy="4465800"/>
          </a:xfrm>
        </p:grpSpPr>
        <p:pic>
          <p:nvPicPr>
            <p:cNvPr id="369" name="" descr=""/>
            <p:cNvPicPr/>
            <p:nvPr/>
          </p:nvPicPr>
          <p:blipFill>
            <a:blip r:embed="rId1"/>
            <a:stretch/>
          </p:blipFill>
          <p:spPr>
            <a:xfrm>
              <a:off x="0" y="1341360"/>
              <a:ext cx="9144000" cy="438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2"/>
            <a:srcRect l="61018" t="62630" r="19219" b="34374"/>
            <a:stretch/>
          </p:blipFill>
          <p:spPr>
            <a:xfrm>
              <a:off x="3276720" y="5446800"/>
              <a:ext cx="1871640" cy="3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43EB-CA19-4716-80FC-532444E6CE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valuación Económica (Con proyec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79280" y="1484280"/>
            <a:ext cx="8569440" cy="5173560"/>
            <a:chOff x="179280" y="1484280"/>
            <a:chExt cx="8569440" cy="5173560"/>
          </a:xfrm>
        </p:grpSpPr>
        <p:pic>
          <p:nvPicPr>
            <p:cNvPr id="380" name="" descr=""/>
            <p:cNvPicPr/>
            <p:nvPr/>
          </p:nvPicPr>
          <p:blipFill>
            <a:blip r:embed="rId1"/>
            <a:stretch/>
          </p:blipFill>
          <p:spPr>
            <a:xfrm>
              <a:off x="179280" y="1484280"/>
              <a:ext cx="8569440" cy="51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2"/>
            <a:srcRect l="61018" t="62630" r="19219" b="34374"/>
            <a:stretch/>
          </p:blipFill>
          <p:spPr>
            <a:xfrm>
              <a:off x="3203640" y="6165720"/>
              <a:ext cx="1655640" cy="37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"/>
          <p:cNvSpPr/>
          <p:nvPr/>
        </p:nvSpPr>
        <p:spPr>
          <a:xfrm>
            <a:off x="7596360" y="4797360"/>
            <a:ext cx="154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US$ 631.7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11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56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2692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714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1596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57240" y="65246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00320" y="65246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17F-DB68-45EC-A2B1-27CD876294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1197000"/>
            <a:ext cx="9144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68360" y="3213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7F1-9E6B-429C-8FB0-8F56F5B0D0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00720" y="4797360"/>
            <a:ext cx="1865160" cy="73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2050920" cy="957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89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34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47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92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6376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050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4776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0920" y="1933920"/>
            <a:ext cx="4038120" cy="3479400"/>
            <a:chOff x="250920" y="1933920"/>
            <a:chExt cx="4038120" cy="3479400"/>
          </a:xfrm>
        </p:grpSpPr>
        <p:cxnSp>
          <p:nvCxnSpPr>
            <p:cNvPr id="74" name="_s143379"/>
            <p:cNvCxnSpPr>
              <a:stCxn id="75" idx="1"/>
              <a:endCxn id="76" idx="2"/>
            </p:cNvCxnSpPr>
            <p:nvPr/>
          </p:nvCxnSpPr>
          <p:spPr>
            <a:xfrm rot="10800000">
              <a:off x="2849400" y="3774240"/>
              <a:ext cx="155880" cy="132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43380"/>
            <p:cNvCxnSpPr>
              <a:stCxn id="78" idx="1"/>
              <a:endCxn id="76" idx="2"/>
            </p:cNvCxnSpPr>
            <p:nvPr/>
          </p:nvCxnSpPr>
          <p:spPr>
            <a:xfrm rot="10800000">
              <a:off x="2849400" y="3774240"/>
              <a:ext cx="155880" cy="50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43381"/>
            <p:cNvCxnSpPr>
              <a:stCxn id="80" idx="3"/>
              <a:endCxn id="81" idx="2"/>
            </p:cNvCxnSpPr>
            <p:nvPr/>
          </p:nvCxnSpPr>
          <p:spPr>
            <a:xfrm flipV="1">
              <a:off x="1577880" y="3774240"/>
              <a:ext cx="159480" cy="132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143382"/>
            <p:cNvCxnSpPr>
              <a:stCxn id="83" idx="3"/>
              <a:endCxn id="81" idx="2"/>
            </p:cNvCxnSpPr>
            <p:nvPr/>
          </p:nvCxnSpPr>
          <p:spPr>
            <a:xfrm flipV="1">
              <a:off x="1577880" y="3774600"/>
              <a:ext cx="159480" cy="50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43383"/>
            <p:cNvCxnSpPr>
              <a:stCxn id="76" idx="0"/>
              <a:endCxn id="85" idx="2"/>
            </p:cNvCxnSpPr>
            <p:nvPr/>
          </p:nvCxnSpPr>
          <p:spPr>
            <a:xfrm flipV="1" rot="16200000">
              <a:off x="2475360" y="2974680"/>
              <a:ext cx="191520" cy="55728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43384"/>
            <p:cNvCxnSpPr>
              <a:stCxn id="81" idx="0"/>
              <a:endCxn id="85" idx="2"/>
            </p:cNvCxnSpPr>
            <p:nvPr/>
          </p:nvCxnSpPr>
          <p:spPr>
            <a:xfrm flipH="1" flipV="1" rot="5400000">
              <a:off x="1918800" y="2975400"/>
              <a:ext cx="191520" cy="55620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43385"/>
            <p:cNvCxnSpPr>
              <a:stCxn id="85" idx="0"/>
              <a:endCxn id="88" idx="2"/>
            </p:cNvCxnSpPr>
            <p:nvPr/>
          </p:nvCxnSpPr>
          <p:spPr>
            <a:xfrm flipV="1" rot="16200000">
              <a:off x="2185200" y="2624760"/>
              <a:ext cx="191520" cy="2340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43386"/>
            <p:cNvCxnSpPr>
              <a:stCxn id="90" idx="0"/>
              <a:endCxn id="88" idx="2"/>
            </p:cNvCxnSpPr>
            <p:nvPr/>
          </p:nvCxnSpPr>
          <p:spPr>
            <a:xfrm flipH="1" flipV="1" rot="5400000">
              <a:off x="1478880" y="1941120"/>
              <a:ext cx="191520" cy="1390680"/>
            </a:xfrm>
            <a:prstGeom prst="bentConnector3">
              <a:avLst>
                <a:gd name="adj1" fmla="val 49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8" name="_s143387"/>
            <p:cNvSpPr/>
            <p:nvPr/>
          </p:nvSpPr>
          <p:spPr>
            <a:xfrm>
              <a:off x="1653840" y="1933920"/>
              <a:ext cx="1232280" cy="607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Trilliu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orpo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43388"/>
            <p:cNvSpPr/>
            <p:nvPr/>
          </p:nvSpPr>
          <p:spPr>
            <a:xfrm>
              <a:off x="250920" y="2732400"/>
              <a:ext cx="1256040" cy="425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enes Raí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43389"/>
            <p:cNvSpPr/>
            <p:nvPr/>
          </p:nvSpPr>
          <p:spPr>
            <a:xfrm>
              <a:off x="1663560" y="2732400"/>
              <a:ext cx="1256040" cy="425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es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43390"/>
            <p:cNvSpPr/>
            <p:nvPr/>
          </p:nvSpPr>
          <p:spPr>
            <a:xfrm>
              <a:off x="1257120" y="3349080"/>
              <a:ext cx="956520" cy="425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43391"/>
            <p:cNvSpPr/>
            <p:nvPr/>
          </p:nvSpPr>
          <p:spPr>
            <a:xfrm>
              <a:off x="2370600" y="3349080"/>
              <a:ext cx="956520" cy="425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Sud Ame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43392"/>
            <p:cNvSpPr/>
            <p:nvPr/>
          </p:nvSpPr>
          <p:spPr>
            <a:xfrm>
              <a:off x="293760" y="3965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Washingt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Al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43393"/>
            <p:cNvSpPr/>
            <p:nvPr/>
          </p:nvSpPr>
          <p:spPr>
            <a:xfrm>
              <a:off x="293760" y="4784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Casca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43394"/>
            <p:cNvSpPr/>
            <p:nvPr/>
          </p:nvSpPr>
          <p:spPr>
            <a:xfrm>
              <a:off x="3004920" y="3965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Forestal Trillium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de Chi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43395"/>
            <p:cNvSpPr/>
            <p:nvPr/>
          </p:nvSpPr>
          <p:spPr>
            <a:xfrm>
              <a:off x="3004920" y="4784760"/>
              <a:ext cx="1284120" cy="628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Lenga Patagon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716360" y="2587680"/>
            <a:ext cx="40323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: 4.400 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US$ 1.2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tilidad                   : US$ (810.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1000" y="21258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ño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5DE-EE2B-4E3B-B1D2-8FB3464357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a en Andes Patagónicos de Chile y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or blanco amarillento y rosado pálido a rojo oscu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ácil de secar, trabajar, tornear y teñ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ocida como “Cerezo de la Patagoni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dera dura para mue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3673440" cy="2264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35640" y="4221000"/>
            <a:ext cx="2016000" cy="109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435640" y="5300640"/>
            <a:ext cx="2016000" cy="120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605040" y="2911320"/>
            <a:ext cx="552600" cy="9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948120" y="3322800"/>
            <a:ext cx="133200" cy="9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4289400" y="2773440"/>
            <a:ext cx="647640" cy="9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632480" y="3322800"/>
            <a:ext cx="152280" cy="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4975200" y="2637000"/>
            <a:ext cx="809640" cy="9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5316480" y="346068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5316480" y="3483000"/>
            <a:ext cx="9720" cy="171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050920" y="747720"/>
            <a:ext cx="4969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Le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6CD-3634-4C86-A208-C62D6B5C45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11280" y="718920"/>
            <a:ext cx="410400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485720"/>
            <a:ext cx="770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ADERA S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4653000"/>
            <a:ext cx="4464000" cy="17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403280" y="1916280"/>
          <a:ext cx="5905440" cy="2087280"/>
        </p:xfrm>
        <a:graphic>
          <a:graphicData uri="http://schemas.openxmlformats.org/drawingml/2006/table">
            <a:tbl>
              <a:tblPr/>
              <a:tblGrid>
                <a:gridCol w="2330640"/>
                <a:gridCol w="1789200"/>
                <a:gridCol w="1785600"/>
              </a:tblGrid>
              <a:tr h="47448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280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a y Mej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4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4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8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– 13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403280" y="4076640"/>
            <a:ext cx="590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Grado: Depende de defectos como nudos, pudricione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homogenizado de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972-2C4C-4524-90D5-10EC818B99E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ción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3958" t="5849" r="14959" b="55485"/>
          <a:stretch/>
        </p:blipFill>
        <p:spPr>
          <a:xfrm>
            <a:off x="324000" y="1700280"/>
            <a:ext cx="3571560" cy="396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16065" t="51889" r="14907" b="7510"/>
          <a:stretch/>
        </p:blipFill>
        <p:spPr>
          <a:xfrm>
            <a:off x="4500720" y="1773360"/>
            <a:ext cx="4055760" cy="4176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115920"/>
            <a:ext cx="1081080" cy="1063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4000" y="1700280"/>
            <a:ext cx="3600360" cy="403380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700280"/>
            <a:ext cx="3600360" cy="410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1700280"/>
            <a:ext cx="417672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9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34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7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92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6376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050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4776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63EC-2107-494B-BE39-4509F596B9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articipación de Mercado (Leng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42920" y="2205000"/>
          <a:ext cx="648648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05000"/>
                    <a:ext cx="648648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403280" y="3429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바탕"/>
              </a:rPr>
              <a:t>Maq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06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ff"/>
                </a:solidFill>
                <a:latin typeface="Arial"/>
              </a:rPr>
              <a:t>San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187280" y="4581360"/>
            <a:ext cx="1368720" cy="73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227640" y="3213000"/>
            <a:ext cx="2519640" cy="577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4140360" y="4869000"/>
            <a:ext cx="2592360" cy="1028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42920" y="2349360"/>
            <a:ext cx="7848720" cy="388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9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34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472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92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6376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05040" y="654192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47760" y="65419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FA45-74B0-434B-BEF4-DA5D683374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604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 rot="10800000">
            <a:off x="2487240" y="355392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981000"/>
            <a:ext cx="89647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3194" t="0" r="288" b="0"/>
          <a:stretch/>
        </p:blipFill>
        <p:spPr>
          <a:xfrm>
            <a:off x="2411280" y="1341360"/>
            <a:ext cx="4321440" cy="4751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1341360"/>
            <a:ext cx="208728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1341360"/>
            <a:ext cx="194472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3933720"/>
            <a:ext cx="208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3933720"/>
            <a:ext cx="194472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42C-9B2F-4369-8C4F-1567D47B0D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4608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aldo financiero de Casa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now How en comerci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ponibilidad de bos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bicación privilegiada, instalaciones cercanas a Punta Are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332160" cy="4103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4000" y="1844640"/>
            <a:ext cx="4535280" cy="3960720"/>
          </a:xfrm>
          <a:prstGeom prst="rect">
            <a:avLst/>
          </a:prstGeom>
          <a:noFill/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89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34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72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92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6376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05040" y="65674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47760" y="6567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0E56-23A1-4569-8432-436BBB3701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23:28:59Z</dcterms:created>
  <dc:creator>maco</dc:creator>
  <dc:description/>
  <dc:language>en-US</dc:language>
  <cp:lastModifiedBy>Jorge Lara</cp:lastModifiedBy>
  <dcterms:modified xsi:type="dcterms:W3CDTF">2006-11-20T21:48:19Z</dcterms:modified>
  <cp:revision>188</cp:revision>
  <dc:subject/>
  <dc:title>Diapositiva 1</dc:title>
</cp:coreProperties>
</file>