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1.jpeg" ContentType="image/jpeg"/>
  <Override PartName="/ppt/media/image32.wmf" ContentType="image/x-wmf"/>
  <Override PartName="/ppt/media/image19.png" ContentType="image/png"/>
  <Override PartName="/ppt/media/image17.jpeg" ContentType="image/jpeg"/>
  <Override PartName="/ppt/media/image45.wmf" ContentType="image/x-wmf"/>
  <Override PartName="/ppt/media/image16.png" ContentType="image/png"/>
  <Override PartName="/ppt/media/image22.jpeg" ContentType="image/jpeg"/>
  <Override PartName="/ppt/media/image42.wmf" ContentType="image/x-wmf"/>
  <Override PartName="/ppt/media/image15.wmf" ContentType="image/x-wmf"/>
  <Override PartName="/ppt/media/image41.jpeg" ContentType="image/jpeg"/>
  <Override PartName="/ppt/media/image14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27.png" ContentType="image/png"/>
  <Override PartName="/ppt/media/image12.wmf" ContentType="image/x-wmf"/>
  <Override PartName="/ppt/media/image4.png" ContentType="image/png"/>
  <Override PartName="/ppt/media/image34.png" ContentType="image/png"/>
  <Override PartName="/ppt/media/image10.wmf" ContentType="image/x-wmf"/>
  <Override PartName="/ppt/media/image31.jpeg" ContentType="image/jpeg"/>
  <Override PartName="/ppt/media/image9.jpeg" ContentType="image/jpeg"/>
  <Override PartName="/ppt/media/image33.png" ContentType="image/png"/>
  <Override PartName="/ppt/media/image39.jpeg" ContentType="image/jpeg"/>
  <Override PartName="/ppt/media/image8.png" ContentType="image/png"/>
  <Override PartName="/ppt/media/image36.png" ContentType="image/png"/>
  <Override PartName="/ppt/media/image37.png" ContentType="image/png"/>
  <Override PartName="/ppt/media/image43.wmf" ContentType="image/x-wmf"/>
  <Override PartName="/ppt/media/image44.png" ContentType="image/png"/>
  <Override PartName="/ppt/media/image40.jpeg" ContentType="image/jpeg"/>
  <Override PartName="/ppt/media/image13.jpeg" ContentType="image/jpeg"/>
  <Override PartName="/ppt/media/image18.png" ContentType="image/png"/>
  <Override PartName="/ppt/media/image6.jpeg" ContentType="image/jpeg"/>
  <Override PartName="/ppt/media/image35.png" ContentType="image/png"/>
  <Override PartName="/ppt/media/image5.png" ContentType="image/png"/>
  <Override PartName="/ppt/media/image38.jpeg" ContentType="image/jpeg"/>
  <Override PartName="/ppt/media/image7.jpeg" ContentType="image/jpeg"/>
  <Override PartName="/ppt/media/image28.png" ContentType="image/png"/>
  <Override PartName="/ppt/media/image29.jpeg" ContentType="image/jpeg"/>
  <Override PartName="/ppt/media/image3.jpeg" ContentType="image/jpeg"/>
  <Override PartName="/ppt/media/image30.png" ContentType="image/png"/>
  <Override PartName="/ppt/media/image20.png" ContentType="image/png"/>
  <Override PartName="/ppt/media/image2.jpeg" ContentType="image/jpeg"/>
  <Override PartName="/ppt/media/image23.jpeg" ContentType="image/jpeg"/>
  <Override PartName="/ppt/media/image2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comments/comment4.xml" ContentType="application/vnd.openxmlformats-officedocument.presentationml.comments+xml"/>
  <Override PartName="/ppt/comments/comment11.xml" ContentType="application/vnd.openxmlformats-officedocument.presentationml.comments+xml"/>
  <Override PartName="/ppt/comments/comment7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723438"/>
</p:presentation>
</file>

<file path=ppt/commentAuthors.xml><?xml version="1.0" encoding="utf-8"?>
<p:cmAuthorLst xmlns:p="http://schemas.openxmlformats.org/presentationml/2006/main">
  <p:cmAuthor id="0" name="Luis Contreras" initials="LC" lastIdx="3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<Relationship Id="rId34" Type="http://schemas.openxmlformats.org/officeDocument/2006/relationships/commentAuthors" Target="commentAuthors.xml"/>
</Relationships>
</file>

<file path=ppt/comments/comment11.xml><?xml version="1.0" encoding="utf-8"?>
<p:cmLst xmlns:p="http://schemas.openxmlformats.org/presentationml/2006/main">
  <p:cm authorId="0" dt="2006-11-04T17:12:05.625000000" idx="3">
    <p:pos x="10" y="10"/>
    <p:text>¿Cual es el deglose de costos?</p:text>
  </p:cm>
</p:cmLst>
</file>

<file path=ppt/comments/comment4.xml><?xml version="1.0" encoding="utf-8"?>
<p:cmLst xmlns:p="http://schemas.openxmlformats.org/presentationml/2006/main">
  <p:cm authorId="0" dt="2006-11-04T16:49:42.484000000" idx="1">
    <p:pos x="5418" y="922"/>
    <p:text>4,7 M ha. 3,4 ha en Chile y 1,3 ha en Arg.</p:text>
  </p:cm>
</p:cmLst>
</file>

<file path=ppt/comments/comment7.xml><?xml version="1.0" encoding="utf-8"?>
<p:cmLst xmlns:p="http://schemas.openxmlformats.org/presentationml/2006/main">
  <p:cm authorId="0" dt="2006-11-05T17:40:02.078000000" idx="2">
    <p:pos x="10" y="10"/>
    <p:text>Confirmar valores.
Ignisterra similara a FTdC según GR
Famapal según brochoure
Macsa según GR
San Vicente según GR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998280" y="728280"/>
            <a:ext cx="4862520" cy="36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46E68-E4CF-418C-A688-781CAD80FE0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Tener claros los nume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quí colocar que uso se le da a cada tipo de madera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uanto se transa en total en este merc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BA77-97FA-423D-912D-1C1303D6A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360" y="39502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EF37-82BC-488C-B5C2-EE55559E2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5400" y="141264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8360" y="3950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5400" y="3950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CB48-8991-44F8-8C88-84E44FF0C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50800" y="141264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3240" y="141264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8360" y="3950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50800" y="3950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3240" y="3950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2AF5-4DC7-4528-9D08-C505F6C64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3343-6CB3-405F-94C4-F9C053D38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3BF4-99CE-4155-A0AF-03A51BC45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401580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400" y="1412640"/>
            <a:ext cx="401580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28D3-152E-4F6D-B0AB-F915512EF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E186-DC83-4DCA-8B3D-1ECD4DCCA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33336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82B6-E3CC-439D-A26B-39EBC548D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412640"/>
            <a:ext cx="401580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360" y="3950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1A39-1102-46DA-8C5D-0BDAA8B7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401580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41264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5400" y="3950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AD25-045E-4A45-8782-414270C4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400" y="141264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360" y="39502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CE31-08D4-46BA-8560-6F79A060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41264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1EA92-201B-425B-8FEC-4079EEBAE53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24000" y="1268280"/>
            <a:ext cx="849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rcRect l="30717" t="19836" r="63972" b="70731"/>
          <a:stretch/>
        </p:blipFill>
        <p:spPr>
          <a:xfrm>
            <a:off x="8032680" y="125280"/>
            <a:ext cx="973080" cy="108108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871640" cy="873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871640" cy="87300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5"/>
          <a:stretch/>
        </p:blipFill>
        <p:spPr>
          <a:xfrm>
            <a:off x="114480" y="50760"/>
            <a:ext cx="1871640" cy="87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hyperlink" Target="http://images.google.cl/imgres?imgurl=http://canales.larioja.com/tvr/fotos/fotosweb/expectativas.jpg&amp;imgrefurl=http://canales.larioja.com/tvr/expectativas.html&amp;h=224&amp;w=325&amp;sz=19&amp;hl=es&amp;start=1&amp;tbnid=9Rx0pUl-kH5buM:&amp;tbnh=81&amp;tbnw=118&amp;prev=/images%3Fq%3DEXPECTATIVAS%26svnum%3D10%26hl%3Des%26lr%3D%26sa%3DN" TargetMode="External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hyperlink" Target="http://images.google.cl/imgres?imgurl=http://images2.sina.com/english/z/050307yuan/U12P6T13D77F52DT20050306193948.jpg&amp;imgrefurl=http://english.sina.com/z/050307yuan/index.shtml&amp;h=209&amp;w=315&amp;sz=12&amp;hl=es&amp;start=1&amp;tbnid=otQAInOogEFSHM:&amp;tbnh=78&amp;tbnw=117&amp;prev=/images%3Fq%3Dyuan%26svnum%3D10%26hl%3Des%26lr%3D" TargetMode="External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hyperlink" Target="file:///../../../Local%20Settings/Luis/Configuraci&#243;n%20local/Archivos%20temporales%20de%20Internet/OLK12C/feria%20china.ppt" TargetMode="External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hyperlink" Target="http://images.google.cl/imgres?imgurl=http://www.radioradicale.it/approfondimento_cina/immagini/galleria/shangai_nanjinglu1_200208.JPG&amp;imgrefurl=http://itwalks.blogspot.com/2005_11_01_itwalks_archive.html&amp;h=1024&amp;w=768&amp;sz=167&amp;hl=es&amp;start=6&amp;tbnid=pR4tGnfMcSaN7M:&amp;tbnh=150&amp;tbnw=113&amp;prev=/images%3Fq%3Dshangai%26svnum%3D10%26hl%3Des%26lr%3D" TargetMode="External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8.xml"/><Relationship Id="rId12" Type="http://schemas.openxmlformats.org/officeDocument/2006/relationships/comments" Target="../comments/commen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hyperlink" Target="http://images.google.cl/imgres?imgurl=http://www.inac.gub.uy/images/mundoexp.jpg&amp;imgrefurl=http://www.inac.gub.uy/exportaciones.htm&amp;h=236&amp;w=240&amp;sz=14&amp;hl=es&amp;start=6&amp;tbnid=UFnZeE-24eYkcM:&amp;tbnh=108&amp;tbnw=110&amp;prev=/images%3Fq%3Dexportaciones%26svnum%3D10%26hl%3Des%26lr%3D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1.xml"/><Relationship Id="rId7" Type="http://schemas.openxmlformats.org/officeDocument/2006/relationships/comments" Target="../comments/comment7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1873080"/>
            <a:ext cx="665784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Tahoma"/>
              </a:rPr>
              <a:t>Forestal Trillium de Chile Ltda.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lan de Marketing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26920" y="3500280"/>
            <a:ext cx="345600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Tahoma"/>
              </a:rPr>
              <a:t>Integrant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Tahoma"/>
              </a:rPr>
              <a:t>María Jose Chun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Tahoma"/>
              </a:rPr>
              <a:t>Luis Contre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Tahoma"/>
              </a:rPr>
              <a:t>Lionel Corne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Tahoma"/>
              </a:rPr>
              <a:t>Rodrigo Capeti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Tahoma"/>
              </a:rPr>
              <a:t>José Riv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00720" y="3860640"/>
            <a:ext cx="4392360" cy="19306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187280" y="764640"/>
            <a:ext cx="66582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Tahoma"/>
              </a:rPr>
              <a:t>Dirección de Mark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48360" y="6021360"/>
            <a:ext cx="1236960" cy="692280"/>
          </a:xfrm>
          <a:custGeom>
            <a:avLst/>
            <a:gdLst/>
            <a:ahLst/>
            <a:rect l="l" t="t" r="r" b="b"/>
            <a:pathLst>
              <a:path w="795" h="375">
                <a:moveTo>
                  <a:pt x="0" y="0"/>
                </a:moveTo>
                <a:lnTo>
                  <a:pt x="649" y="0"/>
                </a:lnTo>
                <a:lnTo>
                  <a:pt x="795" y="189"/>
                </a:lnTo>
                <a:lnTo>
                  <a:pt x="649" y="375"/>
                </a:lnTo>
              </a:path>
            </a:pathLst>
          </a:custGeom>
          <a:noFill/>
          <a:ln w="2232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43640" y="6165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M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0FD9-308C-421E-BBB5-35A4823F89E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ortun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5148360" y="4653000"/>
            <a:ext cx="2879640" cy="1584360"/>
            <a:chOff x="5148360" y="4653000"/>
            <a:chExt cx="2879640" cy="1584360"/>
          </a:xfrm>
        </p:grpSpPr>
        <p:pic>
          <p:nvPicPr>
            <p:cNvPr id="182" name="" descr=""/>
            <p:cNvPicPr/>
            <p:nvPr/>
          </p:nvPicPr>
          <p:blipFill>
            <a:blip r:embed="rId1"/>
            <a:stretch/>
          </p:blipFill>
          <p:spPr>
            <a:xfrm>
              <a:off x="5148360" y="4653000"/>
              <a:ext cx="28796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 txBox="1"/>
            <p:nvPr/>
          </p:nvSpPr>
          <p:spPr>
            <a:xfrm>
              <a:off x="5148360" y="4653000"/>
              <a:ext cx="2879640" cy="158436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lnSpc>
                  <a:spcPct val="85000"/>
                </a:lnSpc>
                <a:spcBef>
                  <a:spcPts val="876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5148360" y="1557360"/>
            <a:ext cx="2879640" cy="1440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5148360" y="2997360"/>
            <a:ext cx="2879640" cy="16556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324000" y="1628640"/>
            <a:ext cx="4535280" cy="4537080"/>
          </a:xfrm>
          <a:prstGeom prst="rect">
            <a:avLst/>
          </a:prstGeom>
          <a:noFill/>
          <a:ln w="64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2060640"/>
            <a:ext cx="4464000" cy="40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aja de los costos de transpo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- Mercados Globaliz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isponibilidad de Tecnología de   Aserrío, Secado, Vaporizado,  Remanufactu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892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334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7472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192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46376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8050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14776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6FFE-A1BA-44D0-9D44-209C882ABA8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Mercado Global </a:t>
            </a:r>
            <a:br>
              <a:rPr sz="3200"/>
            </a:b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Maderas Du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08000" y="2117880"/>
            <a:ext cx="4676760" cy="28828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8892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334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7472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1192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46376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8050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4776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003640" y="2133720"/>
            <a:ext cx="381636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mento de población con alto poder adquisi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ción de masas fores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mento de restricciones ambien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859280" y="2133720"/>
            <a:ext cx="4033800" cy="3024000"/>
          </a:xfrm>
          <a:prstGeom prst="rect">
            <a:avLst/>
          </a:prstGeom>
          <a:noFill/>
          <a:ln w="64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AC36-A810-481E-A6F0-B1A0F1EA884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Sustentabi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68360" y="1413000"/>
          <a:ext cx="8229240" cy="4857120"/>
        </p:xfrm>
        <a:graphic>
          <a:graphicData uri="http://schemas.openxmlformats.org/drawingml/2006/table">
            <a:tbl>
              <a:tblPr/>
              <a:tblGrid>
                <a:gridCol w="6665400"/>
                <a:gridCol w="1563840"/>
              </a:tblGrid>
              <a:tr h="58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ción madera de aserradero (m</a:t>
                      </a:r>
                      <a:r>
                        <a:rPr b="0" lang="es-E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añ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ficie bosque a cosechar anualm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ficie bosque a cosechar en 115 añ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.9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ficie lenga adulto Prov Magallanes, cosech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.0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ficie lenga disponible para FTd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5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ños de sustentabilidad con bosque disponi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db6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db67"/>
                    </a:solidFill>
                  </a:tcPr>
                </a:tc>
              </a:tr>
              <a:tr h="49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ficie lenga cosechable de Lenga Patagonia, A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.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ños de sustentabilidad con bosque disponi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db6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db67"/>
                    </a:solidFill>
                  </a:tcPr>
                </a:tc>
              </a:tr>
              <a:tr h="5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iodo de rot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a3a3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 añ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a3a3a3"/>
                    </a:solidFill>
                  </a:tcPr>
                </a:tc>
              </a:tr>
            </a:tbl>
          </a:graphicData>
        </a:graphic>
      </p:graphicFrame>
      <p:sp>
        <p:nvSpPr>
          <p:cNvPr id="208" name=""/>
          <p:cNvSpPr/>
          <p:nvPr/>
        </p:nvSpPr>
        <p:spPr>
          <a:xfrm>
            <a:off x="8892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334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7472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192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46376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8050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14776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A057-B3E6-4EDD-B311-F422BC90C27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bil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000" y="1811160"/>
            <a:ext cx="41749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apacidad instalada insuficiente. (Homogenizad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Bajo uso de herramientas de Control de Gestión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TI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Falta de certificación Calidad, Medioambient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Mala imagen de la marca Trilliu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rocesos críticos de producción dependientes de Mano de Obra no calificad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5219640" y="1413000"/>
            <a:ext cx="3151080" cy="44640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24000" y="1413000"/>
            <a:ext cx="4535280" cy="4537080"/>
          </a:xfrm>
          <a:prstGeom prst="rect">
            <a:avLst/>
          </a:prstGeom>
          <a:noFill/>
          <a:ln w="64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892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334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7472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1192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46376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8050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14776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8520-103B-4BE3-9838-F37CD1839EF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menaz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40384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esiones de grupos ambientali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New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NewRoman"/>
                <a:ea typeface="Times New Roman"/>
              </a:rPr>
              <a:t>Pérdida de mercado por parte de Chile</a:t>
            </a:r>
            <a:r>
              <a:rPr b="0" lang="es-CL" sz="2400" spc="-1" strike="noStrike">
                <a:solidFill>
                  <a:srgbClr val="000000"/>
                </a:solidFill>
                <a:latin typeface="TimesNewRoman"/>
                <a:ea typeface="Times New Roman"/>
              </a:rPr>
              <a:t> debido </a:t>
            </a:r>
            <a:r>
              <a:rPr b="0" lang="es-ES" sz="2400" spc="-1" strike="noStrike">
                <a:solidFill>
                  <a:srgbClr val="000000"/>
                </a:solidFill>
                <a:latin typeface="TimesNewRoman"/>
                <a:ea typeface="Times New Roman"/>
              </a:rPr>
              <a:t>al mayor tiempo de embarque requerido desde Chile hacia mercados internacional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New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NewRoman"/>
                <a:ea typeface="Times New Roman"/>
              </a:rPr>
              <a:t>Porcentaje de recuperación inferior al 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5219640" y="1557360"/>
            <a:ext cx="3672000" cy="44640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324000" y="1557360"/>
            <a:ext cx="4535280" cy="4537080"/>
          </a:xfrm>
          <a:prstGeom prst="rect">
            <a:avLst/>
          </a:prstGeom>
          <a:noFill/>
          <a:ln w="64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892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334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7472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1192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46376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8050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14776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A6EA-09F8-4869-BB74-9520F118FB6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Mercado de Muebles en el Mu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rcRect l="54246" t="1867" r="0" b="2045"/>
          <a:stretch/>
        </p:blipFill>
        <p:spPr>
          <a:xfrm>
            <a:off x="1547640" y="1700280"/>
            <a:ext cx="5832720" cy="475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39" name=""/>
          <p:cNvSpPr/>
          <p:nvPr/>
        </p:nvSpPr>
        <p:spPr>
          <a:xfrm>
            <a:off x="6705720" y="1905120"/>
            <a:ext cx="2133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411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856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269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1714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1596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8572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200320" y="65246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3A43-46A8-4463-B0DF-C3DD2D89197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Demanda 2007 Madera Dura Aserr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705720" y="1905120"/>
            <a:ext cx="2133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187280" y="1700280"/>
          <a:ext cx="6624720" cy="4249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6624720" cy="42498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1116000" y="595008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Fuente :UNE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411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856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269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1714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51596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8572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200320" y="65246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B685-D36E-4210-A611-8ECBF1AE5FC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Objetivo del Plan de MR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03080" y="2347560"/>
            <a:ext cx="3455640" cy="28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umentar ingresos  por ventas de maderas de calidades Selecta y Primera, en 50% a partir del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5311800" y="2347920"/>
            <a:ext cx="3005280" cy="295272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1411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856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8269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1714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51596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8572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200320" y="65246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9018-BA52-4FD5-A0C3-A4C2BB6FC60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014560" y="150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rcRect l="29913" t="22264" r="39742" b="15031"/>
          <a:stretch/>
        </p:blipFill>
        <p:spPr>
          <a:xfrm>
            <a:off x="684360" y="1916280"/>
            <a:ext cx="3178080" cy="41036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1835280" y="69228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strateg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0" y="2276640"/>
            <a:ext cx="396072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umento de    exportaciones al mercado chino (1.600 m</a:t>
            </a:r>
            <a:r>
              <a:rPr b="0" lang="es-CL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gregar valor a la madera mediante homogenizado (Aumento de precio 30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356000" y="1989000"/>
            <a:ext cx="4392720" cy="3888000"/>
          </a:xfrm>
          <a:prstGeom prst="rect">
            <a:avLst/>
          </a:prstGeom>
          <a:noFill/>
          <a:ln w="64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411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856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269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1714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51596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8572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200320" y="65246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150A-2D48-4469-85CE-D76894B6DC1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royección Demanda Mercado 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>
            <a:lum bright="-22000"/>
          </a:blip>
          <a:stretch/>
        </p:blipFill>
        <p:spPr>
          <a:xfrm>
            <a:off x="3276720" y="1771560"/>
            <a:ext cx="5472000" cy="432144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1771560"/>
            <a:ext cx="2952720" cy="432144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1411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56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269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1714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51596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8572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200320" y="65246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BFCE-A871-4666-9DE3-089814BE419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99640" y="2171880"/>
            <a:ext cx="6286680" cy="32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scripción de la Empr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nálisis F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ercado de Muebles en el Mu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Objetivo del Plan de 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trateg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ctividades a Realiz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grama de Activ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113600" y="2133720"/>
            <a:ext cx="936720" cy="32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115040" y="162864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ág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6E6C-DE34-4C59-B255-7B73BA1FFD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hina: Exportacione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hinas de muebles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Millones de Dó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3708360" y="1700280"/>
            <a:ext cx="5111640" cy="446400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9640" y="1700280"/>
            <a:ext cx="3129120" cy="44654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1411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856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269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1714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51596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8572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200320" y="65246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2459-BC6D-4EAC-B140-28772FB6205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oducción y comercio de madera 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serrada en 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1692360" y="1843200"/>
          <a:ext cx="5724360" cy="360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843200"/>
                    <a:ext cx="5724360" cy="36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1763640" y="5516640"/>
            <a:ext cx="568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Fuente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: General Customs Administration of the People Republic of Ch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411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856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269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714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51596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8572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200320" y="65246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CEE4-657D-4953-8D98-91238D3A626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24000" y="2060640"/>
            <a:ext cx="8496000" cy="151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Activ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68360" y="1701360"/>
            <a:ext cx="8424720" cy="287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TimesNewRoman"/>
                <a:ea typeface="Times New Roman"/>
              </a:rPr>
              <a:t>   </a:t>
            </a:r>
            <a:r>
              <a:rPr b="1" i="1" lang="es-CL" sz="2800" spc="-1" strike="noStrike">
                <a:solidFill>
                  <a:srgbClr val="000000"/>
                </a:solidFill>
                <a:latin typeface="TimesNewRoman"/>
                <a:ea typeface="Times New Roman"/>
              </a:rPr>
              <a:t>1-…Woodmac Shangh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NewRoman"/>
                <a:ea typeface="Times New Roman"/>
              </a:rPr>
              <a:t>               </a:t>
            </a:r>
            <a:r>
              <a:rPr b="1" lang="es-CL" sz="2800" spc="-1" strike="noStrike">
                <a:solidFill>
                  <a:srgbClr val="000000"/>
                </a:solidFill>
                <a:latin typeface="TimesNewRoman"/>
                <a:ea typeface="Times New Roman"/>
              </a:rPr>
              <a:t>2-</a:t>
            </a:r>
            <a:r>
              <a:rPr b="0" lang="es-CL" sz="2800" spc="-1" strike="noStrike">
                <a:solidFill>
                  <a:srgbClr val="000000"/>
                </a:solidFill>
                <a:latin typeface="TimesNewRoman"/>
                <a:ea typeface="Times New Roman"/>
              </a:rPr>
              <a:t> </a:t>
            </a:r>
            <a:r>
              <a:rPr b="1" i="1" lang="es-CL" sz="2800" spc="-1" strike="noStrike">
                <a:solidFill>
                  <a:srgbClr val="000000"/>
                </a:solidFill>
                <a:latin typeface="TimesNewRoman"/>
                <a:ea typeface="Times New Roman"/>
              </a:rPr>
              <a:t>…Furniture 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900" spc="-1" strike="noStrike">
                <a:solidFill>
                  <a:srgbClr val="000000"/>
                </a:solidFill>
                <a:latin typeface="TimesNewRoman"/>
                <a:ea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0" y="4437000"/>
            <a:ext cx="9180000" cy="1989360"/>
            <a:chOff x="0" y="4437000"/>
            <a:chExt cx="9180000" cy="1989360"/>
          </a:xfrm>
        </p:grpSpPr>
        <p:pic>
          <p:nvPicPr>
            <p:cNvPr id="316" name="" descr=""/>
            <p:cNvPicPr/>
            <p:nvPr/>
          </p:nvPicPr>
          <p:blipFill>
            <a:blip r:embed="rId1"/>
            <a:stretch/>
          </p:blipFill>
          <p:spPr>
            <a:xfrm>
              <a:off x="6416640" y="4437000"/>
              <a:ext cx="2763360" cy="198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" descr=""/>
            <p:cNvPicPr/>
            <p:nvPr/>
          </p:nvPicPr>
          <p:blipFill>
            <a:blip r:embed="rId2"/>
            <a:stretch/>
          </p:blipFill>
          <p:spPr>
            <a:xfrm>
              <a:off x="0" y="4437000"/>
              <a:ext cx="3432960" cy="197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3432960" y="4437000"/>
              <a:ext cx="3035880" cy="198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9" name=""/>
          <p:cNvSpPr/>
          <p:nvPr/>
        </p:nvSpPr>
        <p:spPr>
          <a:xfrm>
            <a:off x="1411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856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8269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1714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51596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8572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00320" y="65246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3A48-3FEB-4EC1-97E2-B95DBA36DD2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1411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856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269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1714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51596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8572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200320" y="65246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BF8B-6E73-4A67-980C-7DF1BA3E9C3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Activ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792000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New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NewRoman"/>
                <a:ea typeface="Times New Roman"/>
              </a:rPr>
              <a:t>Viaje de promoción y venta a productores de muebles chinos e importad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2195640" y="2997360"/>
            <a:ext cx="6948360" cy="29527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2997360"/>
            <a:ext cx="2060280" cy="273528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4"/>
          <a:stretch/>
        </p:blipFill>
        <p:spPr>
          <a:xfrm>
            <a:off x="0" y="2997360"/>
            <a:ext cx="2411280" cy="27367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411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56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69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1714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51596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8572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200320" y="65246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B1AC-8062-4AA8-9967-3D333700155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Activ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799128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umentar la cosecha de bosques de Lenga en Argentina para aumentar produc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3745080" cy="280836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755640" y="3429000"/>
            <a:ext cx="3816360" cy="282240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1411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56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269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1714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51596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8572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200320" y="65246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F424-A3AC-4521-8656-003F79C8B6A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grama de Actividades Año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rcRect l="0" t="3594" r="1961" b="0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1411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856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8269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1714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51596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8572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200320" y="65246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41D2-4226-4A1D-9A31-829F99676CB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valuación Económica (Sin proyec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0" y="1341360"/>
            <a:ext cx="9144000" cy="4465800"/>
            <a:chOff x="0" y="1341360"/>
            <a:chExt cx="9144000" cy="4465800"/>
          </a:xfrm>
        </p:grpSpPr>
        <p:pic>
          <p:nvPicPr>
            <p:cNvPr id="369" name="" descr=""/>
            <p:cNvPicPr/>
            <p:nvPr/>
          </p:nvPicPr>
          <p:blipFill>
            <a:blip r:embed="rId1"/>
            <a:stretch/>
          </p:blipFill>
          <p:spPr>
            <a:xfrm>
              <a:off x="0" y="1341360"/>
              <a:ext cx="9144000" cy="438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" descr=""/>
            <p:cNvPicPr/>
            <p:nvPr/>
          </p:nvPicPr>
          <p:blipFill>
            <a:blip r:embed="rId2"/>
            <a:srcRect l="61018" t="62630" r="19219" b="34374"/>
            <a:stretch/>
          </p:blipFill>
          <p:spPr>
            <a:xfrm>
              <a:off x="3276720" y="5446800"/>
              <a:ext cx="1871640" cy="36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1" name=""/>
          <p:cNvSpPr/>
          <p:nvPr/>
        </p:nvSpPr>
        <p:spPr>
          <a:xfrm>
            <a:off x="1411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856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269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1714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51596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8572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200320" y="65246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CB35-AF88-4BFE-82D2-766FD052A41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valuación Económica (Con proyec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179280" y="1484280"/>
            <a:ext cx="8569440" cy="5173560"/>
            <a:chOff x="179280" y="1484280"/>
            <a:chExt cx="8569440" cy="5173560"/>
          </a:xfrm>
        </p:grpSpPr>
        <p:pic>
          <p:nvPicPr>
            <p:cNvPr id="380" name="" descr=""/>
            <p:cNvPicPr/>
            <p:nvPr/>
          </p:nvPicPr>
          <p:blipFill>
            <a:blip r:embed="rId1"/>
            <a:stretch/>
          </p:blipFill>
          <p:spPr>
            <a:xfrm>
              <a:off x="179280" y="1484280"/>
              <a:ext cx="8569440" cy="517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" descr=""/>
            <p:cNvPicPr/>
            <p:nvPr/>
          </p:nvPicPr>
          <p:blipFill>
            <a:blip r:embed="rId2"/>
            <a:srcRect l="61018" t="62630" r="19219" b="34374"/>
            <a:stretch/>
          </p:blipFill>
          <p:spPr>
            <a:xfrm>
              <a:off x="3203640" y="6165720"/>
              <a:ext cx="1655640" cy="376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2" name=""/>
          <p:cNvSpPr/>
          <p:nvPr/>
        </p:nvSpPr>
        <p:spPr>
          <a:xfrm>
            <a:off x="7596360" y="4797360"/>
            <a:ext cx="1547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US$ 631.7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411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856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8269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1714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51596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8572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200320" y="65246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7632-649F-4297-AFDF-C6EE2B0A121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0" y="1197000"/>
            <a:ext cx="914400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468360" y="321300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E389-EBC6-45FE-BDBD-2565EE22C8D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Empre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00720" y="4797360"/>
            <a:ext cx="1865160" cy="73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427640" y="3789360"/>
            <a:ext cx="2050920" cy="9572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88920" y="654192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33440" y="654192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74720" y="654192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19240" y="654192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63760" y="654192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05040" y="654192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47760" y="654192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50920" y="1933920"/>
            <a:ext cx="4038120" cy="3479400"/>
            <a:chOff x="250920" y="1933920"/>
            <a:chExt cx="4038120" cy="3479400"/>
          </a:xfrm>
        </p:grpSpPr>
        <p:cxnSp>
          <p:nvCxnSpPr>
            <p:cNvPr id="74" name="_s143379"/>
            <p:cNvCxnSpPr>
              <a:stCxn id="75" idx="1"/>
              <a:endCxn id="76" idx="2"/>
            </p:cNvCxnSpPr>
            <p:nvPr/>
          </p:nvCxnSpPr>
          <p:spPr>
            <a:xfrm rot="10800000">
              <a:off x="2849400" y="3774240"/>
              <a:ext cx="155880" cy="1324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7" name="_s143380"/>
            <p:cNvCxnSpPr>
              <a:stCxn id="78" idx="1"/>
              <a:endCxn id="76" idx="2"/>
            </p:cNvCxnSpPr>
            <p:nvPr/>
          </p:nvCxnSpPr>
          <p:spPr>
            <a:xfrm rot="10800000">
              <a:off x="2849400" y="3774240"/>
              <a:ext cx="155880" cy="505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" name="_s143381"/>
            <p:cNvCxnSpPr>
              <a:stCxn id="80" idx="3"/>
              <a:endCxn id="81" idx="2"/>
            </p:cNvCxnSpPr>
            <p:nvPr/>
          </p:nvCxnSpPr>
          <p:spPr>
            <a:xfrm flipV="1">
              <a:off x="1577880" y="3774240"/>
              <a:ext cx="159480" cy="1324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2" name="_s143382"/>
            <p:cNvCxnSpPr>
              <a:stCxn id="83" idx="3"/>
              <a:endCxn id="81" idx="2"/>
            </p:cNvCxnSpPr>
            <p:nvPr/>
          </p:nvCxnSpPr>
          <p:spPr>
            <a:xfrm flipV="1">
              <a:off x="1577880" y="3774600"/>
              <a:ext cx="159480" cy="505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4" name="_s143383"/>
            <p:cNvCxnSpPr>
              <a:stCxn id="76" idx="0"/>
              <a:endCxn id="85" idx="2"/>
            </p:cNvCxnSpPr>
            <p:nvPr/>
          </p:nvCxnSpPr>
          <p:spPr>
            <a:xfrm flipV="1" rot="16200000">
              <a:off x="2475360" y="2974680"/>
              <a:ext cx="191520" cy="557280"/>
            </a:xfrm>
            <a:prstGeom prst="bentConnector3">
              <a:avLst>
                <a:gd name="adj1" fmla="val 4990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6" name="_s143384"/>
            <p:cNvCxnSpPr>
              <a:stCxn id="81" idx="0"/>
              <a:endCxn id="85" idx="2"/>
            </p:cNvCxnSpPr>
            <p:nvPr/>
          </p:nvCxnSpPr>
          <p:spPr>
            <a:xfrm flipH="1" flipV="1" rot="5400000">
              <a:off x="1918800" y="2975400"/>
              <a:ext cx="191520" cy="556200"/>
            </a:xfrm>
            <a:prstGeom prst="bentConnector3">
              <a:avLst>
                <a:gd name="adj1" fmla="val 4990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" name="_s143385"/>
            <p:cNvCxnSpPr>
              <a:stCxn id="85" idx="0"/>
              <a:endCxn id="88" idx="2"/>
            </p:cNvCxnSpPr>
            <p:nvPr/>
          </p:nvCxnSpPr>
          <p:spPr>
            <a:xfrm flipV="1" rot="16200000">
              <a:off x="2185200" y="2624760"/>
              <a:ext cx="191520" cy="23400"/>
            </a:xfrm>
            <a:prstGeom prst="bentConnector3">
              <a:avLst>
                <a:gd name="adj1" fmla="val 4990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9" name="_s143386"/>
            <p:cNvCxnSpPr>
              <a:stCxn id="90" idx="0"/>
              <a:endCxn id="88" idx="2"/>
            </p:cNvCxnSpPr>
            <p:nvPr/>
          </p:nvCxnSpPr>
          <p:spPr>
            <a:xfrm flipH="1" flipV="1" rot="5400000">
              <a:off x="1478880" y="1941120"/>
              <a:ext cx="191520" cy="1390680"/>
            </a:xfrm>
            <a:prstGeom prst="bentConnector3">
              <a:avLst>
                <a:gd name="adj1" fmla="val 4990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8" name="_s143387"/>
            <p:cNvSpPr/>
            <p:nvPr/>
          </p:nvSpPr>
          <p:spPr>
            <a:xfrm>
              <a:off x="1653840" y="1933920"/>
              <a:ext cx="1232280" cy="6073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3640" rIns="5364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Trillium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Corpor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143388"/>
            <p:cNvSpPr/>
            <p:nvPr/>
          </p:nvSpPr>
          <p:spPr>
            <a:xfrm>
              <a:off x="250920" y="2732400"/>
              <a:ext cx="1256040" cy="4255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3640" rIns="5364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ienes Raí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143389"/>
            <p:cNvSpPr/>
            <p:nvPr/>
          </p:nvSpPr>
          <p:spPr>
            <a:xfrm>
              <a:off x="1663560" y="2732400"/>
              <a:ext cx="1256040" cy="4255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3640" rIns="5364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ores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143390"/>
            <p:cNvSpPr/>
            <p:nvPr/>
          </p:nvSpPr>
          <p:spPr>
            <a:xfrm>
              <a:off x="1257120" y="3349080"/>
              <a:ext cx="956520" cy="4258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3640" rIns="5364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EU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143391"/>
            <p:cNvSpPr/>
            <p:nvPr/>
          </p:nvSpPr>
          <p:spPr>
            <a:xfrm>
              <a:off x="2370600" y="3349080"/>
              <a:ext cx="956520" cy="4258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3640" rIns="5364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Sud Amer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143392"/>
            <p:cNvSpPr/>
            <p:nvPr/>
          </p:nvSpPr>
          <p:spPr>
            <a:xfrm>
              <a:off x="293760" y="3965760"/>
              <a:ext cx="1284120" cy="6285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3640" rIns="5364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</a:rPr>
                <a:t>Washington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</a:rPr>
                <a:t>Ald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143393"/>
            <p:cNvSpPr/>
            <p:nvPr/>
          </p:nvSpPr>
          <p:spPr>
            <a:xfrm>
              <a:off x="293760" y="4784760"/>
              <a:ext cx="1284120" cy="6285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3640" rIns="5364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</a:rPr>
                <a:t>Cascad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143394"/>
            <p:cNvSpPr/>
            <p:nvPr/>
          </p:nvSpPr>
          <p:spPr>
            <a:xfrm>
              <a:off x="3004920" y="3965760"/>
              <a:ext cx="1284120" cy="6285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 u="sng">
                  <a:solidFill>
                    <a:srgbClr val="000000"/>
                  </a:solidFill>
                  <a:uFillTx/>
                  <a:latin typeface="Arial"/>
                </a:rPr>
                <a:t>Forestal Trillium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 u="sng">
                  <a:solidFill>
                    <a:srgbClr val="000000"/>
                  </a:solidFill>
                  <a:uFillTx/>
                  <a:latin typeface="Arial"/>
                </a:rPr>
                <a:t>de Chil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143395"/>
            <p:cNvSpPr/>
            <p:nvPr/>
          </p:nvSpPr>
          <p:spPr>
            <a:xfrm>
              <a:off x="3004920" y="4784760"/>
              <a:ext cx="1284120" cy="6285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</a:rPr>
                <a:t>Lenga Patagoni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4716360" y="2587680"/>
            <a:ext cx="403236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entas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: 4.400 m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 US$ 1.20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tilidad                   : US$ (810.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11000" y="212580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ño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097B-6DFE-4823-B092-643FE4AF5E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94920" y="1773000"/>
            <a:ext cx="84978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nga en Andes Patagónicos de Chile y Argen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lor blanco amarillento y rosado pálido a rojo oscur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ácil de secar, trabajar, tornear y teñ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ocida como “Cerezo de la Patagoni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adera dura para mue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763640" y="4221000"/>
            <a:ext cx="3673440" cy="22640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435640" y="4221000"/>
            <a:ext cx="2016000" cy="1095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435640" y="5300640"/>
            <a:ext cx="2016000" cy="1206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605040" y="2911320"/>
            <a:ext cx="552600" cy="9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3948120" y="3322800"/>
            <a:ext cx="133200" cy="9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4289400" y="2773440"/>
            <a:ext cx="647640" cy="9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4632480" y="3322800"/>
            <a:ext cx="152280" cy="9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8"/>
          <a:stretch/>
        </p:blipFill>
        <p:spPr>
          <a:xfrm>
            <a:off x="4975200" y="2637000"/>
            <a:ext cx="809640" cy="9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9"/>
          <a:stretch/>
        </p:blipFill>
        <p:spPr>
          <a:xfrm>
            <a:off x="5316480" y="3460680"/>
            <a:ext cx="9720" cy="9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0"/>
          <a:stretch/>
        </p:blipFill>
        <p:spPr>
          <a:xfrm>
            <a:off x="5316480" y="3483000"/>
            <a:ext cx="9720" cy="171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050920" y="747720"/>
            <a:ext cx="4969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La Len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92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34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7472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192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6376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050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4776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0203-A437-4898-92AE-D397807A7DF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11280" y="718920"/>
            <a:ext cx="410400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000000"/>
                </a:solidFill>
                <a:latin typeface="Arial"/>
              </a:rPr>
              <a:t>Produc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0920" y="1485720"/>
            <a:ext cx="77058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MADERA SE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124000" y="4653000"/>
            <a:ext cx="4464000" cy="1751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"/>
          <p:cNvGraphicFramePr/>
          <p:nvPr/>
        </p:nvGraphicFramePr>
        <p:xfrm>
          <a:off x="1403280" y="1916280"/>
          <a:ext cx="5905440" cy="2087280"/>
        </p:xfrm>
        <a:graphic>
          <a:graphicData uri="http://schemas.openxmlformats.org/drawingml/2006/table">
            <a:tbl>
              <a:tblPr/>
              <a:tblGrid>
                <a:gridCol w="2330640"/>
                <a:gridCol w="1789200"/>
                <a:gridCol w="1785600"/>
              </a:tblGrid>
              <a:tr h="474480"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es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rg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12800"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ecta y Mej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Comú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Comú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Comú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4”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4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– 8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– 13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1403280" y="4076640"/>
            <a:ext cx="590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Grado: Depende de defectos como nudos, pudriciones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homogenizado de col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892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334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7472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192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6376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050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4776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63A2-9526-4AAA-945E-E958B559852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928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tribución de Cli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13958" t="5849" r="14959" b="55485"/>
          <a:stretch/>
        </p:blipFill>
        <p:spPr>
          <a:xfrm>
            <a:off x="324000" y="1700280"/>
            <a:ext cx="3571560" cy="39607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rcRect l="16065" t="51889" r="14907" b="7510"/>
          <a:stretch/>
        </p:blipFill>
        <p:spPr>
          <a:xfrm>
            <a:off x="4500720" y="1773360"/>
            <a:ext cx="4055760" cy="4176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979640" y="115920"/>
            <a:ext cx="1081080" cy="10634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24000" y="1700280"/>
            <a:ext cx="3600360" cy="4033800"/>
          </a:xfrm>
          <a:prstGeom prst="rect">
            <a:avLst/>
          </a:prstGeom>
          <a:noFill/>
          <a:ln w="936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1700280"/>
            <a:ext cx="3600360" cy="4105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43280" y="1700280"/>
            <a:ext cx="4176720" cy="4176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8920" y="654192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33440" y="654192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74720" y="654192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19240" y="654192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463760" y="654192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05040" y="654192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147760" y="654192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7547-33F9-4889-AB7A-D684E5BE268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Participación de Mercado (Leng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042920" y="2205000"/>
          <a:ext cx="6486480" cy="3462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205000"/>
                    <a:ext cx="6486480" cy="34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1403280" y="34290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바탕"/>
              </a:rPr>
              <a:t>Maq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835280" y="30686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3333ff"/>
                </a:solidFill>
                <a:latin typeface="Arial"/>
              </a:rPr>
              <a:t>San Vic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1187280" y="4581360"/>
            <a:ext cx="1368720" cy="735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6227640" y="3213000"/>
            <a:ext cx="2519640" cy="5778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4140360" y="4869000"/>
            <a:ext cx="2592360" cy="10285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042920" y="2349360"/>
            <a:ext cx="7848720" cy="3888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8920" y="654192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33440" y="654192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74720" y="654192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19240" y="654192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63760" y="654192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05040" y="654192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47760" y="654192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6043-D018-48F8-99CB-A474C82E15B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604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Anál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 rot="10800000">
            <a:off x="2487240" y="355392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79280" y="981000"/>
            <a:ext cx="8964720" cy="9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rcRect l="3194" t="0" r="288" b="0"/>
          <a:stretch/>
        </p:blipFill>
        <p:spPr>
          <a:xfrm>
            <a:off x="2411280" y="1341360"/>
            <a:ext cx="4321440" cy="47516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24000" y="1341360"/>
            <a:ext cx="2087280" cy="25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659640" y="1341360"/>
            <a:ext cx="1944720" cy="25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3933720"/>
            <a:ext cx="2087280" cy="216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659640" y="3933720"/>
            <a:ext cx="1944720" cy="216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892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334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7472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192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6376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8050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4776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9692-D5FD-4108-B951-2F5E8E58B0D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talez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23640" y="2349360"/>
            <a:ext cx="46083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paldo financiero de Casa Matr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Know How en comercio inter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sponibilidad de bosqu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bicación privilegiada, instalaciones cercanas a Punta Aren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364000" y="1773360"/>
            <a:ext cx="3332160" cy="41036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24000" y="1844640"/>
            <a:ext cx="4535280" cy="3960720"/>
          </a:xfrm>
          <a:prstGeom prst="rect">
            <a:avLst/>
          </a:prstGeom>
          <a:noFill/>
          <a:ln w="64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892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34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7472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192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46376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050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14776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E9A4-5897-4613-B0E0-812488BC3C6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5T23:28:59Z</dcterms:created>
  <dc:creator>maco</dc:creator>
  <dc:description/>
  <dc:language>en-US</dc:language>
  <cp:lastModifiedBy>Jorge Lara</cp:lastModifiedBy>
  <dcterms:modified xsi:type="dcterms:W3CDTF">2006-11-20T21:48:19Z</dcterms:modified>
  <cp:revision>188</cp:revision>
  <dc:subject/>
  <dc:title>Diapositiva 1</dc:title>
</cp:coreProperties>
</file>