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br>
              <a:rPr sz="3200"/>
            </a:br>
            <a:br>
              <a:rPr sz="3200"/>
            </a:br>
            <a:r>
              <a:rPr b="1" lang="es-BO" sz="3200" spc="-1" strike="noStrike">
                <a:solidFill>
                  <a:srgbClr val="000000"/>
                </a:solidFill>
                <a:latin typeface="Arial"/>
              </a:rPr>
              <a:t>WALL STREET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Viviana Acev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odrigo Brü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Gary Cond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bastián Oriz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tricio Rique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ebastián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Santiago 17 de Noviembre d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692360" y="549360"/>
            <a:ext cx="6624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692360" y="2565360"/>
          <a:ext cx="6189480" cy="13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565360"/>
                    <a:ext cx="61894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9640" y="1413000"/>
            <a:ext cx="7777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i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ca capacidad de adaptación a exigencia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ificación de bajo al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de toma de decisiones muy cent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existe estrategia de marketing 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3276720"/>
          <a:ext cx="1511280" cy="352404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4125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539640" y="1413000"/>
            <a:ext cx="777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menaz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existen barrera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200400"/>
            <a:ext cx="1371600" cy="1752480"/>
          </a:xfrm>
          <a:prstGeom prst="downArrow">
            <a:avLst>
              <a:gd name="adj1" fmla="val 50000"/>
              <a:gd name="adj2" fmla="val 3194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52578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16040" indent="-28728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portunidades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8000" y="3276720"/>
          <a:ext cx="1511280" cy="352404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4125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07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Y 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OBJETIVOS ESTRATÉ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Objetiv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Posicionar el producto ofrecido por WSI como un servicio único, diferenciado de la competencia. Esto trae como consecuencia un aumento sostenido de las ventas a nivel sede</a:t>
            </a:r>
            <a:r>
              <a:rPr b="0" lang="es-B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Objetivos Especí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Aumento de las ventas en un 3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Aumento de rentabilidad en el uso de la s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3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262160"/>
            <a:ext cx="3024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rategia ”In Compan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3280" y="1262160"/>
            <a:ext cx="28814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rategia “Stud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85264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2338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recer producto especifico para necesidades de ejecutivos de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47451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mento de ventas, satisfacer demanda latente. Posicionar a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6021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mento de ventas 30% sobre la planificación an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3336840"/>
            <a:ext cx="2879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frecer clases de inglés de una universidad en la s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4560" y="474516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r recursos ociosos, aplanando la dem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59280" y="1628640"/>
            <a:ext cx="288720" cy="1440000"/>
          </a:xfrm>
          <a:prstGeom prst="downArrow">
            <a:avLst>
              <a:gd name="adj1" fmla="val 50000"/>
              <a:gd name="adj2" fmla="val 12468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16606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0720" y="1660680"/>
            <a:ext cx="136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.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1628640"/>
            <a:ext cx="288720" cy="1440000"/>
          </a:xfrm>
          <a:prstGeom prst="downArrow">
            <a:avLst>
              <a:gd name="adj1" fmla="val 50000"/>
              <a:gd name="adj2" fmla="val 12468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217440" cy="574560"/>
          </a:xfrm>
          <a:prstGeom prst="downArrow">
            <a:avLst>
              <a:gd name="adj1" fmla="val 50000"/>
              <a:gd name="adj2" fmla="val 6606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7280" y="4149720"/>
            <a:ext cx="217440" cy="574560"/>
          </a:xfrm>
          <a:prstGeom prst="downArrow">
            <a:avLst>
              <a:gd name="adj1" fmla="val 50000"/>
              <a:gd name="adj2" fmla="val 6606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850800">
            <a:off x="2987640" y="5878440"/>
            <a:ext cx="576000" cy="718920"/>
          </a:xfrm>
          <a:custGeom>
            <a:avLst/>
            <a:gdLst>
              <a:gd name="textAreaLeft" fmla="*/ 77040 w 576000"/>
              <a:gd name="textAreaRight" fmla="*/ 498960 w 57600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593400">
            <a:off x="7109640" y="5905080"/>
            <a:ext cx="466920" cy="755640"/>
          </a:xfrm>
          <a:custGeom>
            <a:avLst/>
            <a:gdLst>
              <a:gd name="textAreaLeft" fmla="*/ 62280 w 466920"/>
              <a:gd name="textAreaRight" fmla="*/ 404640 w 466920"/>
              <a:gd name="textAreaTop" fmla="*/ 132120 h 755640"/>
              <a:gd name="textAreaBottom" fmla="*/ 54792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IN COMPANY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705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ción de In Company como un nuevo servicio de la sede, buscando satisfacer la demanda lat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ofrecerá el producto mediante una agente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IN COMPANY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7451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rketing MIX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oducto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lases presenciales en el lugar de trabajo, dos horas cronológicas a la semana, método de enseñanza WSI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ytime incluído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ado para negocios, Institucione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$320.000 x 3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IN COMPANY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7451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arketing M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ntro de Santiago, expandible a Región Metropolit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omo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rio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ía Lunes, sem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Mercu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ía Domingo, sem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1150920" cy="46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95640" y="4724280"/>
            <a:ext cx="95256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STRATEGIA IN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canismos de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atriculas / 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tiempo ocioso profesor) / se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° alumnos /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álisis presupuestario mens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68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STUDENTS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1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Establecer alianzas con universidades e institutos profesionales, utilizando la capacidad ociosa instal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ante visitas a instituciones de educación superior se ofrecerá realizar el ramo de inglés que imparten en su malla curricular  en la sede W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2560" y="1268280"/>
            <a:ext cx="7777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de W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ede Agust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, evaluación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canismos de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STUD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Marketing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ducto actual de WSI, con restricción de ho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$240.000 x 3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“STUDENTS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rketing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s e institutos profesionales del barrio Republica. Para la penetración del producto al mercado, se comenzará trabajando con la UCIN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o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directa, resaltando los beneficios que pueden obtener las Inst. de educación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STRATEGIA “STUDENTS”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canismos de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atriculas / 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Ocupación laboratorio) /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álisis presupuestario mens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082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VALUACIÓN FINANCIERA CONSOLI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858000" cy="1657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57400" y="39625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Estructura de costos del producto In-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3456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9144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VALUACIÓN FINANCIERA CONSOLI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7524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Estructura de costos del producto para los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41767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144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VALUACIÓN FINANCIERA CONSOLI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9516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9144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VALUACIÓN FINANCIERA CONSOLI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3311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9144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VALUACIÓN FINANCIERA CONSOLI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59280" y="2048040"/>
            <a:ext cx="374472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082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ESCRIPCIÓN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1928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strategias presentadas permiten generar un aumento del 40% de las ventas para el primer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presenta un mayor y por lo tanto, eficiente uso de las instal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generan oportunidades de negocio no aprovechadas en la actualidad, rentables y sostenibles para 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UCHAS GRACI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81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SCRIPCIÓN DE W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19280" y="11970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quicia internacional con 17 sedes en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act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orarios flex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person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ftware propio para la enseñanz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Call Center especial para los clientes que tienen dudas o inquietudes del instit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6720" y="4822920"/>
            <a:ext cx="3962160" cy="19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SEDE AGUS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7200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icina con ubicación privileg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boratorios, con múltiples estaciones de trabajo, equipados por IB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 Salas de clase para encounter y 1 para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Profesores a jornada completa y sin traspaso entre se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550 alumnos act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al de ventas directo, por medio de las ejecutivas de ventas de la sede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Arial"/>
              </a:rPr>
              <a:t>Independencia para desarrollar algunas estrate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ESCRIPCIÓN DEL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ENTO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08000" y="1989000"/>
          <a:ext cx="6551640" cy="4526280"/>
        </p:xfrm>
        <a:graphic>
          <a:graphicData uri="http://schemas.openxmlformats.org/drawingml/2006/table">
            <a:tbl>
              <a:tblPr/>
              <a:tblGrid>
                <a:gridCol w="2232360"/>
                <a:gridCol w="2016000"/>
                <a:gridCol w="230328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ción de 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eameric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ños, est.,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á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ños, est.,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, empresas, particula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Marsa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, empresas, particula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9640" y="1413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80 instituciones participan en el mer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8000" y="3276720"/>
          <a:ext cx="1511280" cy="352404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4125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9640" y="1413000"/>
            <a:ext cx="77774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bicación geográfica privilegiada de la s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lexibilidad horaria y sin límite prác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vilidad en todo el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taforma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de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ización de enseñanza según   necesidades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8000" y="3300480"/>
          <a:ext cx="1511280" cy="3500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39640" y="1413000"/>
            <a:ext cx="777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manda latente para servicio In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venios con entidades univers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3276720"/>
          <a:ext cx="1511280" cy="352404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4125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usti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o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.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z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8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8:11:46Z</dcterms:created>
  <dc:creator> C</dc:creator>
  <dc:description/>
  <dc:language>en-US</dc:language>
  <cp:lastModifiedBy>Jorge Lara</cp:lastModifiedBy>
  <dcterms:modified xsi:type="dcterms:W3CDTF">2006-11-18T18:42:57Z</dcterms:modified>
  <cp:revision>31</cp:revision>
  <dc:subject/>
  <dc:title>Agenda </dc:title>
</cp:coreProperties>
</file>