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A44-4919-46CE-BE0D-A28F58BB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17D-8ADF-40A6-B961-D2A57077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027-8EC7-4215-BEB4-C21DAD47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C93-E7A7-4DA1-93E6-B7589E7B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B2B7-7C75-424D-A446-BD969CF3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2AF9-338F-4695-AD9E-F220BD3D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1BFC-4E08-433A-9326-7F2AC9A2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2EA6-3A2C-4638-9DBE-08F95281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080C-8B19-4A27-8576-CDEF2BF2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3EF3-138E-4A29-B6C2-C50FE134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8F12-EC20-400E-8875-AC64F044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7B9-302D-48DE-9D7F-923E185A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4178-6A1B-4BF2-8BC9-57CA85C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B09E-483A-42E2-A320-E68B1B24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2378-B8ED-4C34-A8B9-157F220A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2A0A-CFF8-4961-885A-A2D213ED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00B3-F45B-4C74-9E37-329FF484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A1B-E6AE-4A44-966E-0C16248B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934-8F11-4679-9664-75F95A56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1A4-832A-4C11-8F71-08B5EAD7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1BE-899C-497A-B1F0-A3BDDA2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48F-8CF8-46A1-A938-51CD7932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A5A-1E85-4DCF-85B6-7CE179F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2AC-B9DD-46A1-A25B-9B8C56B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238-BC49-4FAE-BAE6-69B462E6AB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3C2F-BA29-46F3-A61F-80DF7C1689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39600"/>
            <a:ext cx="9144000" cy="692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93680" y="1584360"/>
            <a:ext cx="3478320" cy="155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356000" y="1484280"/>
            <a:ext cx="313704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16000" y="426564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20000" y="4437000"/>
            <a:ext cx="2016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Magdalena Carra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Oscar La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gela Lóp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Juan Naran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a Cecilia Pil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Regis Ramí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00360" y="3068640"/>
            <a:ext cx="31906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997440" y="4294080"/>
            <a:ext cx="2879640" cy="215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 DE MARKETING RE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8000" y="6262560"/>
            <a:ext cx="3311640" cy="479520"/>
            <a:chOff x="108000" y="6262560"/>
            <a:chExt cx="3311640" cy="479520"/>
          </a:xfrm>
        </p:grpSpPr>
        <p:sp>
          <p:nvSpPr>
            <p:cNvPr id="229" name=""/>
            <p:cNvSpPr/>
            <p:nvPr/>
          </p:nvSpPr>
          <p:spPr>
            <a:xfrm>
              <a:off x="10800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36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872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87280" y="63100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76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800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6836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20720" y="62625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84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9528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. CHILENAS TOTALES Y DE SALMÓ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160" y="20620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0620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979640" y="2187720"/>
            <a:ext cx="5638680" cy="3257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03280" y="14130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  <a:ea typeface="Tahoma"/>
              </a:rPr>
              <a:t>2005: 39,536 millones v/s 1,721 millones USD FOB C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73272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020000" y="6524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6334200"/>
            <a:ext cx="3311640" cy="479520"/>
            <a:chOff x="108000" y="6334200"/>
            <a:chExt cx="3311640" cy="479520"/>
          </a:xfrm>
        </p:grpSpPr>
        <p:sp>
          <p:nvSpPr>
            <p:cNvPr id="24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8728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20720" y="633420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CALIZACIÓN INDUSTRIA SALMONER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920" y="16444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5964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020000" y="6497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79280" y="1382760"/>
          <a:ext cx="5832720" cy="4494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382760"/>
                    <a:ext cx="583272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83280" y="1809720"/>
            <a:ext cx="295272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Existen 30 empresas productoras y comercializadoras de salmón y trucha. El 95% concentrado en la X y el 5% en la XI Regió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Hay alrededor de 200 empresas proveedoras o relacionadas a la industr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66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6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98560" y="170028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776240"/>
            <a:ext cx="7920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2349360"/>
            <a:ext cx="2879640" cy="273528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JETIV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4797360"/>
            <a:ext cx="136872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ac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83280" y="1413000"/>
            <a:ext cx="129528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rategi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1484280"/>
            <a:ext cx="122400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posi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 v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941720"/>
            <a:ext cx="1224000" cy="100836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98920" y="2349360"/>
            <a:ext cx="64908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842920" y="4653000"/>
            <a:ext cx="576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2920" y="4510080"/>
            <a:ext cx="649440" cy="57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651280" y="2349360"/>
            <a:ext cx="71892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9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9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325520"/>
            <a:ext cx="79200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ntitativos a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Ventas estimadas - $ 12,500,000 pesos mens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50 unidades en arri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Rentabilidad de los flujos no menor a un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lit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ducar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 los clientes 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Hacer de RELSA una marca reconocida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Ofrecer un servicio innovador sin abandonar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la oferta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Capacitar a los ejecutivos de nego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Lograr las primeras ventas embl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1773360"/>
            <a:ext cx="8064360" cy="12952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3645000"/>
            <a:ext cx="8064360" cy="23050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31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31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CIONES ASOC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6560" y="1565280"/>
            <a:ext cx="82821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harlas educ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udios de 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atálogo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poyarse en Salmón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vestigar las empresas del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ntratar ejecutiv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sociaciones t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557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2205000"/>
            <a:ext cx="511164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781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6560" y="3357720"/>
            <a:ext cx="518508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3933720"/>
            <a:ext cx="51832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6560" y="4581360"/>
            <a:ext cx="51850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5229360"/>
            <a:ext cx="518472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07836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41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42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71640" y="620640"/>
            <a:ext cx="7129080" cy="6857640"/>
            <a:chOff x="971640" y="620640"/>
            <a:chExt cx="7129080" cy="6857640"/>
          </a:xfrm>
        </p:grpSpPr>
        <p:pic>
          <p:nvPicPr>
            <p:cNvPr id="353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971640" y="620640"/>
              <a:ext cx="712908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676960" y="4811400"/>
              <a:ext cx="341100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06920" y="2708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64000" y="105264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i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1197000"/>
            <a:ext cx="9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al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26920" y="227664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274920" y="4292640"/>
          <a:ext cx="2592360" cy="174924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Flota Pr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77,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Con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62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63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OFERTA DE PRODU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800280" y="1484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76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7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PLAN D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50920" y="1341360"/>
          <a:ext cx="8642160" cy="4824360"/>
        </p:xfrm>
        <a:graphic>
          <a:graphicData uri="http://schemas.openxmlformats.org/drawingml/2006/table">
            <a:tbl>
              <a:tblPr/>
              <a:tblGrid>
                <a:gridCol w="2087640"/>
                <a:gridCol w="628560"/>
                <a:gridCol w="739800"/>
                <a:gridCol w="671400"/>
                <a:gridCol w="658800"/>
                <a:gridCol w="654120"/>
                <a:gridCol w="655560"/>
                <a:gridCol w="617400"/>
                <a:gridCol w="617760"/>
                <a:gridCol w="1311120"/>
              </a:tblGrid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/06 –En/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b – Abr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 – Jul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– Oct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 – Dic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Recl, Sel, Co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y XI Reg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Cap, Plan Tr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. Plan Trb. X y XI R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pos. prov. Fl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. Ofic. Pto. Mon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Clientes Se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Sem. Leas.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p. Salmón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. Apoy. Public. y Pág. WEB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min. Leasig Op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Ofer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ut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rre contr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3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ación tall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90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91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11280" y="1557360"/>
          <a:ext cx="8137080" cy="4032000"/>
        </p:xfrm>
        <a:graphic>
          <a:graphicData uri="http://schemas.openxmlformats.org/drawingml/2006/table">
            <a:tbl>
              <a:tblPr/>
              <a:tblGrid>
                <a:gridCol w="3255480"/>
                <a:gridCol w="2810520"/>
                <a:gridCol w="207108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sos chil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respect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 de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o Fi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RH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ta (50 un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5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inversión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05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GRESO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763640" y="1463760"/>
          <a:ext cx="6066000" cy="376560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ota Arrend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n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úmero de Flota Esti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2,5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1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4560" y="1628640"/>
            <a:ext cx="475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luster Salmo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strateg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Plan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valu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7336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230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811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38760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93372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6724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043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54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E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763640" y="1268280"/>
          <a:ext cx="6066000" cy="488304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nción de Fl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7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rio Personal del 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de Gest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Administr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6,725,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32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43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11280" y="5013360"/>
            <a:ext cx="4248000" cy="576360"/>
          </a:xfrm>
          <a:prstGeom prst="rect">
            <a:avLst/>
          </a:prstGeom>
          <a:solidFill>
            <a:srgbClr val="99cc00">
              <a:alpha val="45000"/>
            </a:srgbClr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11.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2565360"/>
            <a:ext cx="4248000" cy="2016000"/>
          </a:xfrm>
          <a:prstGeom prst="rect">
            <a:avLst/>
          </a:prstGeom>
          <a:solidFill>
            <a:srgbClr val="800080">
              <a:alpha val="38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IREC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42.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2339280" y="-313560"/>
            <a:ext cx="793800" cy="4103640"/>
          </a:xfrm>
          <a:custGeom>
            <a:avLst/>
            <a:gdLst/>
            <a:ahLst/>
            <a:rect l="l" t="t" r="r" b="b"/>
            <a:pathLst>
              <a:path w="640" h="2356">
                <a:moveTo>
                  <a:pt x="0" y="0"/>
                </a:moveTo>
                <a:lnTo>
                  <a:pt x="0" y="2356"/>
                </a:lnTo>
                <a:lnTo>
                  <a:pt x="640" y="1419"/>
                </a:lnTo>
                <a:lnTo>
                  <a:pt x="640" y="944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2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05000" y="1386000"/>
            <a:ext cx="1095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Tahoma"/>
              </a:rPr>
              <a:t>MAR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46.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1628640"/>
            <a:ext cx="172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148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ENA DE VALOR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01400" y="2565360"/>
            <a:ext cx="25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AN ESPE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D =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$224,131,1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108000" y="6308640"/>
            <a:ext cx="3959280" cy="480960"/>
            <a:chOff x="108000" y="6308640"/>
            <a:chExt cx="3959280" cy="480960"/>
          </a:xfrm>
        </p:grpSpPr>
        <p:sp>
          <p:nvSpPr>
            <p:cNvPr id="461" name=""/>
            <p:cNvSpPr/>
            <p:nvPr/>
          </p:nvSpPr>
          <p:spPr>
            <a:xfrm>
              <a:off x="10800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36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872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728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476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0800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68360" y="659772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8764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38440" y="633240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39640" y="4762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49440" y="1370160"/>
            <a:ext cx="845964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TUACIÓN DEL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9880" y="5730840"/>
            <a:ext cx="205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0368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o/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134136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47260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7080" y="56228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65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2339280" y="4294080"/>
            <a:ext cx="8643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>
            <a:off x="4427280" y="479736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>
            <a:off x="5508360" y="2494080"/>
            <a:ext cx="86436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>
            <a:off x="5508360" y="4365720"/>
            <a:ext cx="9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798240" y="2684520"/>
            <a:ext cx="185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eneficios 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ey de subcontra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53020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7120" y="5229360"/>
            <a:ext cx="210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0400" y="6211800"/>
            <a:ext cx="21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era del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levancia de los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4960" y="105264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sificación de tecnolog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17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84360" y="20685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666699"/>
              </a:gs>
              <a:gs pos="50000">
                <a:srgbClr val="cc99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 flipH="1" flipV="1">
            <a:off x="2194920" y="2493720"/>
            <a:ext cx="10436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36040" y="2644920"/>
            <a:ext cx="185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mente concent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liviana 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pesa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V="1">
            <a:off x="4427280" y="191556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020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DUST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1080" y="3260880"/>
            <a:ext cx="1469880" cy="12492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iv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08520" y="155736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71264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3835080" y="487044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6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men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676200" y="3094560"/>
            <a:ext cx="1184040" cy="1789200"/>
          </a:xfrm>
          <a:prstGeom prst="downArrowCallout">
            <a:avLst>
              <a:gd name="adj1" fmla="val 25002"/>
              <a:gd name="adj2" fmla="val 25000"/>
              <a:gd name="adj3" fmla="val 25185"/>
              <a:gd name="adj4" fmla="val 73079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674720" y="2838600"/>
            <a:ext cx="1184400" cy="2016000"/>
          </a:xfrm>
          <a:prstGeom prst="downArrowCallout">
            <a:avLst>
              <a:gd name="adj1" fmla="val 25095"/>
              <a:gd name="adj2" fmla="val 26014"/>
              <a:gd name="adj3" fmla="val 30236"/>
              <a:gd name="adj4" fmla="val 71745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3197160" y="1758960"/>
            <a:ext cx="432000" cy="590400"/>
          </a:xfrm>
          <a:prstGeom prst="upArrow">
            <a:avLst>
              <a:gd name="adj1" fmla="val 54898"/>
              <a:gd name="adj2" fmla="val 7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48768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8461080" y="370980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75440" y="5361120"/>
            <a:ext cx="431640" cy="590400"/>
          </a:xfrm>
          <a:prstGeom prst="upArrow">
            <a:avLst>
              <a:gd name="adj1" fmla="val 54898"/>
              <a:gd name="adj2" fmla="val 7978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5485680" y="3621960"/>
            <a:ext cx="442800" cy="574560"/>
          </a:xfrm>
          <a:prstGeom prst="upArrow">
            <a:avLst>
              <a:gd name="adj1" fmla="val 54898"/>
              <a:gd name="adj2" fmla="val 75691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42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349360"/>
            <a:ext cx="3384360" cy="2735280"/>
          </a:xfrm>
          <a:prstGeom prst="hexagon">
            <a:avLst>
              <a:gd name="adj" fmla="val 30932"/>
              <a:gd name="vf" fmla="val 115470"/>
            </a:avLst>
          </a:prstGeom>
          <a:gradFill rotWithShape="0">
            <a:gsLst>
              <a:gs pos="0">
                <a:srgbClr val="a2c7de"/>
              </a:gs>
              <a:gs pos="50000">
                <a:srgbClr val="eaeaea"/>
              </a:gs>
              <a:gs pos="100000">
                <a:srgbClr val="a2c7d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rvicios Integrales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Liviana 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quinaria 1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Pesada 24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35880" y="18493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609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.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50846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200" y="17733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49417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endCxn id="159" idx="3"/>
          </p:cNvCxnSpPr>
          <p:nvPr/>
        </p:nvCxnSpPr>
        <p:spPr>
          <a:xfrm flipH="1" flipV="1">
            <a:off x="2257200" y="2428200"/>
            <a:ext cx="6595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 flipH="1">
            <a:off x="2339640" y="4654440"/>
            <a:ext cx="5752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4500720" y="5300280"/>
            <a:ext cx="216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>
            <a:off x="6084720" y="2420280"/>
            <a:ext cx="504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>
            <a:off x="5940000" y="4652640"/>
            <a:ext cx="648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6698160" y="2352600"/>
            <a:ext cx="205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ferta técnico econó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son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atos a largo pl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iempo de neg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200" y="5459400"/>
            <a:ext cx="137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 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li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1320" y="229068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co desarrol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09280" y="578016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rcad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8000" y="6237360"/>
            <a:ext cx="2581200" cy="504360"/>
            <a:chOff x="108000" y="6237360"/>
            <a:chExt cx="2581200" cy="504360"/>
          </a:xfrm>
        </p:grpSpPr>
        <p:sp>
          <p:nvSpPr>
            <p:cNvPr id="168" name=""/>
            <p:cNvSpPr/>
            <p:nvPr/>
          </p:nvSpPr>
          <p:spPr>
            <a:xfrm>
              <a:off x="10800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631008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72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728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4764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623736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álisis Int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38440" y="655020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125360"/>
          <a:ext cx="8713800" cy="5337000"/>
        </p:xfrm>
        <a:graphic>
          <a:graphicData uri="http://schemas.openxmlformats.org/drawingml/2006/table">
            <a:tbl>
              <a:tblPr/>
              <a:tblGrid>
                <a:gridCol w="4124160"/>
                <a:gridCol w="45896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Fortale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bi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xperiencia Leasing Opera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lta concentración de clientes en minerí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nfoque en flota pesada (Maquinar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existe estrategia comercial defini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Número de licitaciones ganadas v/s cotizad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Alta capacidad econó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Área de Marketing dedicada a actividades publicitaria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hay segmentación de clientes definid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sconocimiento de la compet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Gestión de venta reactiva y no pro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jecutivos de negocio desconocen oferta que se ajuste a cada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81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5084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4600" y="1341360"/>
          <a:ext cx="8254800" cy="4751640"/>
        </p:xfrm>
        <a:graphic>
          <a:graphicData uri="http://schemas.openxmlformats.org/drawingml/2006/table">
            <a:tbl>
              <a:tblPr/>
              <a:tblGrid>
                <a:gridCol w="4056120"/>
                <a:gridCol w="4198680"/>
              </a:tblGrid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mena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Oport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ntrada de nuevos competidores que se enfoquen en el Leasing Operativo de flota pesada y maquina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mpresa y mercado en crecimiento en Chi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Utilización de TI para mejorar  proces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Sistemas de información en los vehículos para mantenimiento (GPS, otro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xploración nuevos sectores económicos (forestal, cluster salmonero, etc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94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8569080" cy="2638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443640" y="2852640"/>
            <a:ext cx="1138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08000" y="6237360"/>
            <a:ext cx="3311640" cy="479520"/>
            <a:chOff x="108000" y="6237360"/>
            <a:chExt cx="3311640" cy="479520"/>
          </a:xfrm>
        </p:grpSpPr>
        <p:sp>
          <p:nvSpPr>
            <p:cNvPr id="210" name=""/>
            <p:cNvSpPr/>
            <p:nvPr/>
          </p:nvSpPr>
          <p:spPr>
            <a:xfrm>
              <a:off x="10800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836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72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87280" y="62848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76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836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0720" y="62373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384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76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INDUSTRIA SALMO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160" y="17002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17002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619280" y="1557360"/>
            <a:ext cx="727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hile es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2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xportador mundial de salmón y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1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tru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 US$ 159 millones exportados en 1991 se llegó 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S$1,721 millone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el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 la última década la industria se expandió a un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asa promedio de 22%,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logrando convertirse en el cuarto sector exportador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presenta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totales del país y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6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pesqu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649764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659640" y="6381720"/>
            <a:ext cx="3538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2:18:45Z</dcterms:created>
  <dc:creator>mcarrasco</dc:creator>
  <dc:description/>
  <dc:language>en-US</dc:language>
  <cp:lastModifiedBy>Jorge Lara</cp:lastModifiedBy>
  <dcterms:modified xsi:type="dcterms:W3CDTF">2006-11-18T18:15:03Z</dcterms:modified>
  <cp:revision>59</cp:revision>
  <dc:subject/>
  <dc:title>Slide 1</dc:title>
</cp:coreProperties>
</file>