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ADA-52D2-4A21-9C4F-B5E57020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B88-AD94-4459-A660-593FD67D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99F-4CA5-4434-9378-3AAB2209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260-0EF1-4AF0-92F4-90BF5D63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1D56-CE50-4907-AB31-0017C2EE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AAD0-8473-4B19-A3BB-78F17ED6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4323-66A2-4CC3-B096-B441D756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79F3-C13E-4335-AA51-5C600901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920B-C280-4220-A598-B9840CA3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B9AB-67F6-476C-89F1-9EC3FE76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D71F-5DB7-4DB1-9358-8D40A6B6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C1B-DA24-4256-A7E0-041B16B1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A6A6-ECCE-438A-A4B0-509EC94E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EA23-67C0-4116-BF6F-4C2A1782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2D22-6759-428D-A1F5-60E3BF6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C31D-06BC-41A2-A50A-2DF5A8C5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CA8B-146B-4AB0-BA4E-A5481C1F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5C2-0920-4296-AF40-1A321026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B49-D1B6-48B9-ABD5-05ADDA95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1E3-D5E0-4EFE-AA34-8911F288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243-F536-49D5-8188-3C13EDF3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0C5-2BFA-4CDD-8A0D-45430463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F66-017D-4FD1-9476-8CDC5D40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79D-5D80-4980-93E0-FCEC96AA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0084-9FEB-45AD-98FF-AB452B1CBF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4633-CEB4-4341-A7A6-7133B9318C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39600"/>
            <a:ext cx="9144000" cy="692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93680" y="1584360"/>
            <a:ext cx="3478320" cy="155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356000" y="1484280"/>
            <a:ext cx="3137040" cy="1733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16000" y="426564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20000" y="4437000"/>
            <a:ext cx="2016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Magdalena Carra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Oscar La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Angela Lóp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Juan Naran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Ana Cecilia Pil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Regis Ramí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00360" y="3068640"/>
            <a:ext cx="319068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997440" y="4294080"/>
            <a:ext cx="2879640" cy="215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N DE MARKETING RE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08000" y="6262560"/>
            <a:ext cx="3311640" cy="479520"/>
            <a:chOff x="108000" y="6262560"/>
            <a:chExt cx="3311640" cy="479520"/>
          </a:xfrm>
        </p:grpSpPr>
        <p:sp>
          <p:nvSpPr>
            <p:cNvPr id="229" name=""/>
            <p:cNvSpPr/>
            <p:nvPr/>
          </p:nvSpPr>
          <p:spPr>
            <a:xfrm>
              <a:off x="10800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836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872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87280" y="63100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4764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800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6836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20720" y="62625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3844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9528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. CHILENAS TOTALES Y DE SALMÓ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8160" y="2062080"/>
          <a:ext cx="1725480" cy="41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062080"/>
                    <a:ext cx="17254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1979640" y="2187720"/>
            <a:ext cx="5638680" cy="3257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403280" y="141300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  <a:ea typeface="Tahoma"/>
              </a:rPr>
              <a:t>2005: 39,536 millones v/s 1,721 millones USD FOB C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732720" y="64533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020000" y="65246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08000" y="6334200"/>
            <a:ext cx="3311640" cy="479520"/>
            <a:chOff x="108000" y="6334200"/>
            <a:chExt cx="3311640" cy="479520"/>
          </a:xfrm>
        </p:grpSpPr>
        <p:sp>
          <p:nvSpPr>
            <p:cNvPr id="248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8728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20720" y="633420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CALIZACIÓN INDUSTRIA SALMONER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34920" y="16444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659640" y="64533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020000" y="64976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79280" y="1382760"/>
          <a:ext cx="5832720" cy="4494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1382760"/>
                    <a:ext cx="583272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083280" y="1809720"/>
            <a:ext cx="295272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Existen 30 empresas productoras y comercializadoras de salmón y trucha. El 95% concentrado en la X y el 5% en la XI Regió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Hay alrededor de 200 empresas proveedoras o relacionadas a la industr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266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267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TIVOS PLA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98560" y="170028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1776240"/>
            <a:ext cx="7920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59280" y="2349360"/>
            <a:ext cx="2879640" cy="273528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JETIV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47640" y="4797360"/>
            <a:ext cx="136872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ac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83280" y="1413000"/>
            <a:ext cx="129528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trategi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a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1484280"/>
            <a:ext cx="122400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oposi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 va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941720"/>
            <a:ext cx="1224000" cy="100836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98920" y="2349360"/>
            <a:ext cx="649080" cy="5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842920" y="4653000"/>
            <a:ext cx="576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2920" y="4510080"/>
            <a:ext cx="649440" cy="57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651280" y="2349360"/>
            <a:ext cx="71892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293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294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TIVOS PLA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1325520"/>
            <a:ext cx="79200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bjetivos Cuantitativos a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Ventas estimadas - $ 12,500,000 pesos mens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50 unidades en arrie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Rentabilidad de los flujos no menor a un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bjetivos Cualit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ducar 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a los clientes pot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- Hacer de RELSA una marca reconocida 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- Ofrecer un servicio innovador sin abandonar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la oferta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Capacitar a los ejecutivos de nego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Lograr las primeras ventas embl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1773360"/>
            <a:ext cx="8064360" cy="1295280"/>
          </a:xfrm>
          <a:prstGeom prst="rect">
            <a:avLst/>
          </a:prstGeom>
          <a:solidFill>
            <a:srgbClr val="ff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3645000"/>
            <a:ext cx="8064360" cy="2305080"/>
          </a:xfrm>
          <a:prstGeom prst="rect">
            <a:avLst/>
          </a:prstGeom>
          <a:solidFill>
            <a:srgbClr val="ff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313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314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CIONES ASOC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15238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5640" y="15238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6560" y="1565280"/>
            <a:ext cx="82821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harlas educ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studios de fac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atálogo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poyarse en Salmón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Investigar las empresas del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ntratar ejecutivos de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sociaciones t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1557360"/>
            <a:ext cx="511164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2205000"/>
            <a:ext cx="511164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2781360"/>
            <a:ext cx="511164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6560" y="3357720"/>
            <a:ext cx="518508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3933720"/>
            <a:ext cx="518328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6560" y="4581360"/>
            <a:ext cx="518508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5229360"/>
            <a:ext cx="518472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307836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41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42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55640" y="47628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971640" y="620640"/>
            <a:ext cx="7129080" cy="6857640"/>
            <a:chOff x="971640" y="620640"/>
            <a:chExt cx="7129080" cy="6857640"/>
          </a:xfrm>
        </p:grpSpPr>
        <p:pic>
          <p:nvPicPr>
            <p:cNvPr id="353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>
              <a:off x="971640" y="620640"/>
              <a:ext cx="712908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676960" y="4811400"/>
              <a:ext cx="341100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906920" y="2708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64000" y="105264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pi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1197000"/>
            <a:ext cx="9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pal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26920" y="227664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274920" y="4292640"/>
          <a:ext cx="2592360" cy="174924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</a:tblGrid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Flota Pr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77,7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Con REL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62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63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OFERTA DE PRODU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800280" y="148428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76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77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PLAN D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50920" y="1341360"/>
          <a:ext cx="8642160" cy="4824360"/>
        </p:xfrm>
        <a:graphic>
          <a:graphicData uri="http://schemas.openxmlformats.org/drawingml/2006/table">
            <a:tbl>
              <a:tblPr/>
              <a:tblGrid>
                <a:gridCol w="2087640"/>
                <a:gridCol w="628560"/>
                <a:gridCol w="739800"/>
                <a:gridCol w="671400"/>
                <a:gridCol w="658800"/>
                <a:gridCol w="654120"/>
                <a:gridCol w="655560"/>
                <a:gridCol w="617400"/>
                <a:gridCol w="617760"/>
                <a:gridCol w="1311120"/>
              </a:tblGrid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/06 –En/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b – Abr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 – Jul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– Oct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 – Dic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-Recl, Sel, Co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y XI Reg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-Cap, Plan Tr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. Plan Trb. X y XI R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. pos. prov. Fl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. Ofic. Pto. Mon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. Clientes Se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. Sem. Leas.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p. Salmón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. Apoy. Public. y Pág. WEB Rel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min. Leasig Op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. Ofer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ut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erre contr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293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lación tall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90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91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755640" y="47628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11280" y="1557360"/>
          <a:ext cx="8137080" cy="4032000"/>
        </p:xfrm>
        <a:graphic>
          <a:graphicData uri="http://schemas.openxmlformats.org/drawingml/2006/table">
            <a:tbl>
              <a:tblPr/>
              <a:tblGrid>
                <a:gridCol w="3255480"/>
                <a:gridCol w="2810520"/>
                <a:gridCol w="207108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esos chilen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respect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 de Mark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o Fi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RH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2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ta (50 un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5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.9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inversión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50,2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05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INGRESO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763640" y="1463760"/>
          <a:ext cx="6066000" cy="3765600"/>
        </p:xfrm>
        <a:graphic>
          <a:graphicData uri="http://schemas.openxmlformats.org/drawingml/2006/table">
            <a:tbl>
              <a:tblPr/>
              <a:tblGrid>
                <a:gridCol w="3256200"/>
                <a:gridCol w="28098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ota Arrend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ns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úmero de Flota Estim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RESOS MEN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12,5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18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4560" y="1628640"/>
            <a:ext cx="475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Análisis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F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Cluster Salmo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Estrateg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Plan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Evaluación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7336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230832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81160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3387600"/>
            <a:ext cx="565200" cy="25740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933720"/>
            <a:ext cx="565200" cy="25740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46724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04360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54832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E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763640" y="1268280"/>
          <a:ext cx="6066000" cy="4883040"/>
        </p:xfrm>
        <a:graphic>
          <a:graphicData uri="http://schemas.openxmlformats.org/drawingml/2006/table">
            <a:tbl>
              <a:tblPr/>
              <a:tblGrid>
                <a:gridCol w="3256200"/>
                <a:gridCol w="28098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tención de Fl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7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rio Personal del 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de Gest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stos Administr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GRESOS MEN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6,725,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32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43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11280" y="5013360"/>
            <a:ext cx="4248000" cy="576360"/>
          </a:xfrm>
          <a:prstGeom prst="rect">
            <a:avLst/>
          </a:prstGeom>
          <a:solidFill>
            <a:srgbClr val="99cc00">
              <a:alpha val="45000"/>
            </a:srgbClr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ACTIVIDADES DE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11.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2565360"/>
            <a:ext cx="4248000" cy="2016000"/>
          </a:xfrm>
          <a:prstGeom prst="rect">
            <a:avLst/>
          </a:prstGeom>
          <a:solidFill>
            <a:srgbClr val="800080">
              <a:alpha val="38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ACTIVIDADES DIREC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42.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2339280" y="-313560"/>
            <a:ext cx="793800" cy="4103640"/>
          </a:xfrm>
          <a:custGeom>
            <a:avLst/>
            <a:gdLst/>
            <a:ahLst/>
            <a:rect l="l" t="t" r="r" b="b"/>
            <a:pathLst>
              <a:path w="640" h="2356">
                <a:moveTo>
                  <a:pt x="0" y="0"/>
                </a:moveTo>
                <a:lnTo>
                  <a:pt x="0" y="2356"/>
                </a:lnTo>
                <a:lnTo>
                  <a:pt x="640" y="1419"/>
                </a:lnTo>
                <a:lnTo>
                  <a:pt x="640" y="944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2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05000" y="1386000"/>
            <a:ext cx="10951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Tahoma"/>
              </a:rPr>
              <a:t>MAR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46.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8360" y="1628640"/>
            <a:ext cx="172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1484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DENA DE VALOR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01400" y="2565360"/>
            <a:ext cx="25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VAN ESPE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D =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$224,131,1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108000" y="6308640"/>
            <a:ext cx="3959280" cy="480960"/>
            <a:chOff x="108000" y="6308640"/>
            <a:chExt cx="3959280" cy="480960"/>
          </a:xfrm>
        </p:grpSpPr>
        <p:sp>
          <p:nvSpPr>
            <p:cNvPr id="461" name=""/>
            <p:cNvSpPr/>
            <p:nvPr/>
          </p:nvSpPr>
          <p:spPr>
            <a:xfrm>
              <a:off x="10800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36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872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728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476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0800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68360" y="659772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8764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38440" y="633240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39640" y="4762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49440" y="1370160"/>
            <a:ext cx="845964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TUACIÓN DEL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9880" y="5730840"/>
            <a:ext cx="205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Empresas má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en su cor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03688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o/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134136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006699"/>
              </a:gs>
              <a:gs pos="50000">
                <a:srgbClr val="84bea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472608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7080" y="562284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808080"/>
              </a:gs>
              <a:gs pos="50000">
                <a:srgbClr val="ccccff">
                  <a:alpha val="98039"/>
                </a:srgbClr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65444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50000">
                <a:srgbClr val="ffffcc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H="1">
            <a:off x="2339280" y="4294080"/>
            <a:ext cx="8643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>
            <a:off x="4427280" y="479736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V="1">
            <a:off x="5508360" y="2494080"/>
            <a:ext cx="86436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>
            <a:off x="5508360" y="4365720"/>
            <a:ext cx="9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6798240" y="2684520"/>
            <a:ext cx="185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eneficios 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ey de subcontra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53020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7120" y="5229360"/>
            <a:ext cx="210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mpresas má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su cor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0400" y="6211800"/>
            <a:ext cx="21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era del out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levancia de los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4960" y="105264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asificación de tecnolog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8000" y="6334200"/>
            <a:ext cx="2581200" cy="479520"/>
            <a:chOff x="108000" y="6334200"/>
            <a:chExt cx="2581200" cy="479520"/>
          </a:xfrm>
        </p:grpSpPr>
        <p:sp>
          <p:nvSpPr>
            <p:cNvPr id="117" name=""/>
            <p:cNvSpPr/>
            <p:nvPr/>
          </p:nvSpPr>
          <p:spPr>
            <a:xfrm>
              <a:off x="10800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360" y="633420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84360" y="206856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666699"/>
              </a:gs>
              <a:gs pos="50000">
                <a:srgbClr val="cc99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 flipH="1" flipV="1">
            <a:off x="2194920" y="2493720"/>
            <a:ext cx="10436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36040" y="2644920"/>
            <a:ext cx="185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mente concent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lota liviana 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lota pesa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V="1">
            <a:off x="4427280" y="191556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30200" y="4730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ÁLISIS INDUST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91080" y="3260880"/>
            <a:ext cx="1469880" cy="12492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iv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08520" y="1557360"/>
            <a:ext cx="1150920" cy="1512720"/>
          </a:xfrm>
          <a:prstGeom prst="downArrowCallout">
            <a:avLst>
              <a:gd name="adj1" fmla="val 25002"/>
              <a:gd name="adj2" fmla="val 25000"/>
              <a:gd name="adj3" fmla="val 21906"/>
              <a:gd name="adj4" fmla="val 71264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3835080" y="4870440"/>
            <a:ext cx="1150920" cy="1512720"/>
          </a:xfrm>
          <a:prstGeom prst="downArrowCallout">
            <a:avLst>
              <a:gd name="adj1" fmla="val 25002"/>
              <a:gd name="adj2" fmla="val 25000"/>
              <a:gd name="adj3" fmla="val 21906"/>
              <a:gd name="adj4" fmla="val 66667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mena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nt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6676200" y="3094560"/>
            <a:ext cx="1184040" cy="1789200"/>
          </a:xfrm>
          <a:prstGeom prst="downArrowCallout">
            <a:avLst>
              <a:gd name="adj1" fmla="val 25002"/>
              <a:gd name="adj2" fmla="val 25000"/>
              <a:gd name="adj3" fmla="val 25185"/>
              <a:gd name="adj4" fmla="val 73079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der 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674720" y="2838600"/>
            <a:ext cx="1184400" cy="2016000"/>
          </a:xfrm>
          <a:prstGeom prst="downArrowCallout">
            <a:avLst>
              <a:gd name="adj1" fmla="val 25095"/>
              <a:gd name="adj2" fmla="val 26014"/>
              <a:gd name="adj3" fmla="val 30236"/>
              <a:gd name="adj4" fmla="val 71745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de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3197160" y="1758960"/>
            <a:ext cx="432000" cy="590400"/>
          </a:xfrm>
          <a:prstGeom prst="upArrow">
            <a:avLst>
              <a:gd name="adj1" fmla="val 54898"/>
              <a:gd name="adj2" fmla="val 7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487680"/>
            <a:ext cx="431640" cy="590760"/>
          </a:xfrm>
          <a:prstGeom prst="upArrow">
            <a:avLst>
              <a:gd name="adj1" fmla="val 54898"/>
              <a:gd name="adj2" fmla="val 7983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8461080" y="3709800"/>
            <a:ext cx="431640" cy="590760"/>
          </a:xfrm>
          <a:prstGeom prst="upArrow">
            <a:avLst>
              <a:gd name="adj1" fmla="val 54898"/>
              <a:gd name="adj2" fmla="val 7983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75440" y="5361120"/>
            <a:ext cx="431640" cy="590400"/>
          </a:xfrm>
          <a:prstGeom prst="upArrow">
            <a:avLst>
              <a:gd name="adj1" fmla="val 54898"/>
              <a:gd name="adj2" fmla="val 7978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5485680" y="3621960"/>
            <a:ext cx="442800" cy="574560"/>
          </a:xfrm>
          <a:prstGeom prst="upArrow">
            <a:avLst>
              <a:gd name="adj1" fmla="val 54898"/>
              <a:gd name="adj2" fmla="val 75691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8000" y="6334200"/>
            <a:ext cx="2581200" cy="479520"/>
            <a:chOff x="108000" y="6334200"/>
            <a:chExt cx="2581200" cy="479520"/>
          </a:xfrm>
        </p:grpSpPr>
        <p:sp>
          <p:nvSpPr>
            <p:cNvPr id="142" name=""/>
            <p:cNvSpPr/>
            <p:nvPr/>
          </p:nvSpPr>
          <p:spPr>
            <a:xfrm>
              <a:off x="10800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8360" y="633420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ÁLISIS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2349360"/>
            <a:ext cx="3384360" cy="2735280"/>
          </a:xfrm>
          <a:prstGeom prst="hexagon">
            <a:avLst>
              <a:gd name="adj" fmla="val 30932"/>
              <a:gd name="vf" fmla="val 115470"/>
            </a:avLst>
          </a:prstGeom>
          <a:gradFill rotWithShape="0">
            <a:gsLst>
              <a:gs pos="0">
                <a:srgbClr val="a2c7de"/>
              </a:gs>
              <a:gs pos="50000">
                <a:srgbClr val="eaeaea"/>
              </a:gs>
              <a:gs pos="100000">
                <a:srgbClr val="a2c7d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rvicios Integrales 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lota Liviana 4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quinaria 1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lota Pesada 24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35880" y="184932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609444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006699"/>
              </a:gs>
              <a:gs pos="50000">
                <a:srgbClr val="84bea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. 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32720" y="508464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200" y="177336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808080"/>
              </a:gs>
              <a:gs pos="50000">
                <a:srgbClr val="ccccff">
                  <a:alpha val="98039"/>
                </a:srgbClr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494172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50000">
                <a:srgbClr val="ffffcc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endCxn id="159" idx="3"/>
          </p:cNvCxnSpPr>
          <p:nvPr/>
        </p:nvCxnSpPr>
        <p:spPr>
          <a:xfrm flipH="1" flipV="1">
            <a:off x="2257200" y="2428200"/>
            <a:ext cx="6595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 flipH="1">
            <a:off x="2339640" y="4654440"/>
            <a:ext cx="5752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>
            <a:off x="4500720" y="5300280"/>
            <a:ext cx="216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>
            <a:off x="6084720" y="2420280"/>
            <a:ext cx="5040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>
            <a:off x="5940000" y="4652640"/>
            <a:ext cx="648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6698160" y="2352600"/>
            <a:ext cx="205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ferta técnico económ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son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ratos a largo pla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iempo de nego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200" y="5459400"/>
            <a:ext cx="137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 re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olid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1320" y="229068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oco desarrol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09280" y="5780160"/>
            <a:ext cx="20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rcad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8000" y="6237360"/>
            <a:ext cx="2581200" cy="504360"/>
            <a:chOff x="108000" y="6237360"/>
            <a:chExt cx="2581200" cy="504360"/>
          </a:xfrm>
        </p:grpSpPr>
        <p:sp>
          <p:nvSpPr>
            <p:cNvPr id="168" name=""/>
            <p:cNvSpPr/>
            <p:nvPr/>
          </p:nvSpPr>
          <p:spPr>
            <a:xfrm>
              <a:off x="108000" y="654984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360" y="631008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8720" y="654984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8728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4764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800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836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6920" y="623736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álisis Int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38440" y="655020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1125360"/>
          <a:ext cx="8713800" cy="5337000"/>
        </p:xfrm>
        <a:graphic>
          <a:graphicData uri="http://schemas.openxmlformats.org/drawingml/2006/table">
            <a:tbl>
              <a:tblPr/>
              <a:tblGrid>
                <a:gridCol w="4124160"/>
                <a:gridCol w="45896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Fortale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Debil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xperiencia Leasing Opera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lta concentración de clientes en minerí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nfoque en flota pesada (Maquinar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o existe estrategia comercial defini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Número de licitaciones ganadas v/s cotizad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Alta capacidad econó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Área de Marketing dedicada a actividades publicitaria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o hay segmentación de clientes definida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Desconocimiento de la compet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Gestión de venta reactiva y no pro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Ejecutivos de negocio desconocen oferta que se ajuste a cada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108000" y="6308640"/>
            <a:ext cx="2581200" cy="505080"/>
            <a:chOff x="108000" y="6308640"/>
            <a:chExt cx="2581200" cy="505080"/>
          </a:xfrm>
        </p:grpSpPr>
        <p:sp>
          <p:nvSpPr>
            <p:cNvPr id="181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872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892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5084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4600" y="1341360"/>
          <a:ext cx="8254800" cy="4751640"/>
        </p:xfrm>
        <a:graphic>
          <a:graphicData uri="http://schemas.openxmlformats.org/drawingml/2006/table">
            <a:tbl>
              <a:tblPr/>
              <a:tblGrid>
                <a:gridCol w="4056120"/>
                <a:gridCol w="4198680"/>
              </a:tblGrid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mena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Oport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Entrada de nuevos competidores que se enfoquen en el Leasing Operativo de flota pesada y maquinar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Empresa y mercado en crecimiento en Chi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Utilización de TI para mejorar  proces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Sistemas de información en los vehículos para mantenimiento (GPS, otro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Exploración nuevos sectores económicos (forestal, cluster salmonero, etc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108000" y="6308640"/>
            <a:ext cx="2581200" cy="505080"/>
            <a:chOff x="108000" y="6308640"/>
            <a:chExt cx="2581200" cy="505080"/>
          </a:xfrm>
        </p:grpSpPr>
        <p:sp>
          <p:nvSpPr>
            <p:cNvPr id="194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872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5892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8569080" cy="2638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443640" y="2852640"/>
            <a:ext cx="1138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08000" y="6237360"/>
            <a:ext cx="3311640" cy="479520"/>
            <a:chOff x="108000" y="6237360"/>
            <a:chExt cx="3311640" cy="479520"/>
          </a:xfrm>
        </p:grpSpPr>
        <p:sp>
          <p:nvSpPr>
            <p:cNvPr id="210" name=""/>
            <p:cNvSpPr/>
            <p:nvPr/>
          </p:nvSpPr>
          <p:spPr>
            <a:xfrm>
              <a:off x="10800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836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872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87280" y="62848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4764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800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6836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20720" y="62373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3844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476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INDUSTRIA SALMO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160" y="1700280"/>
          <a:ext cx="1725480" cy="41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1700280"/>
                    <a:ext cx="17254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619280" y="1557360"/>
            <a:ext cx="727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hile es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2°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xportador mundial de salmón y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1°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n tru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 US$ 159 millones exportados en 1991 se llegó a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S$1,721 millones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n el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n la última década la industria se expandió a una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asa promedio de 22%,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logrando convertirse en el cuarto sector exportador d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presenta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5%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las exportaciones totales del país y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56%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las exportaciones pesqu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649764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659640" y="6381720"/>
            <a:ext cx="3538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2:18:45Z</dcterms:created>
  <dc:creator>mcarrasco</dc:creator>
  <dc:description/>
  <dc:language>en-US</dc:language>
  <cp:lastModifiedBy>Jorge Lara</cp:lastModifiedBy>
  <dcterms:modified xsi:type="dcterms:W3CDTF">2006-11-18T18:15:03Z</dcterms:modified>
  <cp:revision>59</cp:revision>
  <dc:subject/>
  <dc:title>Slide 1</dc:title>
</cp:coreProperties>
</file>