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A36-46E2-4190-B08A-7AC42AA5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854-252F-4F12-AD1B-A9E996A0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AA5-DC39-4D8E-97D1-C92F9033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8B4-ACCC-49F0-B8F7-AC2D3539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5CD1-30E6-4728-B0A0-2F83BCD2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88B6-F584-4A5F-AE1A-C9BF8C1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71DD-D6E3-429D-8120-D28B8D83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E599-0162-4B42-88D7-3A26CF29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A41C-9C38-44E0-9447-E5F4DB2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BA58-B3CA-45CF-8813-35E6EFC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ADE-C3BA-47E3-9108-9BA9AB1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3C0-5A8C-47D1-B1C0-8A7B103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212-6CD6-4C15-A226-B9C550A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0258-A14D-4F3F-BE57-E95730F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5704-AB7C-49A0-97AC-D4C8BFF5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5781-36C3-46DC-82E1-4A3CBA02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11D4-BCAE-48ED-850E-AA0625DA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809-354B-4C49-B2A7-1189B8D4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EAB-17B7-41DC-892D-DCEC67D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825-E553-4E24-95EA-F160C8B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911-2D3E-4A61-892E-CF387A2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C40-844B-4489-848D-7B749E6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948-1B1B-4CAF-ABEB-154A360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3BE-E39C-4A38-B47C-D9CEECE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D2F-44CF-4244-9F9A-27246869C6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AE5-41A3-4CD8-A610-BE1FDF7CB1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93680" y="1584360"/>
            <a:ext cx="347832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313704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16000" y="4265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4437000"/>
            <a:ext cx="201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Magdalena Carra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Oscar La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gela Ló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Juan Naran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a Cecilia Pil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Regis Ramí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00360" y="3068640"/>
            <a:ext cx="31906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997440" y="429408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MARKETING RE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8000" y="6262560"/>
            <a:ext cx="3311640" cy="479520"/>
            <a:chOff x="108000" y="6262560"/>
            <a:chExt cx="3311640" cy="479520"/>
          </a:xfrm>
        </p:grpSpPr>
        <p:sp>
          <p:nvSpPr>
            <p:cNvPr id="229" name=""/>
            <p:cNvSpPr/>
            <p:nvPr/>
          </p:nvSpPr>
          <p:spPr>
            <a:xfrm>
              <a:off x="10800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872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63100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76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6836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0720" y="62625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84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528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. CHILENAS TOTALES Y DE SALMÓ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160" y="20620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0620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79640" y="2187720"/>
            <a:ext cx="5638680" cy="325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03280" y="14130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  <a:ea typeface="Tahoma"/>
              </a:rPr>
              <a:t>2005: 39,536 millones v/s 1,721 millones USD FOB 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73272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20000" y="6524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6334200"/>
            <a:ext cx="3311640" cy="479520"/>
            <a:chOff x="108000" y="6334200"/>
            <a:chExt cx="3311640" cy="479520"/>
          </a:xfrm>
        </p:grpSpPr>
        <p:sp>
          <p:nvSpPr>
            <p:cNvPr id="24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728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0720" y="633420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CALIZACIÓN INDUSTRIA SALMONER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920" y="16444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5964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020000" y="6497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79280" y="1382760"/>
          <a:ext cx="5832720" cy="449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382760"/>
                    <a:ext cx="5832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83280" y="1809720"/>
            <a:ext cx="295272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Existen 30 empresas productoras y comercializadoras de salmón y trucha. El 95% concentrado en la X y el 5% en la XI Regió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Hay alrededor de 200 empresas proveedoras o relacionadas a la industr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66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170028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776240"/>
            <a:ext cx="79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2349360"/>
            <a:ext cx="2879640" cy="273528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JETIV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4797360"/>
            <a:ext cx="136872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3280" y="1413000"/>
            <a:ext cx="129528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484280"/>
            <a:ext cx="122400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posi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941720"/>
            <a:ext cx="1224000" cy="100836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8920" y="2349360"/>
            <a:ext cx="64908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842920" y="4653000"/>
            <a:ext cx="576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4510080"/>
            <a:ext cx="64944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651280" y="2349360"/>
            <a:ext cx="7189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9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325520"/>
            <a:ext cx="7920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ntitativos a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Ventas estimadas - $ 12,500,000 pesos mens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50 unidades en arr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Rentabilidad de los flujos no menor a un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lit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ducar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os cliente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Hacer de RELSA una marca reconocida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Ofrecer un servicio innovador sin abandonar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la oferta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Capacitar a los ejecutivos de nego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Lograr las primeras ventas embl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1773360"/>
            <a:ext cx="8064360" cy="12952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645000"/>
            <a:ext cx="8064360" cy="23050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31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31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ION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" y="1565280"/>
            <a:ext cx="82821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harlas edu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udios de 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atálogo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oyarse en Salmón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vestigar las empresas del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atar ejecutiv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ciones 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557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205000"/>
            <a:ext cx="511164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81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3357720"/>
            <a:ext cx="518508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933720"/>
            <a:ext cx="51832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" y="4581360"/>
            <a:ext cx="51850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5229360"/>
            <a:ext cx="518472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0783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41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620640"/>
            <a:ext cx="7129080" cy="6857640"/>
            <a:chOff x="971640" y="620640"/>
            <a:chExt cx="7129080" cy="6857640"/>
          </a:xfrm>
        </p:grpSpPr>
        <p:pic>
          <p:nvPicPr>
            <p:cNvPr id="35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971640" y="620640"/>
              <a:ext cx="71290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76960" y="4811400"/>
              <a:ext cx="341100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6920" y="2708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10526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1197000"/>
            <a:ext cx="9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26920" y="227664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274920" y="4292640"/>
          <a:ext cx="2592360" cy="174924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Flota Pr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77,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62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OFERT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00280" y="1484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76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7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PLAN D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0920" y="1341360"/>
          <a:ext cx="8642160" cy="4824360"/>
        </p:xfrm>
        <a:graphic>
          <a:graphicData uri="http://schemas.openxmlformats.org/drawingml/2006/table">
            <a:tbl>
              <a:tblPr/>
              <a:tblGrid>
                <a:gridCol w="2087640"/>
                <a:gridCol w="628560"/>
                <a:gridCol w="739800"/>
                <a:gridCol w="671400"/>
                <a:gridCol w="658800"/>
                <a:gridCol w="654120"/>
                <a:gridCol w="655560"/>
                <a:gridCol w="617400"/>
                <a:gridCol w="617760"/>
                <a:gridCol w="1311120"/>
              </a:tblGrid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/06 –En/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 – Abr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– Jul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– Oct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 – Dic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Recl, Sel, Co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y XI Reg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Cap, Plan Tr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. Plan Trb. X y XI 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pos. prov. F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. Ofic. Pto. Mon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Clientes Se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Sem. Leas.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p. Salmón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. Apoy. Public. y Pág. WEB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n. Leasig O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Of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ut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3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ación tall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90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1557360"/>
          <a:ext cx="8137080" cy="4032000"/>
        </p:xfrm>
        <a:graphic>
          <a:graphicData uri="http://schemas.openxmlformats.org/drawingml/2006/table">
            <a:tbl>
              <a:tblPr/>
              <a:tblGrid>
                <a:gridCol w="3255480"/>
                <a:gridCol w="2810520"/>
                <a:gridCol w="20710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sos chil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respect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 de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o Fi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RH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ta (50 un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inversión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05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GRES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63640" y="1463760"/>
          <a:ext cx="6066000" cy="376560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ota Arren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Flota Esti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2,5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1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1628640"/>
            <a:ext cx="475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luster Salmo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strate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Plan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valu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7336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30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811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38760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93372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6724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043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54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E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63640" y="1268280"/>
          <a:ext cx="6066000" cy="488304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ción de Fl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7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o Personal del 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de Gest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Administr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6,725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32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43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11280" y="5013360"/>
            <a:ext cx="4248000" cy="576360"/>
          </a:xfrm>
          <a:prstGeom prst="rect">
            <a:avLst/>
          </a:prstGeom>
          <a:solidFill>
            <a:srgbClr val="99cc00">
              <a:alpha val="45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1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2565360"/>
            <a:ext cx="4248000" cy="2016000"/>
          </a:xfrm>
          <a:prstGeom prst="rect">
            <a:avLst/>
          </a:prstGeom>
          <a:solidFill>
            <a:srgbClr val="800080">
              <a:alpha val="38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IREC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42.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2339280" y="-313560"/>
            <a:ext cx="793800" cy="4103640"/>
          </a:xfrm>
          <a:custGeom>
            <a:avLst/>
            <a:gdLst/>
            <a:ahLst/>
            <a:rect l="l" t="t" r="r" b="b"/>
            <a:pathLst>
              <a:path w="640" h="2356">
                <a:moveTo>
                  <a:pt x="0" y="0"/>
                </a:moveTo>
                <a:lnTo>
                  <a:pt x="0" y="2356"/>
                </a:lnTo>
                <a:lnTo>
                  <a:pt x="640" y="1419"/>
                </a:lnTo>
                <a:lnTo>
                  <a:pt x="640" y="9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05000" y="1386000"/>
            <a:ext cx="1095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Tahoma"/>
              </a:rPr>
              <a:t>MAR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46.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628640"/>
            <a:ext cx="17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NA DE VALOR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01400" y="2565360"/>
            <a:ext cx="25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AN ESPE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D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$224,131,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08000" y="6308640"/>
            <a:ext cx="3959280" cy="480960"/>
            <a:chOff x="108000" y="6308640"/>
            <a:chExt cx="3959280" cy="480960"/>
          </a:xfrm>
        </p:grpSpPr>
        <p:sp>
          <p:nvSpPr>
            <p:cNvPr id="461" name=""/>
            <p:cNvSpPr/>
            <p:nvPr/>
          </p:nvSpPr>
          <p:spPr>
            <a:xfrm>
              <a:off x="10800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36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728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476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8360" y="659772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8764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8440" y="633240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39640" y="476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49440" y="1370160"/>
            <a:ext cx="84596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CIÓN D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880" y="573084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0368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/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34136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7260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7080" y="56228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65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339280" y="4294080"/>
            <a:ext cx="864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>
            <a:off x="4427280" y="4797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508360" y="2494080"/>
            <a:ext cx="864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5508360" y="4365720"/>
            <a:ext cx="9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798240" y="2684520"/>
            <a:ext cx="185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neficios 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y de subcontra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53020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7120" y="5229360"/>
            <a:ext cx="210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0400" y="6211800"/>
            <a:ext cx="21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ra del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evancia de l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4960" y="105264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sificación de tecnolog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17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4360" y="20685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666699"/>
              </a:gs>
              <a:gs pos="50000">
                <a:srgbClr val="cc99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 flipV="1">
            <a:off x="2194920" y="2493720"/>
            <a:ext cx="10436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6040" y="2644920"/>
            <a:ext cx="185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mente concent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liviana 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pes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4427280" y="191556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020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D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1080" y="3260880"/>
            <a:ext cx="1469880" cy="12492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iv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8520" y="155736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71264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3835080" y="487044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6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men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676200" y="3094560"/>
            <a:ext cx="1184040" cy="1789200"/>
          </a:xfrm>
          <a:prstGeom prst="downArrowCallout">
            <a:avLst>
              <a:gd name="adj1" fmla="val 25002"/>
              <a:gd name="adj2" fmla="val 25000"/>
              <a:gd name="adj3" fmla="val 25185"/>
              <a:gd name="adj4" fmla="val 73079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674720" y="2838600"/>
            <a:ext cx="1184400" cy="2016000"/>
          </a:xfrm>
          <a:prstGeom prst="downArrowCallout">
            <a:avLst>
              <a:gd name="adj1" fmla="val 25095"/>
              <a:gd name="adj2" fmla="val 26014"/>
              <a:gd name="adj3" fmla="val 30236"/>
              <a:gd name="adj4" fmla="val 71745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197160" y="1758960"/>
            <a:ext cx="432000" cy="590400"/>
          </a:xfrm>
          <a:prstGeom prst="upArrow">
            <a:avLst>
              <a:gd name="adj1" fmla="val 54898"/>
              <a:gd name="adj2" fmla="val 7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48768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461080" y="370980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5361120"/>
            <a:ext cx="431640" cy="590400"/>
          </a:xfrm>
          <a:prstGeom prst="upArrow">
            <a:avLst>
              <a:gd name="adj1" fmla="val 54898"/>
              <a:gd name="adj2" fmla="val 797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5485680" y="3621960"/>
            <a:ext cx="442800" cy="574560"/>
          </a:xfrm>
          <a:prstGeom prst="upArrow">
            <a:avLst>
              <a:gd name="adj1" fmla="val 54898"/>
              <a:gd name="adj2" fmla="val 7569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42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349360"/>
            <a:ext cx="3384360" cy="2735280"/>
          </a:xfrm>
          <a:prstGeom prst="hexagon">
            <a:avLst>
              <a:gd name="adj" fmla="val 30932"/>
              <a:gd name="vf" fmla="val 115470"/>
            </a:avLst>
          </a:prstGeom>
          <a:gradFill rotWithShape="0">
            <a:gsLst>
              <a:gs pos="0">
                <a:srgbClr val="a2c7de"/>
              </a:gs>
              <a:gs pos="50000">
                <a:srgbClr val="eaeaea"/>
              </a:gs>
              <a:gs pos="100000">
                <a:srgbClr val="a2c7d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 Integrale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Liviana 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quinaria 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Pesada 24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5880" y="18493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609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.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50846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17733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49417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9" idx="3"/>
          </p:cNvCxnSpPr>
          <p:nvPr/>
        </p:nvCxnSpPr>
        <p:spPr>
          <a:xfrm flipH="1" flipV="1">
            <a:off x="2257200" y="2428200"/>
            <a:ext cx="659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H="1">
            <a:off x="2339640" y="4654440"/>
            <a:ext cx="5752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500720" y="5300280"/>
            <a:ext cx="216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6084720" y="2420280"/>
            <a:ext cx="50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940000" y="4652640"/>
            <a:ext cx="648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698160" y="2352600"/>
            <a:ext cx="20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erta técnico econó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a largo 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iempo 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200" y="5459400"/>
            <a:ext cx="137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l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1320" y="229068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co desarrol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9280" y="578016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rcad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8000" y="6237360"/>
            <a:ext cx="2581200" cy="504360"/>
            <a:chOff x="108000" y="6237360"/>
            <a:chExt cx="2581200" cy="504360"/>
          </a:xfrm>
        </p:grpSpPr>
        <p:sp>
          <p:nvSpPr>
            <p:cNvPr id="168" name=""/>
            <p:cNvSpPr/>
            <p:nvPr/>
          </p:nvSpPr>
          <p:spPr>
            <a:xfrm>
              <a:off x="10800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631008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72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728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4764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6237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álisis In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38440" y="655020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125360"/>
          <a:ext cx="8713800" cy="5337000"/>
        </p:xfrm>
        <a:graphic>
          <a:graphicData uri="http://schemas.openxmlformats.org/drawingml/2006/table">
            <a:tbl>
              <a:tblPr/>
              <a:tblGrid>
                <a:gridCol w="4124160"/>
                <a:gridCol w="458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Fortal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xperiencia Leasing Opera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lta concentración de clientes en min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foque en flota pesada (Maquinar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existe estrategia comercial defini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Número de licitaciones ganadas v/s cotiz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Alta capacidad econó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Área de Marketing dedicada a actividades publicitaria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hay segmentación de clientes definid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sconocimiento de la compe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Gestión de venta reactiva y no pro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jecutivos de negocio desconocen oferta que se ajuste a cada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81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5084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4600" y="1341360"/>
          <a:ext cx="8254800" cy="4751640"/>
        </p:xfrm>
        <a:graphic>
          <a:graphicData uri="http://schemas.openxmlformats.org/drawingml/2006/table">
            <a:tbl>
              <a:tblPr/>
              <a:tblGrid>
                <a:gridCol w="4056120"/>
                <a:gridCol w="4198680"/>
              </a:tblGrid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ena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Oport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ntrada de nuevos competidores que se enfoquen en el Leasing Operativo de flota pesada y maquin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mpresa y mercado en crecimiento en Ch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Utilización de TI para mejorar  proces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Sistemas de información en los vehículos para mantenimiento (GPS, otro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xploración nuevos sectores económicos (forestal, cluster salmonero, etc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94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8569080" cy="2638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1138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08000" y="6237360"/>
            <a:ext cx="3311640" cy="479520"/>
            <a:chOff x="108000" y="6237360"/>
            <a:chExt cx="3311640" cy="479520"/>
          </a:xfrm>
        </p:grpSpPr>
        <p:sp>
          <p:nvSpPr>
            <p:cNvPr id="210" name=""/>
            <p:cNvSpPr/>
            <p:nvPr/>
          </p:nvSpPr>
          <p:spPr>
            <a:xfrm>
              <a:off x="10800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36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62848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0720" y="62373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84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INDUSTRIA SALMO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160" y="17002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17002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619280" y="1557360"/>
            <a:ext cx="727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hile es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xportador mundial de salmón y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tru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 US$ 159 millones exportados en 1991 se llegó 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S$1,721 millon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el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 la última década la industria se expandió a un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asa promedio de 22%,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logrando convertirse en el cuarto sector exportador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presenta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totales del país y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6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pesqu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49764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659640" y="6381720"/>
            <a:ext cx="3538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2:18:45Z</dcterms:created>
  <dc:creator>mcarrasco</dc:creator>
  <dc:description/>
  <dc:language>en-US</dc:language>
  <cp:lastModifiedBy>Jorge Lara</cp:lastModifiedBy>
  <dcterms:modified xsi:type="dcterms:W3CDTF">2006-11-18T18:15:03Z</dcterms:modified>
  <cp:revision>59</cp:revision>
  <dc:subject/>
  <dc:title>Slide 1</dc:title>
</cp:coreProperties>
</file>