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9BE-2925-49A9-ADBF-1D2B8B96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E36-0BEB-47F4-A14C-0CA76792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A6D-B1A3-46B5-9790-D4C6AD18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8A8-335B-4EA0-B2E0-AF44E7FC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6C2-2520-4617-BDB7-6C7C06FF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074-2FB5-413D-B907-6E03AA52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B4A-EC6F-432D-B950-37D393E4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180F-EF8D-4C06-827B-FCC72418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727-BDFF-4AA8-9027-CD1ACB8F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441-3E55-4551-93D0-296CC6AC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4EC-1A92-464C-8098-7F386791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9E5B-9F8E-4300-BBA4-E3D8C4EB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30C3-29C4-4864-AC40-111E6B15D21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Acción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de Marketing</a:t>
            </a:r>
            <a:br>
              <a:rPr sz="32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so </a:t>
            </a: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ew C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4149720"/>
            <a:ext cx="3690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viana Aceve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rigo Brü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stián Oriz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stián Ro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14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Deci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413000"/>
            <a:ext cx="78487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nuevo sabor podía ser añadido en una nueva gama de productos o reemplazar totalmente a la Coca - Cola anti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771640" y="2565360"/>
            <a:ext cx="3141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Reacciones frente al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523880"/>
            <a:ext cx="82947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ferencia de prensa masiva de presentación de la New Coke dejó a periodistas poco convencidos y sus artículos fueron neg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imeros resultados esperanzadores: 150 millones de personas probaron New Coke, récord para un producto nue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imeras horas: 650 llamadas de recla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dos semanas del lanzamiento: 5000 llamadas diarias y gran cantidad de cartas de protesta. Se dispuso nuevo personal para atender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El “Pueblo” alza la voz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523880"/>
            <a:ext cx="8294760" cy="43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gún la gente Coca - Cola era un símbolo americano, y para ellos el cambio fue como si un viejo amigo les hubiese traicion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¡Qué pena tan grande siento al saber que no sólo no volveré a disfrutar de la Coca - Cola de verdad, sino que además mis hijos y mis nietos no la conocerán!..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formó la “Asociación de bebedores americanos de Coca - Cola antigua”, grupo dispuesto a denunciar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gente comenzó a acaparar Coca - Cola anti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Secuelas de la deci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523880"/>
            <a:ext cx="829476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mbotelladores pidieron el regreso de la antigua Coca - Cola debido a las bajas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sentimiento negativo se incrementaba co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úblicamente, haber tocado la fórmula original, que tenía 99 años, era un insulto al orgullo patrió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ejecutivos comenzaron a temer un boicot por parte de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Retorno en gloria y majest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413000"/>
            <a:ext cx="8223120" cy="48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tres meses del lanzamiento se decidió volver a ofrecer la Coca - Cola bajo la marca Coca - Cola Clas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enviaron 2 mensajes al consumidor americ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los que bebían New Coke y les gustaba se les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adeci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los que querían el regreso de la Coca - Cola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tigua se les dijo “hemos oido sus mensaje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ube la cotización de las acciones de la compañía a su nivel máximo en 12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¿Cuál fue el err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135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udios de Mercados defectu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649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vestigación basada en pruebas de aceptabilidad de nuevos sab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649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se consideró la lealtad del cliente hacia Coca -   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649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uestra real poco significa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649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previeron valor simbólico de la Coca – C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Lecciones que se pueden apre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últiples factores afectan decisión del consumidor, no solo el sab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mportancia de la image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mponentes psicológicos del consumidor. Simbolismo y perman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alizar en profundidad si es ventajoso cambiar algo probadamente exit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¿Qué sucedió despué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uenos resultados al trabajar con dos refrescos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pués del fiasco, ventas de la empresa aumentan 10%. En 1998 se alcanza 40% del mercado norteameric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el año ´81 se vendía sólo Coca-Cola (1.310M cajas). Al año ´86 luego de diversificar la cartera de productos se vendían 2199M cajas (60% Coke clás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El Error del siglo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Todo fue un montaje para recibir publicidad gratuita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ro ejemplo de la importancia de tener un gran pode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racias a los resultados iniciales, Coca-Cola descubrió las grandes posibilidades que existían al diversificar sus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923760"/>
            <a:ext cx="828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storia de Coca - 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tecedentes de la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cisión (Error)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cuelas de la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Cuál fue el err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cciones que se pueden ap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Que sucedió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Un poco de Histo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484280"/>
            <a:ext cx="83516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538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ventada y 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entada en 1885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ienzo de la venta en 1886, no como refresco sino como remedio para el dolor de cabez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(resa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1887 Asa Grigs Candler compra los derechos de Coca - Cola en US $2.3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>
              <a:spcBef>
                <a:spcPts val="601"/>
              </a:spcBef>
              <a:tabLst>
                <a:tab algn="l" pos="0"/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>
              <a:buClr>
                <a:srgbClr val="000000"/>
              </a:buClr>
              <a:buFont typeface="Times New Roman"/>
              <a:buChar char="-"/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Abriéndose pas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523880"/>
            <a:ext cx="836784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892 se organiza la Compañía Coca - Col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ienza el anuncio de bebida refrescant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1919 se vende la compañía a un grupo de comerciantes de Atlanta en USD 25 mill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a Segunda Guerra Mundial, Coca - Cola se distribuía para que cada soldado la obtuviera por 5 centavos, sin importar su lu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Gran competencia en la Indust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23880"/>
            <a:ext cx="829476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ños 50,60 y principios de los 70 líder del sector refrescos. Doblaban a Pep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tre 1976 y 1979 Coca - Cola baja tasas de crecimiento de 13% a 2% an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psi logra grandes triunfos: “Generación Pepsi”, “Desafío Pepsi” (Pruebas ciegas de sabo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vestigaciones de Coca - Cola obtienen resultados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Baja en la participación de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1773360"/>
          <a:ext cx="8713800" cy="2805120"/>
        </p:xfrm>
        <a:graphic>
          <a:graphicData uri="http://schemas.openxmlformats.org/drawingml/2006/table">
            <a:tbl>
              <a:tblPr/>
              <a:tblGrid>
                <a:gridCol w="1296720"/>
                <a:gridCol w="1163880"/>
                <a:gridCol w="1290600"/>
                <a:gridCol w="912960"/>
                <a:gridCol w="1271520"/>
                <a:gridCol w="1269720"/>
                <a:gridCol w="1508400"/>
              </a:tblGrid>
              <a:tr h="42696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ción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e Mercado de Coca - Cola y Pep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 Sh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. Sh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ca</a:t>
                      </a: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p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895480" y="5105520"/>
            <a:ext cx="28418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Cambio en los gu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987640" y="5430960"/>
            <a:ext cx="2770200" cy="139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116000" y="1341360"/>
          <a:ext cx="7273800" cy="3998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1341360"/>
                    <a:ext cx="727380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Antecedentes de la deci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523880"/>
            <a:ext cx="829476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asto en publicidad de Coca - Cola era de USD 100 millones más que Pep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1980 asume la presidencia Roberto Goizueta pronosticando grandes camb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comenzó a estudiar el producto en sí,  resultando evidente que el sabor era la causa más importante de la decadencia de Coca – C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Habrá que revisar la fórmula secreta original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inicia el Proyecto Kansas en 198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Proyecto Kan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523880"/>
            <a:ext cx="829476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000 entrevistas en 10 mercados diferentes: disposición del público a aceptar una Coca - Col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0% a 12% de los consumidores de Coca - Cola se sentirían molestos, la mitad de ellos superaría el trau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1984 se alcanzó el sabor ideal: una bebida de cola más dulce, menos espumo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pruebas ciegas (191.000 personas e inversión de USD 4 millones)) el nuevo sabor superó a Pepsi y a la fórmula antigua, en un 5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04:06:08Z</dcterms:created>
  <dc:creator>Sebastián</dc:creator>
  <dc:description/>
  <dc:language>en-US</dc:language>
  <cp:lastModifiedBy>Jorge Lara</cp:lastModifiedBy>
  <dcterms:modified xsi:type="dcterms:W3CDTF">2006-11-05T23:06:11Z</dcterms:modified>
  <cp:revision>29</cp:revision>
  <dc:subject/>
  <dc:title> Dirección de Marketing El Caso New Coke</dc:title>
</cp:coreProperties>
</file>