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.wmf" ContentType="image/x-wmf"/>
  <Override PartName="/ppt/media/image32.wmf" ContentType="image/x-wmf"/>
  <Override PartName="/ppt/media/image15.png" ContentType="image/png"/>
  <Override PartName="/ppt/media/image3.jpeg" ContentType="image/jpeg"/>
  <Override PartName="/ppt/media/image30.png" ContentType="image/png"/>
  <Override PartName="/ppt/media/image4.png" ContentType="image/png"/>
  <Override PartName="/ppt/media/image5.jpeg" ContentType="image/jpeg"/>
  <Override PartName="/ppt/media/image8.png" ContentType="image/png"/>
  <Override PartName="/ppt/media/image13.png" ContentType="image/png"/>
  <Override PartName="/ppt/media/image20.png" ContentType="image/png"/>
  <Override PartName="/ppt/media/image28.png" ContentType="image/png"/>
  <Override PartName="/ppt/media/image7.jpeg" ContentType="image/jpeg"/>
  <Override PartName="/ppt/media/image11.png" ContentType="image/png"/>
  <Override PartName="/ppt/media/image12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0.jpeg" ContentType="image/jpeg"/>
  <Override PartName="/ppt/media/image14.png" ContentType="image/png"/>
  <Override PartName="/ppt/media/image16.png" ContentType="image/png"/>
  <Override PartName="/ppt/media/image17.png" ContentType="image/png"/>
  <Override PartName="/ppt/media/image19.png" ContentType="image/png"/>
  <Override PartName="/ppt/media/image18.png" ContentType="image/png"/>
  <Override PartName="/ppt/media/image6.jpeg" ContentType="image/jpeg"/>
  <Override PartName="/ppt/media/image21.wmf" ContentType="image/x-wmf"/>
  <Override PartName="/ppt/media/image9.png" ContentType="image/png"/>
  <Override PartName="/ppt/media/image22.jpeg" ContentType="image/jpeg"/>
  <Override PartName="/ppt/media/image23.png" ContentType="image/png"/>
  <Override PartName="/ppt/media/image25.png" ContentType="image/png"/>
  <Override PartName="/ppt/media/image26.png" ContentType="image/png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2.xlsx" ContentType="application/vnd.openxmlformats-officedocument.spreadsheetml.shee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D0ABD-E186-47FD-9CBB-E3A00F966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87B1D-F526-4C9E-B614-DC6EAE979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6778C-F4E5-4478-B28D-315E54CAD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8F278-5A89-4F9D-8B51-CAAFED1C8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7E046-7679-44F0-8989-FE8B459DC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3EFCC-65B4-4C26-B81D-E3095A6DF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26BC6-9939-49D8-800B-2A826E154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233F3-F499-4DB0-948B-39364B380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64A50-8329-42D0-BABA-5EE16F5D7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16E0D-2CED-4BC6-9C30-17CF5A427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38E0B-C93E-4F45-ADE5-E3BA33A3F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09291-AF88-470F-89CD-7AFEF31BA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B2B36-8BC6-45A0-9B19-0DA73C4C5967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oleObject" Target="../embeddings/oleObject1.bin"/><Relationship Id="rId7" Type="http://schemas.openxmlformats.org/officeDocument/2006/relationships/hyperlink" Target="http://www.falabella.cl/" TargetMode="External"/><Relationship Id="rId8" Type="http://schemas.openxmlformats.org/officeDocument/2006/relationships/image" Target="../media/image14.png"/><Relationship Id="rId9" Type="http://schemas.openxmlformats.org/officeDocument/2006/relationships/oleObject" Target="../embeddings/oleObject2.bin"/><Relationship Id="rId10" Type="http://schemas.openxmlformats.org/officeDocument/2006/relationships/hyperlink" Target="http://www.amazon.com/" TargetMode="External"/><Relationship Id="rId11" Type="http://schemas.openxmlformats.org/officeDocument/2006/relationships/image" Target="../media/image15.png"/><Relationship Id="rId12" Type="http://schemas.openxmlformats.org/officeDocument/2006/relationships/image" Target="../media/image7.jpeg"/><Relationship Id="rId1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oleObject" Target="../embeddings/oleObject1.bin"/><Relationship Id="rId7" Type="http://schemas.openxmlformats.org/officeDocument/2006/relationships/hyperlink" Target="http://www.ge.com/en/citizenship/index_c_flash.htm" TargetMode="External"/><Relationship Id="rId8" Type="http://schemas.openxmlformats.org/officeDocument/2006/relationships/image" Target="../media/image16.png"/><Relationship Id="rId9" Type="http://schemas.openxmlformats.org/officeDocument/2006/relationships/oleObject" Target="../embeddings/oleObject2.bin"/><Relationship Id="rId10" Type="http://schemas.openxmlformats.org/officeDocument/2006/relationships/hyperlink" Target="http://www2.coca-cola.com/" TargetMode="External"/><Relationship Id="rId11" Type="http://schemas.openxmlformats.org/officeDocument/2006/relationships/image" Target="../media/image17.png"/><Relationship Id="rId12" Type="http://schemas.openxmlformats.org/officeDocument/2006/relationships/oleObject" Target="../embeddings/oleObject3.bin"/><Relationship Id="rId13" Type="http://schemas.openxmlformats.org/officeDocument/2006/relationships/image" Target="../media/image18.png"/><Relationship Id="rId14" Type="http://schemas.openxmlformats.org/officeDocument/2006/relationships/image" Target="../media/image7.jpeg"/><Relationship Id="rId15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oleObject" Target="../embeddings/oleObject1.bin"/><Relationship Id="rId7" Type="http://schemas.openxmlformats.org/officeDocument/2006/relationships/hyperlink" Target="http://www.rollingstone.com/" TargetMode="External"/><Relationship Id="rId8" Type="http://schemas.openxmlformats.org/officeDocument/2006/relationships/image" Target="../media/image19.png"/><Relationship Id="rId9" Type="http://schemas.openxmlformats.org/officeDocument/2006/relationships/oleObject" Target="../embeddings/oleObject2.bin"/><Relationship Id="rId10" Type="http://schemas.openxmlformats.org/officeDocument/2006/relationships/hyperlink" Target="http://www.mtv.com/" TargetMode="External"/><Relationship Id="rId11" Type="http://schemas.openxmlformats.org/officeDocument/2006/relationships/image" Target="../media/image20.png"/><Relationship Id="rId12" Type="http://schemas.openxmlformats.org/officeDocument/2006/relationships/image" Target="../media/image7.jpeg"/><Relationship Id="rId1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21.wmf"/><Relationship Id="rId7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21.wmf"/><Relationship Id="rId7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21.wmf"/><Relationship Id="rId7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21.wmf"/><Relationship Id="rId7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22.jpeg"/><Relationship Id="rId7" Type="http://schemas.openxmlformats.org/officeDocument/2006/relationships/image" Target="../media/image21.wmf"/><Relationship Id="rId8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21.wmf"/><Relationship Id="rId7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21.wmf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21.wmf"/><Relationship Id="rId7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21.wmf"/><Relationship Id="rId7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23.png"/><Relationship Id="rId7" Type="http://schemas.openxmlformats.org/officeDocument/2006/relationships/image" Target="../media/image24.png"/><Relationship Id="rId8" Type="http://schemas.openxmlformats.org/officeDocument/2006/relationships/image" Target="../media/image25.png"/><Relationship Id="rId9" Type="http://schemas.openxmlformats.org/officeDocument/2006/relationships/image" Target="../media/image26.png"/><Relationship Id="rId10" Type="http://schemas.openxmlformats.org/officeDocument/2006/relationships/image" Target="../media/image21.wmf"/><Relationship Id="rId1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21.wmf"/><Relationship Id="rId7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21.wmf"/><Relationship Id="rId7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21.wmf"/><Relationship Id="rId7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21.wmf"/><Relationship Id="rId7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21.wmf"/><Relationship Id="rId7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21.wmf"/><Relationship Id="rId7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21.wmf"/><Relationship Id="rId7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21.wmf"/><Relationship Id="rId7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21.wmf"/><Relationship Id="rId7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21.wmf"/><Relationship Id="rId7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27.wmf"/><Relationship Id="rId7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27.wmf"/><Relationship Id="rId7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oleObject" Target="../embeddings/oleObject1.bin"/><Relationship Id="rId7" Type="http://schemas.openxmlformats.org/officeDocument/2006/relationships/image" Target="../media/image28.png"/><Relationship Id="rId8" Type="http://schemas.openxmlformats.org/officeDocument/2006/relationships/image" Target="../media/image27.wmf"/><Relationship Id="rId9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oleObject" Target="../embeddings/oleObject1.bin"/><Relationship Id="rId7" Type="http://schemas.openxmlformats.org/officeDocument/2006/relationships/image" Target="../media/image29.png"/><Relationship Id="rId8" Type="http://schemas.openxmlformats.org/officeDocument/2006/relationships/image" Target="../media/image27.wmf"/><Relationship Id="rId9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oleObject" Target="../embeddings/oleObject1.bin"/><Relationship Id="rId7" Type="http://schemas.openxmlformats.org/officeDocument/2006/relationships/image" Target="../media/image30.png"/><Relationship Id="rId8" Type="http://schemas.openxmlformats.org/officeDocument/2006/relationships/image" Target="../media/image27.wmf"/><Relationship Id="rId9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oleObject" Target="../embeddings/oleObject1.bin"/><Relationship Id="rId7" Type="http://schemas.openxmlformats.org/officeDocument/2006/relationships/hyperlink" Target="http://www.mallplaza.cl/" TargetMode="External"/><Relationship Id="rId8" Type="http://schemas.openxmlformats.org/officeDocument/2006/relationships/image" Target="../media/image31.png"/><Relationship Id="rId9" Type="http://schemas.openxmlformats.org/officeDocument/2006/relationships/package" Target="../embeddings/oleObject2.xlsx"/><Relationship Id="rId10" Type="http://schemas.openxmlformats.org/officeDocument/2006/relationships/image" Target="../media/image32.wmf"/><Relationship Id="rId11" Type="http://schemas.openxmlformats.org/officeDocument/2006/relationships/image" Target="../media/image27.wmf"/><Relationship Id="rId12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oleObject" Target="../embeddings/oleObject1.bin"/><Relationship Id="rId7" Type="http://schemas.openxmlformats.org/officeDocument/2006/relationships/hyperlink" Target="http://www.conchaytoro.cl/home.html" TargetMode="External"/><Relationship Id="rId8" Type="http://schemas.openxmlformats.org/officeDocument/2006/relationships/image" Target="../media/image8.png"/><Relationship Id="rId9" Type="http://schemas.openxmlformats.org/officeDocument/2006/relationships/oleObject" Target="../embeddings/oleObject2.bin"/><Relationship Id="rId10" Type="http://schemas.openxmlformats.org/officeDocument/2006/relationships/hyperlink" Target="http://www.cocacola.cl/" TargetMode="External"/><Relationship Id="rId11" Type="http://schemas.openxmlformats.org/officeDocument/2006/relationships/image" Target="../media/image9.png"/><Relationship Id="rId12" Type="http://schemas.openxmlformats.org/officeDocument/2006/relationships/hyperlink" Target="http://www.apple.com/la" TargetMode="External"/><Relationship Id="rId13" Type="http://schemas.openxmlformats.org/officeDocument/2006/relationships/image" Target="../media/image10.jpeg"/><Relationship Id="rId14" Type="http://schemas.openxmlformats.org/officeDocument/2006/relationships/image" Target="../media/image7.jpeg"/><Relationship Id="rId15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oleObject" Target="../embeddings/oleObject1.bin"/><Relationship Id="rId7" Type="http://schemas.openxmlformats.org/officeDocument/2006/relationships/hyperlink" Target="http://www.elmercurio.cl/" TargetMode="External"/><Relationship Id="rId8" Type="http://schemas.openxmlformats.org/officeDocument/2006/relationships/image" Target="../media/image11.png"/><Relationship Id="rId9" Type="http://schemas.openxmlformats.org/officeDocument/2006/relationships/oleObject" Target="../embeddings/oleObject2.bin"/><Relationship Id="rId10" Type="http://schemas.openxmlformats.org/officeDocument/2006/relationships/hyperlink" Target="http://www.dhl.cl/" TargetMode="External"/><Relationship Id="rId11" Type="http://schemas.openxmlformats.org/officeDocument/2006/relationships/image" Target="../media/image12.png"/><Relationship Id="rId12" Type="http://schemas.openxmlformats.org/officeDocument/2006/relationships/oleObject" Target="../embeddings/oleObject3.bin"/><Relationship Id="rId13" Type="http://schemas.openxmlformats.org/officeDocument/2006/relationships/hyperlink" Target="http://www.tramitefacil.cl/" TargetMode="External"/><Relationship Id="rId14" Type="http://schemas.openxmlformats.org/officeDocument/2006/relationships/image" Target="../media/image13.png"/><Relationship Id="rId15" Type="http://schemas.openxmlformats.org/officeDocument/2006/relationships/image" Target="../media/image7.jpeg"/><Relationship Id="rId1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177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3600" spc="-1" strike="noStrike">
                <a:solidFill>
                  <a:srgbClr val="000000"/>
                </a:solidFill>
                <a:latin typeface="Arial"/>
              </a:rPr>
              <a:t>ACCION DE MARKETING</a:t>
            </a:r>
            <a:br>
              <a:rPr sz="3600"/>
            </a:br>
            <a:br>
              <a:rPr sz="3600"/>
            </a:br>
            <a:r>
              <a:rPr b="1" lang="es-BO" sz="3600" spc="-1" strike="noStrike">
                <a:solidFill>
                  <a:srgbClr val="000000"/>
                </a:solidFill>
                <a:latin typeface="Arial"/>
              </a:rPr>
              <a:t>“ANALISIS DE UN SITIO WEB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4076640"/>
            <a:ext cx="81374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BO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BO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BO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BO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BO" sz="1800" spc="-1" strike="noStrike">
                <a:solidFill>
                  <a:srgbClr val="000000"/>
                </a:solidFill>
                <a:latin typeface="Arial"/>
              </a:rPr>
              <a:t>María José Chun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BO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BO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BO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BO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BO" sz="1800" spc="-1" strike="noStrike">
                <a:solidFill>
                  <a:srgbClr val="000000"/>
                </a:solidFill>
                <a:latin typeface="Arial"/>
              </a:rPr>
              <a:t>Gary Condori A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BO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BO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BO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BO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BO" sz="1800" spc="-1" strike="noStrike">
                <a:solidFill>
                  <a:srgbClr val="000000"/>
                </a:solidFill>
                <a:latin typeface="Arial"/>
              </a:rPr>
              <a:t>Patricio Riquelme Carden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6588000" y="5805360"/>
            <a:ext cx="792360" cy="7923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7380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world-wide-web"/>
          <p:cNvPicPr/>
          <p:nvPr/>
        </p:nvPicPr>
        <p:blipFill>
          <a:blip r:embed="rId5"/>
          <a:stretch/>
        </p:blipFill>
        <p:spPr>
          <a:xfrm>
            <a:off x="8172360" y="5877000"/>
            <a:ext cx="792360" cy="79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26920" y="54936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2. TIPOS DE SITIOS WE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900000" y="1628640"/>
            <a:ext cx="7272360" cy="50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Sitios de comercio electrónic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Tienen como objetivo la venta de productos a través de intern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Poca importancia a la empresa, centrado en las características del produc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Características: catalogo de productos, carrito de compras y facilidad para el medio de pag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2124000" y="4724280"/>
          <a:ext cx="520920" cy="7192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18" name="" descr="">
                    <a:hlinkClick r:id="rId7"/>
                  </p:cNvPr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124000" y="4724280"/>
                    <a:ext cx="520920" cy="7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9" name=""/>
          <p:cNvGraphicFramePr/>
          <p:nvPr/>
        </p:nvGraphicFramePr>
        <p:xfrm>
          <a:off x="3995640" y="4869000"/>
          <a:ext cx="1728720" cy="3952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20" name="" descr="">
                    <a:hlinkClick r:id="rId10"/>
                  </p:cNvPr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3995640" y="4869000"/>
                    <a:ext cx="1728720" cy="3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1" name="" descr=""/>
          <p:cNvPicPr/>
          <p:nvPr/>
        </p:nvPicPr>
        <p:blipFill>
          <a:blip r:embed="rId12"/>
          <a:stretch/>
        </p:blipFill>
        <p:spPr>
          <a:xfrm>
            <a:off x="179280" y="5900760"/>
            <a:ext cx="1079640" cy="7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26920" y="54936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2. TIPOS DE SITIOS WE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900000" y="1628640"/>
            <a:ext cx="7272360" cy="382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Sitios de imagen corporativ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Dedicados al reforzamiento de la marc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Posicionar marca y llegar con un mensaje al consumid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3924360" y="4005360"/>
          <a:ext cx="758880" cy="12254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>
                    <a:hlinkClick r:id="rId7"/>
                  </p:cNvPr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924360" y="4005360"/>
                    <a:ext cx="758880" cy="122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5580000" y="4437000"/>
          <a:ext cx="3086280" cy="5907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31" name="" descr="">
                    <a:hlinkClick r:id="rId10"/>
                  </p:cNvPr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5580000" y="4437000"/>
                    <a:ext cx="3086280" cy="59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476360" y="4005360"/>
          <a:ext cx="920880" cy="93492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476360" y="4005360"/>
                    <a:ext cx="920880" cy="93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4" name="" descr=""/>
          <p:cNvPicPr/>
          <p:nvPr/>
        </p:nvPicPr>
        <p:blipFill>
          <a:blip r:embed="rId14"/>
          <a:stretch/>
        </p:blipFill>
        <p:spPr>
          <a:xfrm>
            <a:off x="179280" y="5900760"/>
            <a:ext cx="1079640" cy="7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26920" y="54936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2. TIPOS DE SITIOS WE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900000" y="1628640"/>
            <a:ext cx="727236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Sitios de entretenimien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Sitios con el proposito de entregar entretenimiento a sus visitan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1187280" y="3573360"/>
          <a:ext cx="2519640" cy="700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42" name="" descr="">
                    <a:hlinkClick r:id="rId7"/>
                  </p:cNvPr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187280" y="3573360"/>
                    <a:ext cx="2519640" cy="7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3" name=""/>
          <p:cNvGraphicFramePr/>
          <p:nvPr/>
        </p:nvGraphicFramePr>
        <p:xfrm>
          <a:off x="5724360" y="3716280"/>
          <a:ext cx="1368720" cy="9702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44" name="" descr="">
                    <a:hlinkClick r:id="rId10"/>
                  </p:cNvPr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5724360" y="3716280"/>
                    <a:ext cx="1368720" cy="97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5" name="" descr=""/>
          <p:cNvPicPr/>
          <p:nvPr/>
        </p:nvPicPr>
        <p:blipFill>
          <a:blip r:embed="rId12"/>
          <a:stretch/>
        </p:blipFill>
        <p:spPr>
          <a:xfrm>
            <a:off x="179280" y="5900760"/>
            <a:ext cx="1079640" cy="7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26920" y="54936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3. EVALUACIÓN DE UN SITIO WE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900000" y="1628640"/>
            <a:ext cx="7775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6"/>
          <a:stretch/>
        </p:blipFill>
        <p:spPr>
          <a:xfrm>
            <a:off x="2987640" y="1916280"/>
            <a:ext cx="3024360" cy="27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71640" y="33336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3. EVALUACIÓN DE UN SITIO WE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900000" y="1628640"/>
            <a:ext cx="7775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042920" y="1484280"/>
            <a:ext cx="741672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La evaluación de un sitio web se hace mediante diferentes anális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Análisis de confiabilida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Análisis de usabilida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Análisis de Accesibilida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Análisis de Contenid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Análisis de diseñ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6"/>
          <a:stretch/>
        </p:blipFill>
        <p:spPr>
          <a:xfrm>
            <a:off x="179280" y="5877000"/>
            <a:ext cx="86364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26920" y="476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Análisis de confiabi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900000" y="1628640"/>
            <a:ext cx="7775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900000" y="1197000"/>
            <a:ext cx="7417080" cy="46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Se realiza para verificar la veracidad y relevancia de los datos contenidos en un sitio we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El análisis se hace con el método de las 5 Ws que se refiere a preguntas acerca del siti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¿Quién es responsable de esta página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¿Qué tipo de página es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¿Cuándo el sitio fue creado / actualizado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¿Dónde puedes encontrar más información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¿Por qué este sitio fue creado?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6"/>
          <a:stretch/>
        </p:blipFill>
        <p:spPr>
          <a:xfrm>
            <a:off x="179280" y="5877000"/>
            <a:ext cx="86364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26920" y="476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Análisis de confiabi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900000" y="1628640"/>
            <a:ext cx="7775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900000" y="1197000"/>
            <a:ext cx="7417080" cy="46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Se realiza para verificar la veracidad y relevancia de los datos contenidos en un sitio we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El análisis se hace con el método de las 5 Ws que se refiere a preguntas acerca del siti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¿Quién es responsable de esta página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¿Qué tipo de página es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¿Cuándo el sitio fue creado / actualizado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¿Dónde puedes encontrar más información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¿Por qué este sitio fue creado?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6"/>
          <a:stretch/>
        </p:blipFill>
        <p:spPr>
          <a:xfrm>
            <a:off x="179280" y="5877000"/>
            <a:ext cx="86364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26920" y="476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Análisis de usabi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900000" y="1628640"/>
            <a:ext cx="7775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900000" y="1197000"/>
            <a:ext cx="7417080" cy="29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La usabilidad es la forma de diseñar un sitio web, con el fin de que  los usuarios puedan interactuar de la manera más fácil, comoda e intuitiv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El desarrollo y diseño  de un sitio web debe estar centrado en el usuario o clien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6"/>
          <a:stretch/>
        </p:blipFill>
        <p:spPr>
          <a:xfrm>
            <a:off x="2268360" y="4005360"/>
            <a:ext cx="4019760" cy="147636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7"/>
          <a:stretch/>
        </p:blipFill>
        <p:spPr>
          <a:xfrm>
            <a:off x="179280" y="5877000"/>
            <a:ext cx="86364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26920" y="476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Análisis de usabi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900000" y="1628640"/>
            <a:ext cx="7775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900000" y="1700280"/>
            <a:ext cx="7417080" cy="43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Un sitio web será “usable” si es que permite al usuario centrarse en su tarea y no en como funciona el sitio we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La evaluación de la usabilidad de un sitio web, se hace de acuerdo a una serie de criterios, que están agrupados en categorí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6"/>
          <a:stretch/>
        </p:blipFill>
        <p:spPr>
          <a:xfrm>
            <a:off x="179280" y="5877000"/>
            <a:ext cx="86364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26920" y="476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Análisis de usabi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900000" y="1628640"/>
            <a:ext cx="7775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900000" y="1700280"/>
            <a:ext cx="7417080" cy="433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ASPECTOS GENERA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Cuales son los objetivos del siti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Definir una URL clara y definida al igual que sus subdomini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Diseño del sitio orientado al clien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Tiempo de actualización del siti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Consistencia entre su apariencia y funcionamien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6"/>
          <a:stretch/>
        </p:blipFill>
        <p:spPr>
          <a:xfrm>
            <a:off x="179280" y="5877000"/>
            <a:ext cx="86364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36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4076640"/>
            <a:ext cx="813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BO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BO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BO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BO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863640" cy="8064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7308720" y="5805360"/>
            <a:ext cx="790560" cy="7905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501480" y="1844640"/>
            <a:ext cx="8642520" cy="26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200" spc="-1" strike="noStrike">
                <a:solidFill>
                  <a:srgbClr val="000000"/>
                </a:solidFill>
                <a:latin typeface="Arial"/>
              </a:rPr>
              <a:t>DEFINICION DE UN SITIO WE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200" spc="-1" strike="noStrike">
                <a:solidFill>
                  <a:srgbClr val="000000"/>
                </a:solidFill>
                <a:latin typeface="Arial"/>
              </a:rPr>
              <a:t>TIPOS DE SITIO WE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200" spc="-1" strike="noStrike">
                <a:solidFill>
                  <a:srgbClr val="000000"/>
                </a:solidFill>
                <a:latin typeface="Arial"/>
              </a:rPr>
              <a:t>ANALISIS DE UN SITIO  WEB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200" spc="-1" strike="noStrike">
                <a:solidFill>
                  <a:srgbClr val="000000"/>
                </a:solidFill>
                <a:latin typeface="Arial"/>
              </a:rPr>
              <a:t>ANALISIS PRACTICO DE UN SITIO WE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200" spc="-1" strike="noStrike">
                <a:solidFill>
                  <a:srgbClr val="000000"/>
                </a:solidFill>
                <a:latin typeface="Arial"/>
              </a:rPr>
              <a:t>CONCLUSIONES</a:t>
            </a:r>
            <a:r>
              <a:rPr b="1" lang="es-E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26920" y="476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Análisis de usabi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900000" y="1628640"/>
            <a:ext cx="7775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900000" y="1700280"/>
            <a:ext cx="7417080" cy="55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Identidad (Branding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Mostrar la naturaleza o identidad del negocio en la página de bienvenida (homepag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Elementos de la marca (logo) o de imagen corporativa en todas las págin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La marca tiene un lugar importante en el diseño de la we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6"/>
          <a:stretch/>
        </p:blipFill>
        <p:spPr>
          <a:xfrm>
            <a:off x="179280" y="5877000"/>
            <a:ext cx="86364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26920" y="476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Análisis de usabi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900000" y="1628640"/>
            <a:ext cx="7775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900000" y="1700280"/>
            <a:ext cx="7417080" cy="433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Lenguaje y redacció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El sitio web tiene que estar escrito en un lenguaje conocido por la mayoría de los usuari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Ofrecer versiones en diferentes idiom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Lenguaje claro, conciso, am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6"/>
          <a:stretch/>
        </p:blipFill>
        <p:spPr>
          <a:xfrm>
            <a:off x="179280" y="5877000"/>
            <a:ext cx="86364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26920" y="33336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Análisis de usabi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900000" y="1628640"/>
            <a:ext cx="7775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900000" y="1484280"/>
            <a:ext cx="7417080" cy="68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Estructura y navegació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Tipo de estructur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BO" sz="1800" spc="-1" strike="noStrike">
                <a:solidFill>
                  <a:srgbClr val="000000"/>
                </a:solidFill>
                <a:latin typeface="Arial"/>
              </a:rPr>
              <a:t>Árbol                     Lista                            Mixta                        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Regla de oro </a:t>
            </a:r>
            <a:r>
              <a:rPr b="0" i="1" lang="es-BO" sz="2200" spc="-1" strike="noStrike">
                <a:solidFill>
                  <a:srgbClr val="000000"/>
                </a:solidFill>
                <a:latin typeface="Arial"/>
              </a:rPr>
              <a:t>“Usuario debe llegar con 4 clics a lo que busca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6"/>
          <a:stretch/>
        </p:blipFill>
        <p:spPr>
          <a:xfrm>
            <a:off x="1042920" y="2852640"/>
            <a:ext cx="1076400" cy="119088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7"/>
          <a:stretch/>
        </p:blipFill>
        <p:spPr>
          <a:xfrm>
            <a:off x="2700360" y="3213000"/>
            <a:ext cx="1828800" cy="45720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8"/>
          <a:stretch/>
        </p:blipFill>
        <p:spPr>
          <a:xfrm>
            <a:off x="5219640" y="2708280"/>
            <a:ext cx="1343160" cy="114300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9"/>
          <a:stretch/>
        </p:blipFill>
        <p:spPr>
          <a:xfrm>
            <a:off x="7164360" y="2637000"/>
            <a:ext cx="1400040" cy="114300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10"/>
          <a:stretch/>
        </p:blipFill>
        <p:spPr>
          <a:xfrm>
            <a:off x="179280" y="5877000"/>
            <a:ext cx="86364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26920" y="476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Análisis de usabi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900000" y="1628640"/>
            <a:ext cx="7775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900000" y="1700280"/>
            <a:ext cx="7417080" cy="517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Estructura y navegació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Recomendable tener un mapa del siti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Evitar los enlaces rot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Elementos que indiquen al usuario donde esta y como volver atrá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Evitar menús con muchos elementos (sobrecarga memorística, regla es 7+/- 2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6"/>
          <a:stretch/>
        </p:blipFill>
        <p:spPr>
          <a:xfrm>
            <a:off x="179280" y="5877000"/>
            <a:ext cx="86364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26920" y="476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Análisis de usabi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900000" y="1628640"/>
            <a:ext cx="7775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900000" y="1700280"/>
            <a:ext cx="7417080" cy="56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Control y retroalimentació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Tratar de que el usuario tenga el control del siti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Informar de que esta pasando o ya pas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Preveer sistemas de respuesta en caso de interacción con el usuario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Controlar tiempo de respuesta (max 10 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Posibilidad de que el usuario se ponga en contacto para sugerencias o reclam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6"/>
          <a:stretch/>
        </p:blipFill>
        <p:spPr>
          <a:xfrm>
            <a:off x="179280" y="5877000"/>
            <a:ext cx="86364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26920" y="476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álisis de accesibi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900000" y="1628640"/>
            <a:ext cx="7775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900000" y="1197000"/>
            <a:ext cx="7417080" cy="41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ar tecnologías o formatos escasamente populares aumentan las barreras de entrada y provoca que su sitio Web sea escasamente accesible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6"/>
          <a:stretch/>
        </p:blipFill>
        <p:spPr>
          <a:xfrm>
            <a:off x="179280" y="5877000"/>
            <a:ext cx="86364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26920" y="476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álisis de accesibi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900000" y="1628640"/>
            <a:ext cx="7775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900000" y="1197000"/>
            <a:ext cx="741708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¿Cómo ser accesibles para los usuarios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ar siempre estándares de publicació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itar formatos propietari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 usar características especificas de un navegador o plataform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sultar estadísticas de penetració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 creer que con invitaciones a utilizar determinado software se lograra el objetiv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6"/>
          <a:stretch/>
        </p:blipFill>
        <p:spPr>
          <a:xfrm>
            <a:off x="179280" y="5877000"/>
            <a:ext cx="86364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26920" y="476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álisis de accesibi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/>
          <p:nvPr/>
        </p:nvSpPr>
        <p:spPr>
          <a:xfrm>
            <a:off x="900000" y="1628640"/>
            <a:ext cx="7775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900000" y="1197000"/>
            <a:ext cx="7417080" cy="433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neficios de tener una política correcta de accesibilidad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umenta nuestra audiencia potenci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ximiza el tiempo de estancia de nuestros visitante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mplifica la gestión y la mantencion del sitio We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umenta el tiempo de vida del sitio Web y por tanto en dinero, recursos y tiemp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6"/>
          <a:stretch/>
        </p:blipFill>
        <p:spPr>
          <a:xfrm>
            <a:off x="179280" y="5877000"/>
            <a:ext cx="86364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26920" y="476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álisis de los conteni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900000" y="1628640"/>
            <a:ext cx="7775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900000" y="1197000"/>
            <a:ext cx="7417080" cy="60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El contenido debe ser coherente con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Objetivos del siti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Características de los visitan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Calidad de redacció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Ortografí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Puntuació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Estil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Traducció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6"/>
          <a:stretch/>
        </p:blipFill>
        <p:spPr>
          <a:xfrm>
            <a:off x="179280" y="5877000"/>
            <a:ext cx="86364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26920" y="476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álisis de los conteni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280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281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/>
          <p:nvPr/>
        </p:nvSpPr>
        <p:spPr>
          <a:xfrm>
            <a:off x="900000" y="1628640"/>
            <a:ext cx="7775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900000" y="692280"/>
            <a:ext cx="7417080" cy="49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dacción corta y precisa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da página, un objetiv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da párrafo, una ide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stema de Rotulado estánd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formación detallada y organizad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6"/>
          <a:stretch/>
        </p:blipFill>
        <p:spPr>
          <a:xfrm>
            <a:off x="179280" y="5877000"/>
            <a:ext cx="86364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55640" y="692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es-BO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DEFINICION DE UN SITIO WE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6"/>
          <a:stretch/>
        </p:blipFill>
        <p:spPr>
          <a:xfrm>
            <a:off x="2620800" y="2128680"/>
            <a:ext cx="3902400" cy="26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26920" y="476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álisis de los conteni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288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290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/>
          <p:nvPr/>
        </p:nvSpPr>
        <p:spPr>
          <a:xfrm>
            <a:off x="900000" y="1628640"/>
            <a:ext cx="7775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900000" y="692280"/>
            <a:ext cx="7417080" cy="39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rvicios de valor añadido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pa del siti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tor de búsqueda intern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uente de información detallad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6"/>
          <a:stretch/>
        </p:blipFill>
        <p:spPr>
          <a:xfrm>
            <a:off x="179280" y="5877000"/>
            <a:ext cx="86364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26920" y="476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Análisis del diseñ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298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299" name=""/>
          <p:cNvSpPr/>
          <p:nvPr/>
        </p:nvSpPr>
        <p:spPr>
          <a:xfrm>
            <a:off x="900000" y="1628640"/>
            <a:ext cx="7775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900000" y="1700280"/>
            <a:ext cx="741708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Disposición de los elemento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Aprovechar zonas de alta jerarquía para información importan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Interfaz limpia sin ruido visual, colocar zonas en “blanco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Controlar la longitud de la págin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Máximo 3 colo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" descr=""/>
          <p:cNvPicPr/>
          <p:nvPr/>
        </p:nvPicPr>
        <p:blipFill>
          <a:blip r:embed="rId6"/>
          <a:stretch/>
        </p:blipFill>
        <p:spPr>
          <a:xfrm>
            <a:off x="179280" y="5877000"/>
            <a:ext cx="86364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826920" y="33336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Análisis del diseñ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306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307" name=""/>
          <p:cNvSpPr/>
          <p:nvPr/>
        </p:nvSpPr>
        <p:spPr>
          <a:xfrm>
            <a:off x="900000" y="1628640"/>
            <a:ext cx="7775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900000" y="1484280"/>
            <a:ext cx="7417080" cy="39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Banners y publicidad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Optimizar el tamaño de los bann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Ubicación de los bann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Multimed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Optimizar las imágenes para reducir su tamañ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Descripción de las imágen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Usar animación en flash sólo si es necesari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Evitar las animaciones cíclic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6"/>
          <a:stretch/>
        </p:blipFill>
        <p:spPr>
          <a:xfrm>
            <a:off x="179280" y="5877000"/>
            <a:ext cx="86364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26920" y="33336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4. Análisis práctico de un sitio we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312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313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314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900000" y="1628640"/>
            <a:ext cx="7775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" descr=""/>
          <p:cNvPicPr/>
          <p:nvPr/>
        </p:nvPicPr>
        <p:blipFill>
          <a:blip r:embed="rId6"/>
          <a:stretch/>
        </p:blipFill>
        <p:spPr>
          <a:xfrm>
            <a:off x="3203640" y="1916280"/>
            <a:ext cx="3168720" cy="29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26920" y="33336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4. Análisis práctico de un sitio we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319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320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321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900000" y="1628640"/>
            <a:ext cx="7775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900000" y="2205000"/>
            <a:ext cx="7417080" cy="24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Para analizar un sitio web, se utiliza una encuest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Las preguntas están en función de las 5 dimensiones que se tomaron en cuenta en el anális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Las preguntas son un resumen de las que consideramos las más importantes (para acortar la encuest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6"/>
          <a:stretch/>
        </p:blipFill>
        <p:spPr>
          <a:xfrm>
            <a:off x="179280" y="5950080"/>
            <a:ext cx="792360" cy="73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755640" y="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Análisis práctico de un sitio we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327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328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329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900000" y="1628640"/>
            <a:ext cx="7775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1" name=""/>
          <p:cNvGraphicFramePr/>
          <p:nvPr/>
        </p:nvGraphicFramePr>
        <p:xfrm>
          <a:off x="324000" y="1268280"/>
          <a:ext cx="8496000" cy="44848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32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24000" y="1268280"/>
                    <a:ext cx="8496000" cy="448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33" name="" descr=""/>
          <p:cNvPicPr/>
          <p:nvPr/>
        </p:nvPicPr>
        <p:blipFill>
          <a:blip r:embed="rId8"/>
          <a:stretch/>
        </p:blipFill>
        <p:spPr>
          <a:xfrm>
            <a:off x="179280" y="5950080"/>
            <a:ext cx="792360" cy="73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26920" y="33336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Análisis práctico de un sitio we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336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337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900000" y="1628640"/>
            <a:ext cx="7775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395280" y="1557360"/>
          <a:ext cx="8424720" cy="37180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41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95280" y="1557360"/>
                    <a:ext cx="8424720" cy="371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42" name="" descr=""/>
          <p:cNvPicPr/>
          <p:nvPr/>
        </p:nvPicPr>
        <p:blipFill>
          <a:blip r:embed="rId8"/>
          <a:stretch/>
        </p:blipFill>
        <p:spPr>
          <a:xfrm>
            <a:off x="179280" y="5950080"/>
            <a:ext cx="792360" cy="73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826920" y="33336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Análisis práctico de un sitio we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345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346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347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348" name=""/>
          <p:cNvSpPr/>
          <p:nvPr/>
        </p:nvSpPr>
        <p:spPr>
          <a:xfrm>
            <a:off x="900000" y="1628640"/>
            <a:ext cx="7775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468360" y="1413000"/>
          <a:ext cx="8351640" cy="37558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68360" y="1413000"/>
                    <a:ext cx="8351640" cy="375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51" name="" descr=""/>
          <p:cNvPicPr/>
          <p:nvPr/>
        </p:nvPicPr>
        <p:blipFill>
          <a:blip r:embed="rId8"/>
          <a:stretch/>
        </p:blipFill>
        <p:spPr>
          <a:xfrm>
            <a:off x="179280" y="5950080"/>
            <a:ext cx="792360" cy="73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826920" y="33336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Análisis práctico de un sitio we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3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354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355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356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357" name=""/>
          <p:cNvSpPr/>
          <p:nvPr/>
        </p:nvSpPr>
        <p:spPr>
          <a:xfrm>
            <a:off x="900000" y="1628640"/>
            <a:ext cx="7775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1042920" y="1844640"/>
            <a:ext cx="6913800" cy="279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El sitio web que se analizará es 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37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www.mallplaza.c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3924360" y="3141720"/>
          <a:ext cx="1657440" cy="6444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60" name="" descr="">
                    <a:hlinkClick r:id="rId7"/>
                  </p:cNvPr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924360" y="3141720"/>
                    <a:ext cx="1657440" cy="64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3419640" y="4221000"/>
          <a:ext cx="2736720" cy="36216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419640" y="4221000"/>
                    <a:ext cx="2736720" cy="3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63" name="" descr=""/>
          <p:cNvPicPr/>
          <p:nvPr/>
        </p:nvPicPr>
        <p:blipFill>
          <a:blip r:embed="rId11"/>
          <a:stretch/>
        </p:blipFill>
        <p:spPr>
          <a:xfrm>
            <a:off x="179280" y="5950080"/>
            <a:ext cx="792360" cy="73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826920" y="33336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Conclus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5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366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368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369" name=""/>
          <p:cNvSpPr/>
          <p:nvPr/>
        </p:nvSpPr>
        <p:spPr>
          <a:xfrm>
            <a:off x="900000" y="1628640"/>
            <a:ext cx="7775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1042920" y="1413000"/>
            <a:ext cx="7561440" cy="380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no existe una metodología estándar para evaluar un sitio we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La calidad de un sitio están en función del evaluador y de su experienc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El análisis con las 5 dimensiones, trata de hacer un resumen de los diferentes métod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Lo más importante es la parte de contenid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El sitio web debe estar alineado con la estrategia de la empres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55640" y="76500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es-BO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DEFINICION DE UN SITIO WE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684360" y="2205000"/>
            <a:ext cx="8064360" cy="31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Una página web es un documento que se encuentra en la World Wide We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Contiene información (texto, imágenes y enlaces a otras página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6"/>
          <a:stretch/>
        </p:blipFill>
        <p:spPr>
          <a:xfrm>
            <a:off x="179280" y="5661000"/>
            <a:ext cx="151308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55640" y="76500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es-BO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DEFINICION DE UN SITIO WE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755640" y="1989000"/>
            <a:ext cx="8064360" cy="21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Un sitio web es un conjunto de páginas web que estan interrelacionad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Un sitio web esta asociado a un dominio o subdominio  de internet y a una UR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6"/>
          <a:stretch/>
        </p:blipFill>
        <p:spPr>
          <a:xfrm>
            <a:off x="179280" y="5661000"/>
            <a:ext cx="151308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26920" y="691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2. TIPOS DE SITIOS WE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6443640" y="5805360"/>
            <a:ext cx="792360" cy="79236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4"/>
          <a:stretch/>
        </p:blipFill>
        <p:spPr>
          <a:xfrm>
            <a:off x="7308720" y="5877000"/>
            <a:ext cx="790560" cy="7905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world-wide-web"/>
          <p:cNvPicPr/>
          <p:nvPr/>
        </p:nvPicPr>
        <p:blipFill>
          <a:blip r:embed="rId5"/>
          <a:stretch/>
        </p:blipFill>
        <p:spPr>
          <a:xfrm>
            <a:off x="8101080" y="587844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6"/>
          <a:stretch/>
        </p:blipFill>
        <p:spPr>
          <a:xfrm>
            <a:off x="2556000" y="2060640"/>
            <a:ext cx="4248000" cy="28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26920" y="691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2. TIPOS DE SITIOS WE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6443640" y="5805360"/>
            <a:ext cx="792360" cy="79236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7308720" y="5877000"/>
            <a:ext cx="790560" cy="79056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world-wide-web"/>
          <p:cNvPicPr/>
          <p:nvPr/>
        </p:nvPicPr>
        <p:blipFill>
          <a:blip r:embed="rId5"/>
          <a:stretch/>
        </p:blipFill>
        <p:spPr>
          <a:xfrm>
            <a:off x="8101080" y="5878440"/>
            <a:ext cx="792000" cy="7923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611280" y="2205000"/>
            <a:ext cx="7632720" cy="24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Existen 5 diferentes  tipos o géneros de sitios we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Cada tipo de sitio esta especializado en un uso particular y contenid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El definir el genero de un sitio web esta en función de las aspiraciones de una empresa, que pueden ir desde sólo tener presencia en internet hasta el e-commer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26920" y="54936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2. TIPOS DE SITIOS WE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900000" y="1557360"/>
            <a:ext cx="7775640" cy="348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Sitio de negoci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Tiene como objetivo el dar a conocer a la empres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Promover sus productos y servici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Orientados a la mercadotecn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Entregar información relevante de la empres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1116000" y="4437000"/>
          <a:ext cx="2592360" cy="5605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93" name="" descr="">
                    <a:hlinkClick r:id="rId7"/>
                  </p:cNvPr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116000" y="4437000"/>
                    <a:ext cx="25923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4" name=""/>
          <p:cNvGraphicFramePr/>
          <p:nvPr/>
        </p:nvGraphicFramePr>
        <p:xfrm>
          <a:off x="5940360" y="4221000"/>
          <a:ext cx="2476440" cy="8384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95" name="" descr="">
                    <a:hlinkClick r:id="rId10"/>
                  </p:cNvPr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5940360" y="4221000"/>
                    <a:ext cx="2476440" cy="8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6" name="" descr="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4427640" y="4292640"/>
            <a:ext cx="792000" cy="7920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14"/>
          <a:stretch/>
        </p:blipFill>
        <p:spPr>
          <a:xfrm>
            <a:off x="179280" y="5900760"/>
            <a:ext cx="1079640" cy="7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26920" y="54936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2. TIPOS DE SITIOS WE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1042920" y="1557360"/>
            <a:ext cx="7272360" cy="41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Sitios de servici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Tienen como fin ofrecer un servicio a sus clientes, proveedores y socios comercia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Consultas a bases de datos, seguimiento, noticias, información financier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Entrega servicios complementari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1258920" y="4869000"/>
          <a:ext cx="2592360" cy="2714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05" name="" descr="">
                    <a:hlinkClick r:id="rId7"/>
                  </p:cNvPr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258920" y="4869000"/>
                    <a:ext cx="2592360" cy="27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" name=""/>
          <p:cNvGraphicFramePr/>
          <p:nvPr/>
        </p:nvGraphicFramePr>
        <p:xfrm>
          <a:off x="4067280" y="4797360"/>
          <a:ext cx="1400040" cy="4096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07" name="" descr="">
                    <a:hlinkClick r:id="rId10"/>
                  </p:cNvPr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067280" y="4797360"/>
                    <a:ext cx="1400040" cy="4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8" name=""/>
          <p:cNvGraphicFramePr/>
          <p:nvPr/>
        </p:nvGraphicFramePr>
        <p:xfrm>
          <a:off x="6227640" y="4437000"/>
          <a:ext cx="2376720" cy="83844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09" name="" descr="">
                    <a:hlinkClick r:id="rId13"/>
                  </p:cNvPr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227640" y="4437000"/>
                    <a:ext cx="2376720" cy="8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0" name="" descr=""/>
          <p:cNvPicPr/>
          <p:nvPr/>
        </p:nvPicPr>
        <p:blipFill>
          <a:blip r:embed="rId15"/>
          <a:stretch/>
        </p:blipFill>
        <p:spPr>
          <a:xfrm>
            <a:off x="179280" y="5900760"/>
            <a:ext cx="1079640" cy="7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2T02:16:34Z</dcterms:created>
  <dc:creator>Gary Condori Arce</dc:creator>
  <dc:description/>
  <dc:language>en-US</dc:language>
  <cp:lastModifiedBy>Jorge Lara</cp:lastModifiedBy>
  <dcterms:modified xsi:type="dcterms:W3CDTF">2006-11-03T19:19:38Z</dcterms:modified>
  <cp:revision>15</cp:revision>
  <dc:subject/>
  <dc:title>ACCION DE MARKETING  “ANALISIS DE UN SITIO WEB”</dc:title>
</cp:coreProperties>
</file>